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520" y="174600"/>
            <a:ext cx="8915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2520" y="174600"/>
            <a:ext cx="8915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2520" y="174600"/>
            <a:ext cx="8915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2520" y="174600"/>
            <a:ext cx="8915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520" y="174600"/>
            <a:ext cx="8915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520" y="174600"/>
            <a:ext cx="8915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2520" y="174600"/>
            <a:ext cx="8915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2520" y="188640"/>
            <a:ext cx="891540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520" y="174600"/>
            <a:ext cx="8915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520" y="174600"/>
            <a:ext cx="8915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520" y="174600"/>
            <a:ext cx="8915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333399"/>
              </a:solidFill>
              <a:latin typeface="メイリオ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1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00160" y="692280"/>
            <a:ext cx="9505800" cy="5905440"/>
          </a:xfrm>
          <a:prstGeom prst="roundRect">
            <a:avLst>
              <a:gd name="adj" fmla="val 1968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344520" y="836640"/>
          <a:ext cx="9201240" cy="5616720"/>
        </p:xfrm>
        <a:graphic>
          <a:graphicData uri="http://schemas.openxmlformats.org/drawingml/2006/table">
            <a:tbl>
              <a:tblPr/>
              <a:tblGrid>
                <a:gridCol w="766800"/>
                <a:gridCol w="766800"/>
                <a:gridCol w="766800"/>
                <a:gridCol w="766440"/>
                <a:gridCol w="766800"/>
                <a:gridCol w="766800"/>
                <a:gridCol w="766800"/>
                <a:gridCol w="766800"/>
                <a:gridCol w="766800"/>
                <a:gridCol w="766800"/>
                <a:gridCol w="766800"/>
                <a:gridCol w="766800"/>
              </a:tblGrid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1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2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</a:tr>
              <a:tr h="52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メイリオ"/>
              </a:rPr>
              <a:t>スケジュールタイトル</a:t>
            </a:r>
            <a:endParaRPr b="1" lang="en-US" sz="20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43" name=""/>
          <p:cNvSpPr/>
          <p:nvPr/>
        </p:nvSpPr>
        <p:spPr>
          <a:xfrm>
            <a:off x="1136520" y="692280"/>
            <a:ext cx="7192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048520" y="692280"/>
            <a:ext cx="7192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11</a:t>
            </a:r>
            <a:r>
              <a:rPr b="1" lang="zh-CN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00160" y="692280"/>
            <a:ext cx="9505800" cy="5905440"/>
          </a:xfrm>
          <a:prstGeom prst="roundRect">
            <a:avLst>
              <a:gd name="adj" fmla="val 1968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44520" y="836640"/>
          <a:ext cx="9217080" cy="5616720"/>
        </p:xfrm>
        <a:graphic>
          <a:graphicData uri="http://schemas.openxmlformats.org/drawingml/2006/table">
            <a:tbl>
              <a:tblPr/>
              <a:tblGrid>
                <a:gridCol w="1665360"/>
                <a:gridCol w="1258920"/>
                <a:gridCol w="1258920"/>
                <a:gridCol w="1257120"/>
                <a:gridCol w="1258920"/>
                <a:gridCol w="1258920"/>
                <a:gridCol w="1258920"/>
              </a:tblGrid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</a:tr>
              <a:tr h="174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33"/>
                        </a:gs>
                        <a:gs pos="100000">
                          <a:srgbClr val="175e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74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33"/>
                        </a:gs>
                        <a:gs pos="100000">
                          <a:srgbClr val="175e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74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33"/>
                        </a:gs>
                        <a:gs pos="100000">
                          <a:srgbClr val="175e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メイリオ"/>
              </a:rPr>
              <a:t>スケジュールタイトル</a:t>
            </a:r>
            <a:endParaRPr b="1" lang="en-US" sz="20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80" name=""/>
          <p:cNvSpPr/>
          <p:nvPr/>
        </p:nvSpPr>
        <p:spPr>
          <a:xfrm>
            <a:off x="8337600" y="692280"/>
            <a:ext cx="12240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00160" y="692280"/>
            <a:ext cx="9505800" cy="5905440"/>
          </a:xfrm>
          <a:prstGeom prst="roundRect">
            <a:avLst>
              <a:gd name="adj" fmla="val 1968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44520" y="836640"/>
          <a:ext cx="9217080" cy="5532480"/>
        </p:xfrm>
        <a:graphic>
          <a:graphicData uri="http://schemas.openxmlformats.org/drawingml/2006/table">
            <a:tbl>
              <a:tblPr/>
              <a:tblGrid>
                <a:gridCol w="1703520"/>
                <a:gridCol w="241200"/>
                <a:gridCol w="243000"/>
                <a:gridCol w="242640"/>
                <a:gridCol w="241200"/>
                <a:gridCol w="243000"/>
                <a:gridCol w="243000"/>
                <a:gridCol w="243000"/>
                <a:gridCol w="241200"/>
                <a:gridCol w="243000"/>
                <a:gridCol w="242640"/>
                <a:gridCol w="241200"/>
                <a:gridCol w="243000"/>
                <a:gridCol w="243000"/>
                <a:gridCol w="241200"/>
                <a:gridCol w="243000"/>
                <a:gridCol w="242640"/>
                <a:gridCol w="241560"/>
                <a:gridCol w="242640"/>
                <a:gridCol w="243000"/>
                <a:gridCol w="241200"/>
                <a:gridCol w="243000"/>
                <a:gridCol w="243000"/>
                <a:gridCol w="242640"/>
                <a:gridCol w="241560"/>
                <a:gridCol w="242640"/>
                <a:gridCol w="243000"/>
                <a:gridCol w="241200"/>
                <a:gridCol w="243000"/>
                <a:gridCol w="243000"/>
                <a:gridCol w="241200"/>
                <a:gridCol w="243000"/>
              </a:tblGrid>
              <a:tr h="288720"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</a:tr>
              <a:tr h="1748160"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00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47800"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00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47800"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00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メイリオ"/>
              </a:rPr>
              <a:t>スケジュールタイトル</a:t>
            </a:r>
            <a:endParaRPr b="1" lang="en-US" sz="20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84" name=""/>
          <p:cNvSpPr/>
          <p:nvPr/>
        </p:nvSpPr>
        <p:spPr>
          <a:xfrm>
            <a:off x="8840880" y="549360"/>
            <a:ext cx="215640" cy="57456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574560"/>
              <a:gd name="textAreaBottom" fmla="*/ 564120 h 574560"/>
            </a:gdLst>
            <a:ahLst/>
            <a:rect l="textAreaLeft" t="textAreaTop" r="textAreaRight" b="textAreaBottom"/>
            <a:pathLst>
              <a:path w="21600" h="57492">
                <a:moveTo>
                  <a:pt x="3600" y="0"/>
                </a:moveTo>
                <a:arcTo wR="3600" hR="3600" stAng="16200000" swAng="-5400000"/>
                <a:lnTo>
                  <a:pt x="0" y="53892"/>
                </a:lnTo>
                <a:arcTo wR="3600" hR="3600" stAng="10800000" swAng="-5400000"/>
                <a:lnTo>
                  <a:pt x="18000" y="574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メイリオ"/>
                <a:ea typeface="メイリオ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0160" y="692280"/>
            <a:ext cx="9505800" cy="5905440"/>
          </a:xfrm>
          <a:prstGeom prst="roundRect">
            <a:avLst>
              <a:gd name="adj" fmla="val 196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44520" y="836640"/>
          <a:ext cx="9217080" cy="5532480"/>
        </p:xfrm>
        <a:graphic>
          <a:graphicData uri="http://schemas.openxmlformats.org/drawingml/2006/table">
            <a:tbl>
              <a:tblPr/>
              <a:tblGrid>
                <a:gridCol w="1703520"/>
                <a:gridCol w="241200"/>
                <a:gridCol w="243000"/>
                <a:gridCol w="242640"/>
                <a:gridCol w="241200"/>
                <a:gridCol w="243000"/>
                <a:gridCol w="243000"/>
                <a:gridCol w="243000"/>
                <a:gridCol w="241200"/>
                <a:gridCol w="243000"/>
                <a:gridCol w="242640"/>
                <a:gridCol w="241200"/>
                <a:gridCol w="243000"/>
                <a:gridCol w="243000"/>
                <a:gridCol w="241200"/>
                <a:gridCol w="243000"/>
                <a:gridCol w="242640"/>
                <a:gridCol w="241560"/>
                <a:gridCol w="242640"/>
                <a:gridCol w="243000"/>
                <a:gridCol w="241200"/>
                <a:gridCol w="243000"/>
                <a:gridCol w="243000"/>
                <a:gridCol w="242640"/>
                <a:gridCol w="241560"/>
                <a:gridCol w="242640"/>
                <a:gridCol w="243000"/>
                <a:gridCol w="241200"/>
                <a:gridCol w="243000"/>
                <a:gridCol w="243000"/>
                <a:gridCol w="241200"/>
                <a:gridCol w="243000"/>
              </a:tblGrid>
              <a:tr h="288720"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</a:tr>
              <a:tr h="1748160"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33"/>
                        </a:gs>
                        <a:gs pos="100000">
                          <a:srgbClr val="175e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747800"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33"/>
                        </a:gs>
                        <a:gs pos="100000">
                          <a:srgbClr val="175e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747800"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33"/>
                        </a:gs>
                        <a:gs pos="100000">
                          <a:srgbClr val="175e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メイリオ"/>
              </a:rPr>
              <a:t>スケジュールタイトル</a:t>
            </a:r>
            <a:endParaRPr b="1" lang="en-US" sz="20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88" name=""/>
          <p:cNvSpPr/>
          <p:nvPr/>
        </p:nvSpPr>
        <p:spPr>
          <a:xfrm>
            <a:off x="8840880" y="549360"/>
            <a:ext cx="215640" cy="57456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574560"/>
              <a:gd name="textAreaBottom" fmla="*/ 564120 h 574560"/>
            </a:gdLst>
            <a:ahLst/>
            <a:rect l="textAreaLeft" t="textAreaTop" r="textAreaRight" b="textAreaBottom"/>
            <a:pathLst>
              <a:path w="21600" h="57492">
                <a:moveTo>
                  <a:pt x="3600" y="0"/>
                </a:moveTo>
                <a:arcTo wR="3600" hR="3600" stAng="16200000" swAng="-5400000"/>
                <a:lnTo>
                  <a:pt x="0" y="53892"/>
                </a:lnTo>
                <a:arcTo wR="3600" hR="3600" stAng="10800000" swAng="-5400000"/>
                <a:lnTo>
                  <a:pt x="18000" y="574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メイリオ"/>
                <a:ea typeface="メイリオ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メイリオ"/>
              </a:rPr>
              <a:t>配置パーツ</a:t>
            </a:r>
            <a:endParaRPr b="1" lang="en-US" sz="2000" spc="-1" strike="noStrike">
              <a:solidFill>
                <a:srgbClr val="333399"/>
              </a:solidFill>
              <a:latin typeface="メイリオ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936880" y="1701720"/>
            <a:ext cx="936720" cy="568440"/>
            <a:chOff x="2936880" y="1701720"/>
            <a:chExt cx="936720" cy="568440"/>
          </a:xfrm>
        </p:grpSpPr>
        <p:grpSp>
          <p:nvGrpSpPr>
            <p:cNvPr id="91" name=""/>
            <p:cNvGrpSpPr/>
            <p:nvPr/>
          </p:nvGrpSpPr>
          <p:grpSpPr>
            <a:xfrm>
              <a:off x="2936880" y="1701720"/>
              <a:ext cx="936720" cy="568440"/>
              <a:chOff x="2936880" y="1701720"/>
              <a:chExt cx="936720" cy="568440"/>
            </a:xfrm>
          </p:grpSpPr>
          <p:sp>
            <p:nvSpPr>
              <p:cNvPr id="92" name=""/>
              <p:cNvSpPr/>
              <p:nvPr/>
            </p:nvSpPr>
            <p:spPr>
              <a:xfrm flipH="1">
                <a:off x="3828960" y="2099880"/>
                <a:ext cx="28080" cy="561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936520" y="2099880"/>
                <a:ext cx="652680" cy="561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3589200" y="1843920"/>
                <a:ext cx="255240" cy="369720"/>
              </a:xfrm>
              <a:custGeom>
                <a:avLst/>
                <a:gdLst/>
                <a:ahLst/>
                <a:rect l="l" t="t" r="r" b="b"/>
                <a:pathLst>
                  <a:path w="408" h="590">
                    <a:moveTo>
                      <a:pt x="408" y="590"/>
                    </a:moveTo>
                    <a:lnTo>
                      <a:pt x="408" y="0"/>
                    </a:lnTo>
                    <a:lnTo>
                      <a:pt x="90" y="0"/>
                    </a:lnTo>
                    <a:lnTo>
                      <a:pt x="45" y="318"/>
                    </a:lnTo>
                    <a:lnTo>
                      <a:pt x="0" y="363"/>
                    </a:lnTo>
                    <a:lnTo>
                      <a:pt x="0" y="590"/>
                    </a:lnTo>
                    <a:lnTo>
                      <a:pt x="408" y="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3618000" y="2099880"/>
                <a:ext cx="170640" cy="11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2936520" y="1701720"/>
                <a:ext cx="624600" cy="369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3390840" y="2099880"/>
                <a:ext cx="170640" cy="8496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3646080" y="2127960"/>
                <a:ext cx="113400" cy="1134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3221280" y="2128320"/>
                <a:ext cx="113040" cy="1134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3022200" y="2128320"/>
                <a:ext cx="113040" cy="1134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3192480" y="2099880"/>
                <a:ext cx="169920" cy="170280"/>
              </a:xfrm>
              <a:prstGeom prst="donut">
                <a:avLst>
                  <a:gd name="adj" fmla="val 24634"/>
                </a:avLst>
              </a:pr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993400" y="2099880"/>
                <a:ext cx="170280" cy="170280"/>
              </a:xfrm>
              <a:prstGeom prst="donut">
                <a:avLst>
                  <a:gd name="adj" fmla="val 24634"/>
                </a:avLst>
              </a:pr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3618720" y="2099880"/>
                <a:ext cx="169920" cy="170280"/>
              </a:xfrm>
              <a:prstGeom prst="donut">
                <a:avLst>
                  <a:gd name="adj" fmla="val 24634"/>
                </a:avLst>
              </a:pr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3702960" y="1872000"/>
                <a:ext cx="85680" cy="170280"/>
              </a:xfrm>
              <a:custGeom>
                <a:avLst/>
                <a:gdLst/>
                <a:ahLst/>
                <a:rect l="l" t="t" r="r" b="b"/>
                <a:pathLst>
                  <a:path w="137" h="272">
                    <a:moveTo>
                      <a:pt x="137" y="0"/>
                    </a:moveTo>
                    <a:lnTo>
                      <a:pt x="46" y="0"/>
                    </a:lnTo>
                    <a:lnTo>
                      <a:pt x="0" y="272"/>
                    </a:lnTo>
                    <a:lnTo>
                      <a:pt x="137" y="272"/>
                    </a:lnTo>
                    <a:lnTo>
                      <a:pt x="13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df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3618000" y="1872000"/>
                <a:ext cx="56880" cy="170280"/>
              </a:xfrm>
              <a:prstGeom prst="rect">
                <a:avLst/>
              </a:prstGeom>
              <a:gradFill rotWithShape="0">
                <a:gsLst>
                  <a:gs pos="0">
                    <a:srgbClr val="c0df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3816720" y="2156760"/>
                <a:ext cx="56880" cy="5688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2936520" y="1701720"/>
                <a:ext cx="652680" cy="398160"/>
              </a:xfrm>
              <a:custGeom>
                <a:avLst/>
                <a:gdLst/>
                <a:ahLst/>
                <a:rect l="l" t="t" r="r" b="b"/>
                <a:pathLst>
                  <a:path w="1043" h="635">
                    <a:moveTo>
                      <a:pt x="0" y="0"/>
                    </a:moveTo>
                    <a:lnTo>
                      <a:pt x="45" y="0"/>
                    </a:lnTo>
                    <a:lnTo>
                      <a:pt x="45" y="589"/>
                    </a:lnTo>
                    <a:lnTo>
                      <a:pt x="1043" y="589"/>
                    </a:lnTo>
                    <a:lnTo>
                      <a:pt x="1043" y="635"/>
                    </a:lnTo>
                    <a:lnTo>
                      <a:pt x="0" y="6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2936520" y="1701720"/>
                <a:ext cx="624600" cy="36972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c0c0c0">
                      <a:alpha val="2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 txBox="1"/>
            <p:nvPr/>
          </p:nvSpPr>
          <p:spPr>
            <a:xfrm>
              <a:off x="3008160" y="1743120"/>
              <a:ext cx="471600" cy="27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配達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36880" y="1052640"/>
            <a:ext cx="936720" cy="568080"/>
            <a:chOff x="2936880" y="1052640"/>
            <a:chExt cx="936720" cy="568080"/>
          </a:xfrm>
        </p:grpSpPr>
        <p:grpSp>
          <p:nvGrpSpPr>
            <p:cNvPr id="111" name=""/>
            <p:cNvGrpSpPr/>
            <p:nvPr/>
          </p:nvGrpSpPr>
          <p:grpSpPr>
            <a:xfrm>
              <a:off x="2936880" y="1052640"/>
              <a:ext cx="936720" cy="568080"/>
              <a:chOff x="2936880" y="1052640"/>
              <a:chExt cx="936720" cy="568080"/>
            </a:xfrm>
          </p:grpSpPr>
          <p:sp>
            <p:nvSpPr>
              <p:cNvPr id="112" name=""/>
              <p:cNvSpPr/>
              <p:nvPr/>
            </p:nvSpPr>
            <p:spPr>
              <a:xfrm flipH="1">
                <a:off x="3828960" y="1450440"/>
                <a:ext cx="28080" cy="561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2936520" y="1450440"/>
                <a:ext cx="652680" cy="561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3589200" y="1194840"/>
                <a:ext cx="255240" cy="369360"/>
              </a:xfrm>
              <a:custGeom>
                <a:avLst/>
                <a:gdLst/>
                <a:ahLst/>
                <a:rect l="l" t="t" r="r" b="b"/>
                <a:pathLst>
                  <a:path w="408" h="590">
                    <a:moveTo>
                      <a:pt x="408" y="590"/>
                    </a:moveTo>
                    <a:lnTo>
                      <a:pt x="408" y="0"/>
                    </a:lnTo>
                    <a:lnTo>
                      <a:pt x="90" y="0"/>
                    </a:lnTo>
                    <a:lnTo>
                      <a:pt x="45" y="318"/>
                    </a:lnTo>
                    <a:lnTo>
                      <a:pt x="0" y="363"/>
                    </a:lnTo>
                    <a:lnTo>
                      <a:pt x="0" y="590"/>
                    </a:lnTo>
                    <a:lnTo>
                      <a:pt x="408" y="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3618000" y="1450440"/>
                <a:ext cx="170640" cy="113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936520" y="1052640"/>
                <a:ext cx="624600" cy="3693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3390840" y="1450440"/>
                <a:ext cx="170640" cy="8496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646080" y="1478520"/>
                <a:ext cx="113400" cy="1130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221280" y="1479240"/>
                <a:ext cx="113040" cy="1134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3022200" y="1479240"/>
                <a:ext cx="113040" cy="1134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3192480" y="1450440"/>
                <a:ext cx="169920" cy="170280"/>
              </a:xfrm>
              <a:prstGeom prst="donut">
                <a:avLst>
                  <a:gd name="adj" fmla="val 24634"/>
                </a:avLst>
              </a:pr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993400" y="1450440"/>
                <a:ext cx="170280" cy="170280"/>
              </a:xfrm>
              <a:prstGeom prst="donut">
                <a:avLst>
                  <a:gd name="adj" fmla="val 24634"/>
                </a:avLst>
              </a:pr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3618720" y="1450440"/>
                <a:ext cx="169920" cy="170280"/>
              </a:xfrm>
              <a:prstGeom prst="donut">
                <a:avLst>
                  <a:gd name="adj" fmla="val 24634"/>
                </a:avLst>
              </a:pr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3702960" y="1222920"/>
                <a:ext cx="85680" cy="170280"/>
              </a:xfrm>
              <a:custGeom>
                <a:avLst/>
                <a:gdLst/>
                <a:ahLst/>
                <a:rect l="l" t="t" r="r" b="b"/>
                <a:pathLst>
                  <a:path w="137" h="272">
                    <a:moveTo>
                      <a:pt x="137" y="0"/>
                    </a:moveTo>
                    <a:lnTo>
                      <a:pt x="46" y="0"/>
                    </a:lnTo>
                    <a:lnTo>
                      <a:pt x="0" y="272"/>
                    </a:lnTo>
                    <a:lnTo>
                      <a:pt x="137" y="272"/>
                    </a:lnTo>
                    <a:lnTo>
                      <a:pt x="13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df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3618000" y="1222920"/>
                <a:ext cx="56880" cy="170280"/>
              </a:xfrm>
              <a:prstGeom prst="rect">
                <a:avLst/>
              </a:prstGeom>
              <a:gradFill rotWithShape="0">
                <a:gsLst>
                  <a:gs pos="0">
                    <a:srgbClr val="c0df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3816720" y="1507320"/>
                <a:ext cx="56880" cy="5688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2936520" y="1052640"/>
                <a:ext cx="652680" cy="397800"/>
              </a:xfrm>
              <a:custGeom>
                <a:avLst/>
                <a:gdLst/>
                <a:ahLst/>
                <a:rect l="l" t="t" r="r" b="b"/>
                <a:pathLst>
                  <a:path w="1043" h="635">
                    <a:moveTo>
                      <a:pt x="0" y="0"/>
                    </a:moveTo>
                    <a:lnTo>
                      <a:pt x="45" y="0"/>
                    </a:lnTo>
                    <a:lnTo>
                      <a:pt x="45" y="589"/>
                    </a:lnTo>
                    <a:lnTo>
                      <a:pt x="1043" y="589"/>
                    </a:lnTo>
                    <a:lnTo>
                      <a:pt x="1043" y="635"/>
                    </a:lnTo>
                    <a:lnTo>
                      <a:pt x="0" y="6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2936520" y="1052640"/>
                <a:ext cx="624600" cy="36936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c0c0c0">
                      <a:alpha val="2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 txBox="1"/>
            <p:nvPr/>
          </p:nvSpPr>
          <p:spPr>
            <a:xfrm>
              <a:off x="2986200" y="1101600"/>
              <a:ext cx="471600" cy="2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納品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76160" y="1701720"/>
            <a:ext cx="792000" cy="576360"/>
            <a:chOff x="776160" y="1701720"/>
            <a:chExt cx="792000" cy="576360"/>
          </a:xfrm>
        </p:grpSpPr>
        <p:grpSp>
          <p:nvGrpSpPr>
            <p:cNvPr id="131" name=""/>
            <p:cNvGrpSpPr/>
            <p:nvPr/>
          </p:nvGrpSpPr>
          <p:grpSpPr>
            <a:xfrm>
              <a:off x="776160" y="1701720"/>
              <a:ext cx="792000" cy="576360"/>
              <a:chOff x="776160" y="1701720"/>
              <a:chExt cx="792000" cy="576360"/>
            </a:xfrm>
          </p:grpSpPr>
          <p:sp>
            <p:nvSpPr>
              <p:cNvPr id="132" name=""/>
              <p:cNvSpPr/>
              <p:nvPr/>
            </p:nvSpPr>
            <p:spPr>
              <a:xfrm>
                <a:off x="776160" y="1701720"/>
                <a:ext cx="792000" cy="576360"/>
              </a:xfrm>
              <a:custGeom>
                <a:avLst/>
                <a:gdLst/>
                <a:ahLst/>
                <a:rect l="l" t="t" r="r" b="b"/>
                <a:pathLst>
                  <a:path w="499" h="363">
                    <a:moveTo>
                      <a:pt x="0" y="137"/>
                    </a:moveTo>
                    <a:lnTo>
                      <a:pt x="136" y="0"/>
                    </a:lnTo>
                    <a:lnTo>
                      <a:pt x="499" y="0"/>
                    </a:lnTo>
                    <a:lnTo>
                      <a:pt x="499" y="227"/>
                    </a:lnTo>
                    <a:lnTo>
                      <a:pt x="363" y="363"/>
                    </a:lnTo>
                    <a:lnTo>
                      <a:pt x="0" y="363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76160" y="1919520"/>
                <a:ext cx="576000" cy="358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91800" y="1703520"/>
                <a:ext cx="287640" cy="360360"/>
              </a:xfrm>
              <a:custGeom>
                <a:avLst/>
                <a:gdLst/>
                <a:ahLst/>
                <a:rect l="l" t="t" r="r" b="b"/>
                <a:pathLst>
                  <a:path w="181" h="227">
                    <a:moveTo>
                      <a:pt x="136" y="0"/>
                    </a:moveTo>
                    <a:lnTo>
                      <a:pt x="0" y="136"/>
                    </a:lnTo>
                    <a:lnTo>
                      <a:pt x="0" y="227"/>
                    </a:lnTo>
                    <a:lnTo>
                      <a:pt x="45" y="227"/>
                    </a:lnTo>
                    <a:lnTo>
                      <a:pt x="45" y="136"/>
                    </a:lnTo>
                    <a:lnTo>
                      <a:pt x="181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 txBox="1"/>
            <p:nvPr/>
          </p:nvSpPr>
          <p:spPr>
            <a:xfrm>
              <a:off x="838080" y="1962360"/>
              <a:ext cx="471600" cy="2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発送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76160" y="2781360"/>
            <a:ext cx="648000" cy="792000"/>
            <a:chOff x="776160" y="2781360"/>
            <a:chExt cx="648000" cy="792000"/>
          </a:xfrm>
        </p:grpSpPr>
        <p:sp>
          <p:nvSpPr>
            <p:cNvPr id="137" name=""/>
            <p:cNvSpPr/>
            <p:nvPr/>
          </p:nvSpPr>
          <p:spPr>
            <a:xfrm>
              <a:off x="776160" y="2781360"/>
              <a:ext cx="648000" cy="7920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e2f1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849240" y="2997000"/>
              <a:ext cx="471600" cy="26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お見積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712880" y="2781360"/>
            <a:ext cx="647640" cy="792000"/>
            <a:chOff x="1712880" y="2781360"/>
            <a:chExt cx="647640" cy="792000"/>
          </a:xfrm>
        </p:grpSpPr>
        <p:sp>
          <p:nvSpPr>
            <p:cNvPr id="140" name=""/>
            <p:cNvSpPr/>
            <p:nvPr/>
          </p:nvSpPr>
          <p:spPr>
            <a:xfrm>
              <a:off x="1712880" y="2781360"/>
              <a:ext cx="647640" cy="7920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e2f1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1784520" y="2997000"/>
              <a:ext cx="471240" cy="26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ご請求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20880" y="2781360"/>
            <a:ext cx="647640" cy="792000"/>
            <a:chOff x="2720880" y="2781360"/>
            <a:chExt cx="647640" cy="792000"/>
          </a:xfrm>
        </p:grpSpPr>
        <p:sp>
          <p:nvSpPr>
            <p:cNvPr id="143" name=""/>
            <p:cNvSpPr/>
            <p:nvPr/>
          </p:nvSpPr>
          <p:spPr>
            <a:xfrm>
              <a:off x="2720880" y="2781360"/>
              <a:ext cx="647640" cy="7920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e2f1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2792520" y="2997000"/>
              <a:ext cx="471240" cy="26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納品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76160" y="3860640"/>
            <a:ext cx="648000" cy="792000"/>
            <a:chOff x="776160" y="3860640"/>
            <a:chExt cx="648000" cy="792000"/>
          </a:xfrm>
        </p:grpSpPr>
        <p:sp>
          <p:nvSpPr>
            <p:cNvPr id="146" name=""/>
            <p:cNvSpPr/>
            <p:nvPr/>
          </p:nvSpPr>
          <p:spPr>
            <a:xfrm>
              <a:off x="776160" y="3860640"/>
              <a:ext cx="648000" cy="7920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6699"/>
                </a:gs>
                <a:gs pos="100000">
                  <a:srgbClr val="febf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849240" y="4076280"/>
              <a:ext cx="471600" cy="27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計画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712880" y="3860640"/>
            <a:ext cx="647640" cy="792000"/>
            <a:chOff x="1712880" y="3860640"/>
            <a:chExt cx="647640" cy="792000"/>
          </a:xfrm>
        </p:grpSpPr>
        <p:sp>
          <p:nvSpPr>
            <p:cNvPr id="149" name=""/>
            <p:cNvSpPr/>
            <p:nvPr/>
          </p:nvSpPr>
          <p:spPr>
            <a:xfrm>
              <a:off x="1712880" y="3860640"/>
              <a:ext cx="647640" cy="7920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6699"/>
                </a:gs>
                <a:gs pos="100000">
                  <a:srgbClr val="febf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1784520" y="4076280"/>
              <a:ext cx="471240" cy="27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企画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20880" y="3860640"/>
            <a:ext cx="647640" cy="792000"/>
            <a:chOff x="2720880" y="3860640"/>
            <a:chExt cx="647640" cy="792000"/>
          </a:xfrm>
        </p:grpSpPr>
        <p:sp>
          <p:nvSpPr>
            <p:cNvPr id="152" name=""/>
            <p:cNvSpPr/>
            <p:nvPr/>
          </p:nvSpPr>
          <p:spPr>
            <a:xfrm>
              <a:off x="2720880" y="3860640"/>
              <a:ext cx="647640" cy="7920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6699"/>
                </a:gs>
                <a:gs pos="100000">
                  <a:srgbClr val="febf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792520" y="4076280"/>
              <a:ext cx="471240" cy="27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提案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76160" y="5229360"/>
            <a:ext cx="576360" cy="431640"/>
            <a:chOff x="776160" y="5229360"/>
            <a:chExt cx="576360" cy="431640"/>
          </a:xfrm>
        </p:grpSpPr>
        <p:sp>
          <p:nvSpPr>
            <p:cNvPr id="155" name=""/>
            <p:cNvSpPr/>
            <p:nvPr/>
          </p:nvSpPr>
          <p:spPr>
            <a:xfrm>
              <a:off x="776160" y="5229360"/>
              <a:ext cx="576360" cy="431640"/>
            </a:xfrm>
            <a:prstGeom prst="rect">
              <a:avLst/>
            </a:prstGeom>
            <a:gradFill rotWithShape="0">
              <a:gsLst>
                <a:gs pos="0">
                  <a:srgbClr val="a3e7a3"/>
                </a:gs>
                <a:gs pos="100000">
                  <a:srgbClr val="33cc33"/>
                </a:gs>
              </a:gsLst>
              <a:lin ang="5400000"/>
            </a:gra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6160" y="5229360"/>
              <a:ext cx="576360" cy="288720"/>
            </a:xfrm>
            <a:custGeom>
              <a:avLst/>
              <a:gdLst/>
              <a:ahLst/>
              <a:rect l="l" t="t" r="r" b="b"/>
              <a:pathLst>
                <a:path w="363" h="182">
                  <a:moveTo>
                    <a:pt x="0" y="0"/>
                  </a:moveTo>
                  <a:lnTo>
                    <a:pt x="363" y="0"/>
                  </a:lnTo>
                  <a:lnTo>
                    <a:pt x="363" y="91"/>
                  </a:lnTo>
                  <a:lnTo>
                    <a:pt x="182" y="182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3e7a3"/>
                </a:gs>
                <a:gs pos="100000">
                  <a:srgbClr val="33cc33"/>
                </a:gs>
              </a:gsLst>
              <a:lin ang="5400000"/>
            </a:gra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849240" y="5300640"/>
              <a:ext cx="432000" cy="19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メール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496880" y="5229360"/>
            <a:ext cx="576360" cy="431640"/>
            <a:chOff x="1496880" y="5229360"/>
            <a:chExt cx="576360" cy="431640"/>
          </a:xfrm>
        </p:grpSpPr>
        <p:sp>
          <p:nvSpPr>
            <p:cNvPr id="159" name=""/>
            <p:cNvSpPr/>
            <p:nvPr/>
          </p:nvSpPr>
          <p:spPr>
            <a:xfrm>
              <a:off x="1496880" y="5229360"/>
              <a:ext cx="576360" cy="431640"/>
            </a:xfrm>
            <a:prstGeom prst="rect">
              <a:avLst/>
            </a:prstGeom>
            <a:gradFill rotWithShape="0">
              <a:gsLst>
                <a:gs pos="0">
                  <a:srgbClr val="d0e7fe"/>
                </a:gs>
                <a:gs pos="100000">
                  <a:srgbClr val="99ccff"/>
                </a:gs>
              </a:gsLst>
              <a:lin ang="5400000"/>
            </a:gra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96880" y="5229360"/>
              <a:ext cx="576360" cy="288720"/>
            </a:xfrm>
            <a:custGeom>
              <a:avLst/>
              <a:gdLst/>
              <a:ahLst/>
              <a:rect l="l" t="t" r="r" b="b"/>
              <a:pathLst>
                <a:path w="363" h="182">
                  <a:moveTo>
                    <a:pt x="0" y="0"/>
                  </a:moveTo>
                  <a:lnTo>
                    <a:pt x="363" y="0"/>
                  </a:lnTo>
                  <a:lnTo>
                    <a:pt x="363" y="91"/>
                  </a:lnTo>
                  <a:lnTo>
                    <a:pt x="182" y="182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e7fe"/>
                </a:gs>
                <a:gs pos="100000">
                  <a:srgbClr val="99ccff"/>
                </a:gs>
              </a:gsLst>
              <a:lin ang="5400000"/>
            </a:gra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1568520" y="5300640"/>
              <a:ext cx="431640" cy="19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お知らせ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216160" y="5229360"/>
            <a:ext cx="576360" cy="431640"/>
            <a:chOff x="2216160" y="5229360"/>
            <a:chExt cx="576360" cy="431640"/>
          </a:xfrm>
        </p:grpSpPr>
        <p:sp>
          <p:nvSpPr>
            <p:cNvPr id="163" name=""/>
            <p:cNvSpPr/>
            <p:nvPr/>
          </p:nvSpPr>
          <p:spPr>
            <a:xfrm>
              <a:off x="2216160" y="5229360"/>
              <a:ext cx="576360" cy="431640"/>
            </a:xfrm>
            <a:prstGeom prst="rect">
              <a:avLst/>
            </a:prstGeom>
            <a:gradFill rotWithShape="0">
              <a:gsLst>
                <a:gs pos="0">
                  <a:srgbClr val="fee7ba"/>
                </a:gs>
                <a:gs pos="100000">
                  <a:srgbClr val="ffcc66"/>
                </a:gs>
              </a:gsLst>
              <a:lin ang="5400000"/>
            </a:gra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16160" y="5229360"/>
              <a:ext cx="576360" cy="288720"/>
            </a:xfrm>
            <a:custGeom>
              <a:avLst/>
              <a:gdLst/>
              <a:ahLst/>
              <a:rect l="l" t="t" r="r" b="b"/>
              <a:pathLst>
                <a:path w="363" h="182">
                  <a:moveTo>
                    <a:pt x="0" y="0"/>
                  </a:moveTo>
                  <a:lnTo>
                    <a:pt x="363" y="0"/>
                  </a:lnTo>
                  <a:lnTo>
                    <a:pt x="363" y="91"/>
                  </a:lnTo>
                  <a:lnTo>
                    <a:pt x="182" y="182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e7ba"/>
                </a:gs>
                <a:gs pos="100000">
                  <a:srgbClr val="ffcc66"/>
                </a:gs>
              </a:gsLst>
              <a:lin ang="5400000"/>
            </a:gra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2289240" y="5300640"/>
              <a:ext cx="431640" cy="19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中間報告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76160" y="5734080"/>
            <a:ext cx="576360" cy="431640"/>
            <a:chOff x="776160" y="5734080"/>
            <a:chExt cx="576360" cy="431640"/>
          </a:xfrm>
        </p:grpSpPr>
        <p:sp>
          <p:nvSpPr>
            <p:cNvPr id="167" name=""/>
            <p:cNvSpPr/>
            <p:nvPr/>
          </p:nvSpPr>
          <p:spPr>
            <a:xfrm>
              <a:off x="776160" y="5734080"/>
              <a:ext cx="576360" cy="431640"/>
            </a:xfrm>
            <a:prstGeom prst="rect">
              <a:avLst/>
            </a:prstGeom>
            <a:gradFill rotWithShape="0">
              <a:gsLst>
                <a:gs pos="0">
                  <a:srgbClr val="a3e7a3"/>
                </a:gs>
                <a:gs pos="100000">
                  <a:srgbClr val="33cc33"/>
                </a:gs>
              </a:gsLst>
              <a:lin ang="5400000"/>
            </a:gra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160" y="5734080"/>
              <a:ext cx="576360" cy="288720"/>
            </a:xfrm>
            <a:custGeom>
              <a:avLst/>
              <a:gdLst/>
              <a:ahLst/>
              <a:rect l="l" t="t" r="r" b="b"/>
              <a:pathLst>
                <a:path w="363" h="182">
                  <a:moveTo>
                    <a:pt x="0" y="0"/>
                  </a:moveTo>
                  <a:lnTo>
                    <a:pt x="363" y="0"/>
                  </a:lnTo>
                  <a:lnTo>
                    <a:pt x="363" y="91"/>
                  </a:lnTo>
                  <a:lnTo>
                    <a:pt x="182" y="182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3e7a3"/>
                </a:gs>
                <a:gs pos="100000">
                  <a:srgbClr val="33cc33"/>
                </a:gs>
              </a:gsLst>
              <a:lin ang="5400000"/>
            </a:gra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849240" y="5805360"/>
              <a:ext cx="432000" cy="19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配信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496880" y="5734080"/>
            <a:ext cx="576360" cy="431640"/>
            <a:chOff x="1496880" y="5734080"/>
            <a:chExt cx="576360" cy="431640"/>
          </a:xfrm>
        </p:grpSpPr>
        <p:sp>
          <p:nvSpPr>
            <p:cNvPr id="171" name=""/>
            <p:cNvSpPr/>
            <p:nvPr/>
          </p:nvSpPr>
          <p:spPr>
            <a:xfrm>
              <a:off x="1496880" y="5734080"/>
              <a:ext cx="576360" cy="431640"/>
            </a:xfrm>
            <a:prstGeom prst="rect">
              <a:avLst/>
            </a:prstGeom>
            <a:gradFill rotWithShape="0">
              <a:gsLst>
                <a:gs pos="0">
                  <a:srgbClr val="d0e7fe"/>
                </a:gs>
                <a:gs pos="100000">
                  <a:srgbClr val="99ccff"/>
                </a:gs>
              </a:gsLst>
              <a:lin ang="5400000"/>
            </a:gra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96880" y="5734080"/>
              <a:ext cx="576360" cy="288720"/>
            </a:xfrm>
            <a:custGeom>
              <a:avLst/>
              <a:gdLst/>
              <a:ahLst/>
              <a:rect l="l" t="t" r="r" b="b"/>
              <a:pathLst>
                <a:path w="363" h="182">
                  <a:moveTo>
                    <a:pt x="0" y="0"/>
                  </a:moveTo>
                  <a:lnTo>
                    <a:pt x="363" y="0"/>
                  </a:lnTo>
                  <a:lnTo>
                    <a:pt x="363" y="91"/>
                  </a:lnTo>
                  <a:lnTo>
                    <a:pt x="182" y="182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e7fe"/>
                </a:gs>
                <a:gs pos="100000">
                  <a:srgbClr val="99ccff"/>
                </a:gs>
              </a:gsLst>
              <a:lin ang="5400000"/>
            </a:gra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1568520" y="5805360"/>
              <a:ext cx="431640" cy="19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ご連絡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216160" y="5734080"/>
            <a:ext cx="576360" cy="431640"/>
            <a:chOff x="2216160" y="5734080"/>
            <a:chExt cx="576360" cy="431640"/>
          </a:xfrm>
        </p:grpSpPr>
        <p:sp>
          <p:nvSpPr>
            <p:cNvPr id="175" name=""/>
            <p:cNvSpPr/>
            <p:nvPr/>
          </p:nvSpPr>
          <p:spPr>
            <a:xfrm>
              <a:off x="2216160" y="5734080"/>
              <a:ext cx="576360" cy="431640"/>
            </a:xfrm>
            <a:prstGeom prst="rect">
              <a:avLst/>
            </a:prstGeom>
            <a:gradFill rotWithShape="0">
              <a:gsLst>
                <a:gs pos="0">
                  <a:srgbClr val="fee7ba"/>
                </a:gs>
                <a:gs pos="100000">
                  <a:srgbClr val="ffcc66"/>
                </a:gs>
              </a:gsLst>
              <a:lin ang="5400000"/>
            </a:gra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16160" y="5734080"/>
              <a:ext cx="576360" cy="288720"/>
            </a:xfrm>
            <a:custGeom>
              <a:avLst/>
              <a:gdLst/>
              <a:ahLst/>
              <a:rect l="l" t="t" r="r" b="b"/>
              <a:pathLst>
                <a:path w="363" h="182">
                  <a:moveTo>
                    <a:pt x="0" y="0"/>
                  </a:moveTo>
                  <a:lnTo>
                    <a:pt x="363" y="0"/>
                  </a:lnTo>
                  <a:lnTo>
                    <a:pt x="363" y="91"/>
                  </a:lnTo>
                  <a:lnTo>
                    <a:pt x="182" y="182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e7ba"/>
                </a:gs>
                <a:gs pos="100000">
                  <a:srgbClr val="ffcc66"/>
                </a:gs>
              </a:gsLst>
              <a:lin ang="5400000"/>
            </a:gra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2289240" y="5805360"/>
              <a:ext cx="431640" cy="19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随時報告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944880" y="1701720"/>
            <a:ext cx="936720" cy="568440"/>
            <a:chOff x="3944880" y="1701720"/>
            <a:chExt cx="936720" cy="568440"/>
          </a:xfrm>
        </p:grpSpPr>
        <p:grpSp>
          <p:nvGrpSpPr>
            <p:cNvPr id="179" name=""/>
            <p:cNvGrpSpPr/>
            <p:nvPr/>
          </p:nvGrpSpPr>
          <p:grpSpPr>
            <a:xfrm>
              <a:off x="3944880" y="1701720"/>
              <a:ext cx="936720" cy="568440"/>
              <a:chOff x="3944880" y="1701720"/>
              <a:chExt cx="936720" cy="568440"/>
            </a:xfrm>
          </p:grpSpPr>
          <p:sp>
            <p:nvSpPr>
              <p:cNvPr id="180" name=""/>
              <p:cNvSpPr/>
              <p:nvPr/>
            </p:nvSpPr>
            <p:spPr>
              <a:xfrm flipH="1">
                <a:off x="4836960" y="2099880"/>
                <a:ext cx="28080" cy="561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3944520" y="2099880"/>
                <a:ext cx="652680" cy="561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4597200" y="1843920"/>
                <a:ext cx="255240" cy="369720"/>
              </a:xfrm>
              <a:custGeom>
                <a:avLst/>
                <a:gdLst/>
                <a:ahLst/>
                <a:rect l="l" t="t" r="r" b="b"/>
                <a:pathLst>
                  <a:path w="408" h="590">
                    <a:moveTo>
                      <a:pt x="408" y="590"/>
                    </a:moveTo>
                    <a:lnTo>
                      <a:pt x="408" y="0"/>
                    </a:lnTo>
                    <a:lnTo>
                      <a:pt x="90" y="0"/>
                    </a:lnTo>
                    <a:lnTo>
                      <a:pt x="45" y="318"/>
                    </a:lnTo>
                    <a:lnTo>
                      <a:pt x="0" y="363"/>
                    </a:lnTo>
                    <a:lnTo>
                      <a:pt x="0" y="590"/>
                    </a:lnTo>
                    <a:lnTo>
                      <a:pt x="408" y="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4626000" y="2099880"/>
                <a:ext cx="170640" cy="11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3944520" y="1701720"/>
                <a:ext cx="624600" cy="3697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4398840" y="2099880"/>
                <a:ext cx="170640" cy="8496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4654080" y="2127960"/>
                <a:ext cx="113400" cy="1134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4229280" y="2128320"/>
                <a:ext cx="113040" cy="1134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4030200" y="2128320"/>
                <a:ext cx="113040" cy="1134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4200480" y="2099880"/>
                <a:ext cx="169920" cy="170280"/>
              </a:xfrm>
              <a:prstGeom prst="donut">
                <a:avLst>
                  <a:gd name="adj" fmla="val 24634"/>
                </a:avLst>
              </a:pr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4001400" y="2099880"/>
                <a:ext cx="170280" cy="170280"/>
              </a:xfrm>
              <a:prstGeom prst="donut">
                <a:avLst>
                  <a:gd name="adj" fmla="val 24634"/>
                </a:avLst>
              </a:pr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4626720" y="2099880"/>
                <a:ext cx="169920" cy="170280"/>
              </a:xfrm>
              <a:prstGeom prst="donut">
                <a:avLst>
                  <a:gd name="adj" fmla="val 24634"/>
                </a:avLst>
              </a:pr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4710960" y="1872000"/>
                <a:ext cx="85680" cy="170280"/>
              </a:xfrm>
              <a:custGeom>
                <a:avLst/>
                <a:gdLst/>
                <a:ahLst/>
                <a:rect l="l" t="t" r="r" b="b"/>
                <a:pathLst>
                  <a:path w="137" h="272">
                    <a:moveTo>
                      <a:pt x="137" y="0"/>
                    </a:moveTo>
                    <a:lnTo>
                      <a:pt x="46" y="0"/>
                    </a:lnTo>
                    <a:lnTo>
                      <a:pt x="0" y="272"/>
                    </a:lnTo>
                    <a:lnTo>
                      <a:pt x="137" y="272"/>
                    </a:lnTo>
                    <a:lnTo>
                      <a:pt x="13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df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4626000" y="1872000"/>
                <a:ext cx="56880" cy="170280"/>
              </a:xfrm>
              <a:prstGeom prst="rect">
                <a:avLst/>
              </a:prstGeom>
              <a:gradFill rotWithShape="0">
                <a:gsLst>
                  <a:gs pos="0">
                    <a:srgbClr val="c0df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4824720" y="2156760"/>
                <a:ext cx="56880" cy="5688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3944520" y="1701720"/>
                <a:ext cx="652680" cy="398160"/>
              </a:xfrm>
              <a:custGeom>
                <a:avLst/>
                <a:gdLst/>
                <a:ahLst/>
                <a:rect l="l" t="t" r="r" b="b"/>
                <a:pathLst>
                  <a:path w="1043" h="635">
                    <a:moveTo>
                      <a:pt x="0" y="0"/>
                    </a:moveTo>
                    <a:lnTo>
                      <a:pt x="45" y="0"/>
                    </a:lnTo>
                    <a:lnTo>
                      <a:pt x="45" y="589"/>
                    </a:lnTo>
                    <a:lnTo>
                      <a:pt x="1043" y="589"/>
                    </a:lnTo>
                    <a:lnTo>
                      <a:pt x="1043" y="635"/>
                    </a:lnTo>
                    <a:lnTo>
                      <a:pt x="0" y="6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3944520" y="1701720"/>
                <a:ext cx="624600" cy="36972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c0c0c0">
                      <a:alpha val="2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 txBox="1"/>
            <p:nvPr/>
          </p:nvSpPr>
          <p:spPr>
            <a:xfrm>
              <a:off x="4016160" y="1743120"/>
              <a:ext cx="471600" cy="27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配達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944880" y="1052640"/>
            <a:ext cx="936720" cy="568080"/>
            <a:chOff x="3944880" y="1052640"/>
            <a:chExt cx="936720" cy="568080"/>
          </a:xfrm>
        </p:grpSpPr>
        <p:grpSp>
          <p:nvGrpSpPr>
            <p:cNvPr id="199" name=""/>
            <p:cNvGrpSpPr/>
            <p:nvPr/>
          </p:nvGrpSpPr>
          <p:grpSpPr>
            <a:xfrm>
              <a:off x="3944880" y="1052640"/>
              <a:ext cx="936720" cy="568080"/>
              <a:chOff x="3944880" y="1052640"/>
              <a:chExt cx="936720" cy="568080"/>
            </a:xfrm>
          </p:grpSpPr>
          <p:sp>
            <p:nvSpPr>
              <p:cNvPr id="200" name=""/>
              <p:cNvSpPr/>
              <p:nvPr/>
            </p:nvSpPr>
            <p:spPr>
              <a:xfrm flipH="1">
                <a:off x="4836960" y="1450440"/>
                <a:ext cx="28080" cy="561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3944520" y="1450440"/>
                <a:ext cx="652680" cy="561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4597200" y="1194840"/>
                <a:ext cx="255240" cy="369360"/>
              </a:xfrm>
              <a:custGeom>
                <a:avLst/>
                <a:gdLst/>
                <a:ahLst/>
                <a:rect l="l" t="t" r="r" b="b"/>
                <a:pathLst>
                  <a:path w="408" h="590">
                    <a:moveTo>
                      <a:pt x="408" y="590"/>
                    </a:moveTo>
                    <a:lnTo>
                      <a:pt x="408" y="0"/>
                    </a:lnTo>
                    <a:lnTo>
                      <a:pt x="90" y="0"/>
                    </a:lnTo>
                    <a:lnTo>
                      <a:pt x="45" y="318"/>
                    </a:lnTo>
                    <a:lnTo>
                      <a:pt x="0" y="363"/>
                    </a:lnTo>
                    <a:lnTo>
                      <a:pt x="0" y="590"/>
                    </a:lnTo>
                    <a:lnTo>
                      <a:pt x="408" y="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4626000" y="1450440"/>
                <a:ext cx="170640" cy="113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3944520" y="1052640"/>
                <a:ext cx="624600" cy="3693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4398840" y="1450440"/>
                <a:ext cx="170640" cy="8496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4654080" y="1478520"/>
                <a:ext cx="113400" cy="1130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4229280" y="1479240"/>
                <a:ext cx="113040" cy="1134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4030200" y="1479240"/>
                <a:ext cx="113040" cy="1134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200480" y="1450440"/>
                <a:ext cx="169920" cy="170280"/>
              </a:xfrm>
              <a:prstGeom prst="donut">
                <a:avLst>
                  <a:gd name="adj" fmla="val 24634"/>
                </a:avLst>
              </a:pr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4001400" y="1450440"/>
                <a:ext cx="170280" cy="170280"/>
              </a:xfrm>
              <a:prstGeom prst="donut">
                <a:avLst>
                  <a:gd name="adj" fmla="val 24634"/>
                </a:avLst>
              </a:pr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4626720" y="1450440"/>
                <a:ext cx="169920" cy="170280"/>
              </a:xfrm>
              <a:prstGeom prst="donut">
                <a:avLst>
                  <a:gd name="adj" fmla="val 24634"/>
                </a:avLst>
              </a:pr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710960" y="1222920"/>
                <a:ext cx="85680" cy="170280"/>
              </a:xfrm>
              <a:custGeom>
                <a:avLst/>
                <a:gdLst/>
                <a:ahLst/>
                <a:rect l="l" t="t" r="r" b="b"/>
                <a:pathLst>
                  <a:path w="137" h="272">
                    <a:moveTo>
                      <a:pt x="137" y="0"/>
                    </a:moveTo>
                    <a:lnTo>
                      <a:pt x="46" y="0"/>
                    </a:lnTo>
                    <a:lnTo>
                      <a:pt x="0" y="272"/>
                    </a:lnTo>
                    <a:lnTo>
                      <a:pt x="137" y="272"/>
                    </a:lnTo>
                    <a:lnTo>
                      <a:pt x="13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df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4626000" y="1222920"/>
                <a:ext cx="56880" cy="170280"/>
              </a:xfrm>
              <a:prstGeom prst="rect">
                <a:avLst/>
              </a:prstGeom>
              <a:gradFill rotWithShape="0">
                <a:gsLst>
                  <a:gs pos="0">
                    <a:srgbClr val="c0df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4824720" y="1507320"/>
                <a:ext cx="56880" cy="5688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944520" y="1052640"/>
                <a:ext cx="652680" cy="397800"/>
              </a:xfrm>
              <a:custGeom>
                <a:avLst/>
                <a:gdLst/>
                <a:ahLst/>
                <a:rect l="l" t="t" r="r" b="b"/>
                <a:pathLst>
                  <a:path w="1043" h="635">
                    <a:moveTo>
                      <a:pt x="0" y="0"/>
                    </a:moveTo>
                    <a:lnTo>
                      <a:pt x="45" y="0"/>
                    </a:lnTo>
                    <a:lnTo>
                      <a:pt x="45" y="589"/>
                    </a:lnTo>
                    <a:lnTo>
                      <a:pt x="1043" y="589"/>
                    </a:lnTo>
                    <a:lnTo>
                      <a:pt x="1043" y="635"/>
                    </a:lnTo>
                    <a:lnTo>
                      <a:pt x="0" y="6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3944520" y="1052640"/>
                <a:ext cx="624600" cy="36936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c0c0c0">
                      <a:alpha val="2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 txBox="1"/>
            <p:nvPr/>
          </p:nvSpPr>
          <p:spPr>
            <a:xfrm>
              <a:off x="3994200" y="1101600"/>
              <a:ext cx="471600" cy="2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納品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673600" y="1341360"/>
            <a:ext cx="503280" cy="719280"/>
          </a:xfrm>
          <a:prstGeom prst="borderCallout1">
            <a:avLst>
              <a:gd name="adj1" fmla="val 18750"/>
              <a:gd name="adj2" fmla="val -8333"/>
              <a:gd name="adj3" fmla="val -45916"/>
              <a:gd name="adj4" fmla="val -117981"/>
            </a:avLst>
          </a:prstGeom>
          <a:solidFill>
            <a:srgbClr val="ffff99"/>
          </a:solidFill>
          <a:ln w="25560">
            <a:solidFill>
              <a:srgbClr val="ff66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81240" y="692280"/>
            <a:ext cx="6048360" cy="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7240" y="1341360"/>
            <a:ext cx="503280" cy="719280"/>
          </a:xfrm>
          <a:prstGeom prst="borderCallout1">
            <a:avLst>
              <a:gd name="adj1" fmla="val 18750"/>
              <a:gd name="adj2" fmla="val -8333"/>
              <a:gd name="adj3" fmla="val -45916"/>
              <a:gd name="adj4" fmla="val -117981"/>
            </a:avLst>
          </a:prstGeom>
          <a:solidFill>
            <a:srgbClr val="99ccff"/>
          </a:solidFill>
          <a:ln w="255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29600" y="1341360"/>
            <a:ext cx="503280" cy="719280"/>
          </a:xfrm>
          <a:prstGeom prst="borderCallout1">
            <a:avLst>
              <a:gd name="adj1" fmla="val 18750"/>
              <a:gd name="adj2" fmla="val -8333"/>
              <a:gd name="adj3" fmla="val -45916"/>
              <a:gd name="adj4" fmla="val -117981"/>
            </a:avLst>
          </a:prstGeom>
          <a:solidFill>
            <a:srgbClr val="ffcc99"/>
          </a:solidFill>
          <a:ln w="255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93240" y="1341360"/>
            <a:ext cx="502920" cy="719280"/>
          </a:xfrm>
          <a:prstGeom prst="borderCallout1">
            <a:avLst>
              <a:gd name="adj1" fmla="val 18750"/>
              <a:gd name="adj2" fmla="val -8333"/>
              <a:gd name="adj3" fmla="val -45916"/>
              <a:gd name="adj4" fmla="val -117981"/>
            </a:avLst>
          </a:prstGeom>
          <a:solidFill>
            <a:srgbClr val="ccff99"/>
          </a:solidFill>
          <a:ln w="25560">
            <a:solidFill>
              <a:srgbClr val="008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985240" y="1341360"/>
            <a:ext cx="503280" cy="719280"/>
          </a:xfrm>
          <a:prstGeom prst="borderCallout1">
            <a:avLst>
              <a:gd name="adj1" fmla="val 18750"/>
              <a:gd name="adj2" fmla="val -8333"/>
              <a:gd name="adj3" fmla="val -45916"/>
              <a:gd name="adj4" fmla="val -117981"/>
            </a:avLst>
          </a:prstGeom>
          <a:solidFill>
            <a:srgbClr val="eaeaea"/>
          </a:solidFill>
          <a:ln w="25560">
            <a:solidFill>
              <a:srgbClr val="33333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568520" y="1700280"/>
            <a:ext cx="792000" cy="576360"/>
            <a:chOff x="1568520" y="1700280"/>
            <a:chExt cx="792000" cy="576360"/>
          </a:xfrm>
        </p:grpSpPr>
        <p:grpSp>
          <p:nvGrpSpPr>
            <p:cNvPr id="225" name=""/>
            <p:cNvGrpSpPr/>
            <p:nvPr/>
          </p:nvGrpSpPr>
          <p:grpSpPr>
            <a:xfrm>
              <a:off x="1568520" y="1700280"/>
              <a:ext cx="792000" cy="576360"/>
              <a:chOff x="1568520" y="1700280"/>
              <a:chExt cx="792000" cy="576360"/>
            </a:xfrm>
          </p:grpSpPr>
          <p:sp>
            <p:nvSpPr>
              <p:cNvPr id="226" name=""/>
              <p:cNvSpPr/>
              <p:nvPr/>
            </p:nvSpPr>
            <p:spPr>
              <a:xfrm>
                <a:off x="1568520" y="1700280"/>
                <a:ext cx="792000" cy="576360"/>
              </a:xfrm>
              <a:custGeom>
                <a:avLst/>
                <a:gdLst/>
                <a:ahLst/>
                <a:rect l="l" t="t" r="r" b="b"/>
                <a:pathLst>
                  <a:path w="499" h="363">
                    <a:moveTo>
                      <a:pt x="0" y="137"/>
                    </a:moveTo>
                    <a:lnTo>
                      <a:pt x="136" y="0"/>
                    </a:lnTo>
                    <a:lnTo>
                      <a:pt x="499" y="0"/>
                    </a:lnTo>
                    <a:lnTo>
                      <a:pt x="499" y="227"/>
                    </a:lnTo>
                    <a:lnTo>
                      <a:pt x="363" y="363"/>
                    </a:lnTo>
                    <a:lnTo>
                      <a:pt x="0" y="363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568520" y="1918080"/>
                <a:ext cx="576000" cy="358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84160" y="1702080"/>
                <a:ext cx="287640" cy="360360"/>
              </a:xfrm>
              <a:custGeom>
                <a:avLst/>
                <a:gdLst/>
                <a:ahLst/>
                <a:rect l="l" t="t" r="r" b="b"/>
                <a:pathLst>
                  <a:path w="181" h="227">
                    <a:moveTo>
                      <a:pt x="136" y="0"/>
                    </a:moveTo>
                    <a:lnTo>
                      <a:pt x="0" y="136"/>
                    </a:lnTo>
                    <a:lnTo>
                      <a:pt x="0" y="227"/>
                    </a:lnTo>
                    <a:lnTo>
                      <a:pt x="45" y="227"/>
                    </a:lnTo>
                    <a:lnTo>
                      <a:pt x="45" y="136"/>
                    </a:lnTo>
                    <a:lnTo>
                      <a:pt x="181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 txBox="1"/>
            <p:nvPr/>
          </p:nvSpPr>
          <p:spPr>
            <a:xfrm>
              <a:off x="1630080" y="1960920"/>
              <a:ext cx="471240" cy="2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納品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76160" y="1054080"/>
            <a:ext cx="792000" cy="576360"/>
            <a:chOff x="776160" y="1054080"/>
            <a:chExt cx="792000" cy="576360"/>
          </a:xfrm>
        </p:grpSpPr>
        <p:grpSp>
          <p:nvGrpSpPr>
            <p:cNvPr id="231" name=""/>
            <p:cNvGrpSpPr/>
            <p:nvPr/>
          </p:nvGrpSpPr>
          <p:grpSpPr>
            <a:xfrm>
              <a:off x="776160" y="1054080"/>
              <a:ext cx="792000" cy="576360"/>
              <a:chOff x="776160" y="1054080"/>
              <a:chExt cx="792000" cy="576360"/>
            </a:xfrm>
          </p:grpSpPr>
          <p:sp>
            <p:nvSpPr>
              <p:cNvPr id="232" name=""/>
              <p:cNvSpPr/>
              <p:nvPr/>
            </p:nvSpPr>
            <p:spPr>
              <a:xfrm>
                <a:off x="776160" y="1054080"/>
                <a:ext cx="792000" cy="576360"/>
              </a:xfrm>
              <a:custGeom>
                <a:avLst/>
                <a:gdLst/>
                <a:ahLst/>
                <a:rect l="l" t="t" r="r" b="b"/>
                <a:pathLst>
                  <a:path w="499" h="363">
                    <a:moveTo>
                      <a:pt x="0" y="137"/>
                    </a:moveTo>
                    <a:lnTo>
                      <a:pt x="136" y="0"/>
                    </a:lnTo>
                    <a:lnTo>
                      <a:pt x="499" y="0"/>
                    </a:lnTo>
                    <a:lnTo>
                      <a:pt x="499" y="227"/>
                    </a:lnTo>
                    <a:lnTo>
                      <a:pt x="363" y="363"/>
                    </a:lnTo>
                    <a:lnTo>
                      <a:pt x="0" y="363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76160" y="1271880"/>
                <a:ext cx="576000" cy="358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991800" y="1055880"/>
                <a:ext cx="287640" cy="360360"/>
              </a:xfrm>
              <a:custGeom>
                <a:avLst/>
                <a:gdLst/>
                <a:ahLst/>
                <a:rect l="l" t="t" r="r" b="b"/>
                <a:pathLst>
                  <a:path w="181" h="227">
                    <a:moveTo>
                      <a:pt x="136" y="0"/>
                    </a:moveTo>
                    <a:lnTo>
                      <a:pt x="0" y="136"/>
                    </a:lnTo>
                    <a:lnTo>
                      <a:pt x="0" y="227"/>
                    </a:lnTo>
                    <a:lnTo>
                      <a:pt x="45" y="227"/>
                    </a:lnTo>
                    <a:lnTo>
                      <a:pt x="45" y="136"/>
                    </a:lnTo>
                    <a:lnTo>
                      <a:pt x="181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 txBox="1"/>
            <p:nvPr/>
          </p:nvSpPr>
          <p:spPr>
            <a:xfrm>
              <a:off x="838080" y="1314720"/>
              <a:ext cx="471600" cy="2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宅配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568520" y="1052640"/>
            <a:ext cx="792000" cy="576000"/>
            <a:chOff x="1568520" y="1052640"/>
            <a:chExt cx="792000" cy="576000"/>
          </a:xfrm>
        </p:grpSpPr>
        <p:grpSp>
          <p:nvGrpSpPr>
            <p:cNvPr id="237" name=""/>
            <p:cNvGrpSpPr/>
            <p:nvPr/>
          </p:nvGrpSpPr>
          <p:grpSpPr>
            <a:xfrm>
              <a:off x="1568520" y="1052640"/>
              <a:ext cx="792000" cy="576000"/>
              <a:chOff x="1568520" y="1052640"/>
              <a:chExt cx="792000" cy="576000"/>
            </a:xfrm>
          </p:grpSpPr>
          <p:sp>
            <p:nvSpPr>
              <p:cNvPr id="238" name=""/>
              <p:cNvSpPr/>
              <p:nvPr/>
            </p:nvSpPr>
            <p:spPr>
              <a:xfrm>
                <a:off x="1568520" y="1052640"/>
                <a:ext cx="792000" cy="576000"/>
              </a:xfrm>
              <a:custGeom>
                <a:avLst/>
                <a:gdLst/>
                <a:ahLst/>
                <a:rect l="l" t="t" r="r" b="b"/>
                <a:pathLst>
                  <a:path w="499" h="363">
                    <a:moveTo>
                      <a:pt x="0" y="137"/>
                    </a:moveTo>
                    <a:lnTo>
                      <a:pt x="136" y="0"/>
                    </a:lnTo>
                    <a:lnTo>
                      <a:pt x="499" y="0"/>
                    </a:lnTo>
                    <a:lnTo>
                      <a:pt x="499" y="227"/>
                    </a:lnTo>
                    <a:lnTo>
                      <a:pt x="363" y="363"/>
                    </a:lnTo>
                    <a:lnTo>
                      <a:pt x="0" y="363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8520" y="1270080"/>
                <a:ext cx="576000" cy="3582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784160" y="1054080"/>
                <a:ext cx="287640" cy="360000"/>
              </a:xfrm>
              <a:custGeom>
                <a:avLst/>
                <a:gdLst/>
                <a:ahLst/>
                <a:rect l="l" t="t" r="r" b="b"/>
                <a:pathLst>
                  <a:path w="181" h="227">
                    <a:moveTo>
                      <a:pt x="136" y="0"/>
                    </a:moveTo>
                    <a:lnTo>
                      <a:pt x="0" y="136"/>
                    </a:lnTo>
                    <a:lnTo>
                      <a:pt x="0" y="227"/>
                    </a:lnTo>
                    <a:lnTo>
                      <a:pt x="45" y="227"/>
                    </a:lnTo>
                    <a:lnTo>
                      <a:pt x="45" y="136"/>
                    </a:lnTo>
                    <a:lnTo>
                      <a:pt x="181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 txBox="1"/>
            <p:nvPr/>
          </p:nvSpPr>
          <p:spPr>
            <a:xfrm>
              <a:off x="1630080" y="1312920"/>
              <a:ext cx="471240" cy="26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配達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627360" y="2781360"/>
            <a:ext cx="692280" cy="291960"/>
            <a:chOff x="3627360" y="2781360"/>
            <a:chExt cx="692280" cy="291960"/>
          </a:xfrm>
        </p:grpSpPr>
        <p:sp>
          <p:nvSpPr>
            <p:cNvPr id="243" name=""/>
            <p:cNvSpPr/>
            <p:nvPr/>
          </p:nvSpPr>
          <p:spPr>
            <a:xfrm>
              <a:off x="3627360" y="2781360"/>
              <a:ext cx="69228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64080" y="2819520"/>
              <a:ext cx="61272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627360" y="3139920"/>
            <a:ext cx="692280" cy="291960"/>
            <a:chOff x="3627360" y="3139920"/>
            <a:chExt cx="692280" cy="291960"/>
          </a:xfrm>
        </p:grpSpPr>
        <p:sp>
          <p:nvSpPr>
            <p:cNvPr id="246" name=""/>
            <p:cNvSpPr/>
            <p:nvPr/>
          </p:nvSpPr>
          <p:spPr>
            <a:xfrm>
              <a:off x="3627360" y="3139920"/>
              <a:ext cx="69228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64080" y="3178080"/>
              <a:ext cx="61272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627360" y="3505320"/>
            <a:ext cx="692280" cy="291960"/>
            <a:chOff x="3627360" y="3505320"/>
            <a:chExt cx="692280" cy="291960"/>
          </a:xfrm>
        </p:grpSpPr>
        <p:sp>
          <p:nvSpPr>
            <p:cNvPr id="249" name=""/>
            <p:cNvSpPr/>
            <p:nvPr/>
          </p:nvSpPr>
          <p:spPr>
            <a:xfrm>
              <a:off x="3627360" y="3505320"/>
              <a:ext cx="69228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64080" y="3543480"/>
              <a:ext cx="61272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627360" y="3863880"/>
            <a:ext cx="692280" cy="291960"/>
            <a:chOff x="3627360" y="3863880"/>
            <a:chExt cx="692280" cy="291960"/>
          </a:xfrm>
        </p:grpSpPr>
        <p:sp>
          <p:nvSpPr>
            <p:cNvPr id="252" name=""/>
            <p:cNvSpPr/>
            <p:nvPr/>
          </p:nvSpPr>
          <p:spPr>
            <a:xfrm>
              <a:off x="3627360" y="3863880"/>
              <a:ext cx="69228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64080" y="3902040"/>
              <a:ext cx="61272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627360" y="4224240"/>
            <a:ext cx="692280" cy="291960"/>
            <a:chOff x="3627360" y="4224240"/>
            <a:chExt cx="692280" cy="291960"/>
          </a:xfrm>
        </p:grpSpPr>
        <p:sp>
          <p:nvSpPr>
            <p:cNvPr id="255" name=""/>
            <p:cNvSpPr/>
            <p:nvPr/>
          </p:nvSpPr>
          <p:spPr>
            <a:xfrm>
              <a:off x="3627360" y="4224240"/>
              <a:ext cx="69228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64080" y="4262400"/>
              <a:ext cx="61272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376880" y="2784600"/>
            <a:ext cx="691920" cy="291960"/>
            <a:chOff x="4376880" y="2784600"/>
            <a:chExt cx="691920" cy="291960"/>
          </a:xfrm>
        </p:grpSpPr>
        <p:sp>
          <p:nvSpPr>
            <p:cNvPr id="258" name=""/>
            <p:cNvSpPr/>
            <p:nvPr/>
          </p:nvSpPr>
          <p:spPr>
            <a:xfrm>
              <a:off x="4376880" y="2784600"/>
              <a:ext cx="69192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3240" y="2822760"/>
              <a:ext cx="61236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376880" y="3139920"/>
            <a:ext cx="691920" cy="291960"/>
            <a:chOff x="4376880" y="3139920"/>
            <a:chExt cx="691920" cy="291960"/>
          </a:xfrm>
        </p:grpSpPr>
        <p:sp>
          <p:nvSpPr>
            <p:cNvPr id="261" name=""/>
            <p:cNvSpPr/>
            <p:nvPr/>
          </p:nvSpPr>
          <p:spPr>
            <a:xfrm>
              <a:off x="4376880" y="3139920"/>
              <a:ext cx="69192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13240" y="3178080"/>
              <a:ext cx="61236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376880" y="3500280"/>
            <a:ext cx="691920" cy="291960"/>
            <a:chOff x="4376880" y="3500280"/>
            <a:chExt cx="691920" cy="291960"/>
          </a:xfrm>
        </p:grpSpPr>
        <p:sp>
          <p:nvSpPr>
            <p:cNvPr id="264" name=""/>
            <p:cNvSpPr/>
            <p:nvPr/>
          </p:nvSpPr>
          <p:spPr>
            <a:xfrm>
              <a:off x="4376880" y="3500280"/>
              <a:ext cx="69192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13240" y="3538440"/>
              <a:ext cx="61236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376880" y="3860640"/>
            <a:ext cx="691920" cy="291960"/>
            <a:chOff x="4376880" y="3860640"/>
            <a:chExt cx="691920" cy="291960"/>
          </a:xfrm>
        </p:grpSpPr>
        <p:sp>
          <p:nvSpPr>
            <p:cNvPr id="267" name=""/>
            <p:cNvSpPr/>
            <p:nvPr/>
          </p:nvSpPr>
          <p:spPr>
            <a:xfrm>
              <a:off x="4376880" y="3860640"/>
              <a:ext cx="69192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13240" y="3898800"/>
              <a:ext cx="61236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376880" y="4221000"/>
            <a:ext cx="691920" cy="291960"/>
            <a:chOff x="4376880" y="4221000"/>
            <a:chExt cx="691920" cy="291960"/>
          </a:xfrm>
        </p:grpSpPr>
        <p:sp>
          <p:nvSpPr>
            <p:cNvPr id="270" name=""/>
            <p:cNvSpPr/>
            <p:nvPr/>
          </p:nvSpPr>
          <p:spPr>
            <a:xfrm>
              <a:off x="4376880" y="4221000"/>
              <a:ext cx="69192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3240" y="4259160"/>
              <a:ext cx="61236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8480520" y="3141720"/>
            <a:ext cx="271080" cy="604080"/>
            <a:chOff x="8480520" y="3141720"/>
            <a:chExt cx="271080" cy="604080"/>
          </a:xfrm>
        </p:grpSpPr>
        <p:grpSp>
          <p:nvGrpSpPr>
            <p:cNvPr id="273" name=""/>
            <p:cNvGrpSpPr/>
            <p:nvPr/>
          </p:nvGrpSpPr>
          <p:grpSpPr>
            <a:xfrm>
              <a:off x="8481960" y="3141720"/>
              <a:ext cx="269640" cy="604080"/>
              <a:chOff x="8481960" y="3141720"/>
              <a:chExt cx="269640" cy="604080"/>
            </a:xfrm>
          </p:grpSpPr>
          <p:sp>
            <p:nvSpPr>
              <p:cNvPr id="274" name=""/>
              <p:cNvSpPr/>
              <p:nvPr/>
            </p:nvSpPr>
            <p:spPr>
              <a:xfrm rot="16200000">
                <a:off x="8470800" y="3165480"/>
                <a:ext cx="304560" cy="257040"/>
              </a:xfrm>
              <a:prstGeom prst="flowChartDelay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8481960" y="3360600"/>
                <a:ext cx="269640" cy="385200"/>
                <a:chOff x="8481960" y="3360600"/>
                <a:chExt cx="269640" cy="3852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8481960" y="3431520"/>
                  <a:ext cx="269640" cy="314280"/>
                </a:xfrm>
                <a:prstGeom prst="can">
                  <a:avLst>
                    <a:gd name="adj" fmla="val 50000"/>
                  </a:avLst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481960" y="3360600"/>
                  <a:ext cx="269640" cy="31536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8613720" y="3387600"/>
                <a:ext cx="64800" cy="19332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0" y="9"/>
                    </a:moveTo>
                    <a:lnTo>
                      <a:pt x="28" y="122"/>
                    </a:lnTo>
                    <a:lnTo>
                      <a:pt x="4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526240" y="3176280"/>
                <a:ext cx="223920" cy="2253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632800" y="3193920"/>
                <a:ext cx="91800" cy="91800"/>
              </a:xfrm>
              <a:prstGeom prst="ellipse">
                <a:avLst/>
              </a:prstGeom>
              <a:solidFill>
                <a:srgbClr val="333333">
                  <a:alpha val="60000"/>
                </a:srgbClr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627760" y="325116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697600" y="325116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6200000">
                <a:off x="8414640" y="3243240"/>
                <a:ext cx="269640" cy="135000"/>
              </a:xfrm>
              <a:prstGeom prst="flowChartDelay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8480520" y="3141720"/>
              <a:ext cx="269640" cy="604080"/>
              <a:chOff x="8480520" y="3141720"/>
              <a:chExt cx="269640" cy="604080"/>
            </a:xfrm>
          </p:grpSpPr>
          <p:sp>
            <p:nvSpPr>
              <p:cNvPr id="285" name=""/>
              <p:cNvSpPr/>
              <p:nvPr/>
            </p:nvSpPr>
            <p:spPr>
              <a:xfrm rot="16200000">
                <a:off x="8469360" y="3165480"/>
                <a:ext cx="304560" cy="257040"/>
              </a:xfrm>
              <a:prstGeom prst="flowChartDelay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8480520" y="3360600"/>
                <a:ext cx="269640" cy="385200"/>
                <a:chOff x="8480520" y="3360600"/>
                <a:chExt cx="269640" cy="38520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8480520" y="3431520"/>
                  <a:ext cx="269640" cy="314280"/>
                </a:xfrm>
                <a:prstGeom prst="can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75465e"/>
                    </a:gs>
                    <a:gs pos="50000">
                      <a:srgbClr val="ff99cc"/>
                    </a:gs>
                    <a:gs pos="100000">
                      <a:srgbClr val="75465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480520" y="3360600"/>
                  <a:ext cx="269640" cy="31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5e"/>
                    </a:gs>
                    <a:gs pos="50000">
                      <a:srgbClr val="ff99cc"/>
                    </a:gs>
                    <a:gs pos="100000">
                      <a:srgbClr val="75465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"/>
              <p:cNvSpPr/>
              <p:nvPr/>
            </p:nvSpPr>
            <p:spPr>
              <a:xfrm>
                <a:off x="8612280" y="3387600"/>
                <a:ext cx="64800" cy="19332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0" y="9"/>
                    </a:moveTo>
                    <a:lnTo>
                      <a:pt x="28" y="122"/>
                    </a:lnTo>
                    <a:lnTo>
                      <a:pt x="4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524800" y="3176280"/>
                <a:ext cx="223920" cy="2253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631360" y="3193920"/>
                <a:ext cx="91800" cy="91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626320" y="325116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696160" y="325116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6200000">
                <a:off x="8413200" y="3243240"/>
                <a:ext cx="269640" cy="135000"/>
              </a:xfrm>
              <a:prstGeom prst="flowChartDelay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7761240" y="3136680"/>
            <a:ext cx="271440" cy="613800"/>
            <a:chOff x="7761240" y="3136680"/>
            <a:chExt cx="271440" cy="613800"/>
          </a:xfrm>
        </p:grpSpPr>
        <p:grpSp>
          <p:nvGrpSpPr>
            <p:cNvPr id="296" name=""/>
            <p:cNvGrpSpPr/>
            <p:nvPr/>
          </p:nvGrpSpPr>
          <p:grpSpPr>
            <a:xfrm>
              <a:off x="7763040" y="3136680"/>
              <a:ext cx="269640" cy="613800"/>
              <a:chOff x="7763040" y="3136680"/>
              <a:chExt cx="269640" cy="613800"/>
            </a:xfrm>
          </p:grpSpPr>
          <p:sp>
            <p:nvSpPr>
              <p:cNvPr id="297" name=""/>
              <p:cNvSpPr/>
              <p:nvPr/>
            </p:nvSpPr>
            <p:spPr>
              <a:xfrm rot="16200000">
                <a:off x="7791480" y="3120840"/>
                <a:ext cx="225000" cy="256680"/>
              </a:xfrm>
              <a:prstGeom prst="flowChartDelay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7763040" y="3365280"/>
                <a:ext cx="269640" cy="385200"/>
                <a:chOff x="7763040" y="3365280"/>
                <a:chExt cx="269640" cy="38520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7763040" y="3436200"/>
                  <a:ext cx="269640" cy="314280"/>
                </a:xfrm>
                <a:prstGeom prst="can">
                  <a:avLst>
                    <a:gd name="adj" fmla="val 50000"/>
                  </a:avLst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763040" y="3365280"/>
                  <a:ext cx="269640" cy="31536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7899480" y="3392280"/>
                <a:ext cx="64440" cy="19332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0" y="9"/>
                    </a:moveTo>
                    <a:lnTo>
                      <a:pt x="28" y="122"/>
                    </a:lnTo>
                    <a:lnTo>
                      <a:pt x="4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808760" y="3180960"/>
                <a:ext cx="223560" cy="2253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915320" y="3198600"/>
                <a:ext cx="91440" cy="91800"/>
              </a:xfrm>
              <a:prstGeom prst="ellipse">
                <a:avLst/>
              </a:prstGeom>
              <a:solidFill>
                <a:srgbClr val="333333">
                  <a:alpha val="60000"/>
                </a:srgbClr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910280" y="3255840"/>
                <a:ext cx="23760" cy="471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80120" y="3255840"/>
                <a:ext cx="23760" cy="471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6200000">
                <a:off x="7713000" y="3221640"/>
                <a:ext cx="234720" cy="134640"/>
              </a:xfrm>
              <a:prstGeom prst="flowChartDelay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761240" y="3136680"/>
              <a:ext cx="270000" cy="613800"/>
              <a:chOff x="7761240" y="3136680"/>
              <a:chExt cx="270000" cy="613800"/>
            </a:xfrm>
          </p:grpSpPr>
          <p:sp>
            <p:nvSpPr>
              <p:cNvPr id="308" name=""/>
              <p:cNvSpPr/>
              <p:nvPr/>
            </p:nvSpPr>
            <p:spPr>
              <a:xfrm rot="16200000">
                <a:off x="7790040" y="3120480"/>
                <a:ext cx="225000" cy="257040"/>
              </a:xfrm>
              <a:prstGeom prst="flowChartDelay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7761240" y="3365280"/>
                <a:ext cx="270000" cy="385200"/>
                <a:chOff x="7761240" y="3365280"/>
                <a:chExt cx="270000" cy="3852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7761240" y="3436200"/>
                  <a:ext cx="270000" cy="314280"/>
                </a:xfrm>
                <a:prstGeom prst="can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2f7575"/>
                    </a:gs>
                    <a:gs pos="50000">
                      <a:srgbClr val="66ffff"/>
                    </a:gs>
                    <a:gs pos="100000">
                      <a:srgbClr val="2f757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761240" y="3365280"/>
                  <a:ext cx="270000" cy="31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7575"/>
                    </a:gs>
                    <a:gs pos="50000">
                      <a:srgbClr val="66ffff"/>
                    </a:gs>
                    <a:gs pos="100000">
                      <a:srgbClr val="2f757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"/>
              <p:cNvSpPr/>
              <p:nvPr/>
            </p:nvSpPr>
            <p:spPr>
              <a:xfrm>
                <a:off x="7898040" y="3392280"/>
                <a:ext cx="64800" cy="19332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0" y="9"/>
                    </a:moveTo>
                    <a:lnTo>
                      <a:pt x="28" y="122"/>
                    </a:lnTo>
                    <a:lnTo>
                      <a:pt x="4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807320" y="3180960"/>
                <a:ext cx="223920" cy="2253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913880" y="3198600"/>
                <a:ext cx="91800" cy="91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908840" y="325584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978680" y="325584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6200000">
                <a:off x="7711200" y="3221280"/>
                <a:ext cx="234720" cy="135000"/>
              </a:xfrm>
              <a:prstGeom prst="flowChartDelay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9201240" y="3139920"/>
            <a:ext cx="271080" cy="605880"/>
            <a:chOff x="9201240" y="3139920"/>
            <a:chExt cx="271080" cy="605880"/>
          </a:xfrm>
        </p:grpSpPr>
        <p:grpSp>
          <p:nvGrpSpPr>
            <p:cNvPr id="319" name=""/>
            <p:cNvGrpSpPr/>
            <p:nvPr/>
          </p:nvGrpSpPr>
          <p:grpSpPr>
            <a:xfrm>
              <a:off x="9202680" y="3139920"/>
              <a:ext cx="269640" cy="605880"/>
              <a:chOff x="9202680" y="3139920"/>
              <a:chExt cx="269640" cy="605880"/>
            </a:xfrm>
          </p:grpSpPr>
          <p:sp>
            <p:nvSpPr>
              <p:cNvPr id="320" name=""/>
              <p:cNvSpPr/>
              <p:nvPr/>
            </p:nvSpPr>
            <p:spPr>
              <a:xfrm rot="16200000">
                <a:off x="9191520" y="3165480"/>
                <a:ext cx="304560" cy="257040"/>
              </a:xfrm>
              <a:prstGeom prst="flowChartDelay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9202680" y="3360600"/>
                <a:ext cx="268200" cy="385200"/>
                <a:chOff x="9202680" y="3360600"/>
                <a:chExt cx="268200" cy="3852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9202680" y="3431520"/>
                  <a:ext cx="268200" cy="314280"/>
                </a:xfrm>
                <a:prstGeom prst="can">
                  <a:avLst>
                    <a:gd name="adj" fmla="val 50000"/>
                  </a:avLst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9202680" y="3360600"/>
                  <a:ext cx="268200" cy="31536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9339120" y="3387600"/>
                <a:ext cx="65160" cy="19332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0" y="9"/>
                    </a:moveTo>
                    <a:lnTo>
                      <a:pt x="28" y="122"/>
                    </a:lnTo>
                    <a:lnTo>
                      <a:pt x="4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9248760" y="3176280"/>
                <a:ext cx="223560" cy="2253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9353520" y="3193920"/>
                <a:ext cx="91800" cy="91800"/>
              </a:xfrm>
              <a:prstGeom prst="ellipse">
                <a:avLst/>
              </a:prstGeom>
              <a:solidFill>
                <a:srgbClr val="333333">
                  <a:alpha val="60000"/>
                </a:srgbClr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9348480" y="325116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9418320" y="325116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9135000" y="3243240"/>
                <a:ext cx="269640" cy="134640"/>
              </a:xfrm>
              <a:prstGeom prst="flowChartDelay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8100000">
                <a:off x="9332640" y="3146040"/>
                <a:ext cx="68400" cy="121680"/>
              </a:xfrm>
              <a:custGeom>
                <a:avLst/>
                <a:gdLst>
                  <a:gd name="textAreaLeft" fmla="*/ 0 w 68400"/>
                  <a:gd name="textAreaRight" fmla="*/ 53280 w 68400"/>
                  <a:gd name="textAreaTop" fmla="*/ 54720 h 121680"/>
                  <a:gd name="textAreaBottom" fmla="*/ 66960 h 12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9173" y="3004"/>
                      <a:pt x="16746" y="5080"/>
                      <a:pt x="16746" y="10800"/>
                    </a:cubicBezTo>
                    <a:cubicBezTo>
                      <a:pt x="16746" y="16520"/>
                      <a:pt x="19173" y="1859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9201240" y="3139920"/>
              <a:ext cx="269640" cy="605880"/>
              <a:chOff x="9201240" y="3139920"/>
              <a:chExt cx="269640" cy="605880"/>
            </a:xfrm>
          </p:grpSpPr>
          <p:sp>
            <p:nvSpPr>
              <p:cNvPr id="332" name=""/>
              <p:cNvSpPr/>
              <p:nvPr/>
            </p:nvSpPr>
            <p:spPr>
              <a:xfrm rot="16200000">
                <a:off x="9190080" y="3165480"/>
                <a:ext cx="304560" cy="257040"/>
              </a:xfrm>
              <a:prstGeom prst="flowChartDelay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9201240" y="3360600"/>
                <a:ext cx="268200" cy="385200"/>
                <a:chOff x="9201240" y="3360600"/>
                <a:chExt cx="268200" cy="3852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9201240" y="3431520"/>
                  <a:ext cx="268200" cy="314280"/>
                </a:xfrm>
                <a:prstGeom prst="can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460000"/>
                    </a:gs>
                    <a:gs pos="50000">
                      <a:srgbClr val="990000"/>
                    </a:gs>
                    <a:gs pos="100000">
                      <a:srgbClr val="46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9201240" y="3360600"/>
                  <a:ext cx="268200" cy="31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0000"/>
                    </a:gs>
                    <a:gs pos="50000">
                      <a:srgbClr val="990000"/>
                    </a:gs>
                    <a:gs pos="100000">
                      <a:srgbClr val="46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9337680" y="3387600"/>
                <a:ext cx="65160" cy="19332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0" y="9"/>
                    </a:moveTo>
                    <a:lnTo>
                      <a:pt x="28" y="122"/>
                    </a:lnTo>
                    <a:lnTo>
                      <a:pt x="4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9247320" y="3176280"/>
                <a:ext cx="223560" cy="2253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9352080" y="3193920"/>
                <a:ext cx="91800" cy="91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9347040" y="325116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9416880" y="325116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6200000">
                <a:off x="9133560" y="3243240"/>
                <a:ext cx="269640" cy="134640"/>
              </a:xfrm>
              <a:prstGeom prst="flowChartDelay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8100000">
                <a:off x="9331200" y="3146040"/>
                <a:ext cx="68400" cy="121680"/>
              </a:xfrm>
              <a:custGeom>
                <a:avLst/>
                <a:gdLst>
                  <a:gd name="textAreaLeft" fmla="*/ 0 w 68400"/>
                  <a:gd name="textAreaRight" fmla="*/ 53280 w 68400"/>
                  <a:gd name="textAreaTop" fmla="*/ 54720 h 121680"/>
                  <a:gd name="textAreaBottom" fmla="*/ 66960 h 12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9173" y="3004"/>
                      <a:pt x="16746" y="5080"/>
                      <a:pt x="16746" y="10800"/>
                    </a:cubicBezTo>
                    <a:cubicBezTo>
                      <a:pt x="16746" y="16520"/>
                      <a:pt x="19173" y="1859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3" name=""/>
          <p:cNvGrpSpPr/>
          <p:nvPr/>
        </p:nvGrpSpPr>
        <p:grpSpPr>
          <a:xfrm>
            <a:off x="8840880" y="3130920"/>
            <a:ext cx="271080" cy="619560"/>
            <a:chOff x="8840880" y="3130920"/>
            <a:chExt cx="271080" cy="619560"/>
          </a:xfrm>
        </p:grpSpPr>
        <p:grpSp>
          <p:nvGrpSpPr>
            <p:cNvPr id="344" name=""/>
            <p:cNvGrpSpPr/>
            <p:nvPr/>
          </p:nvGrpSpPr>
          <p:grpSpPr>
            <a:xfrm>
              <a:off x="8842320" y="3130920"/>
              <a:ext cx="269640" cy="619560"/>
              <a:chOff x="8842320" y="3130920"/>
              <a:chExt cx="269640" cy="619560"/>
            </a:xfrm>
          </p:grpSpPr>
          <p:sp>
            <p:nvSpPr>
              <p:cNvPr id="345" name=""/>
              <p:cNvSpPr/>
              <p:nvPr/>
            </p:nvSpPr>
            <p:spPr>
              <a:xfrm rot="16200000">
                <a:off x="8831160" y="3169800"/>
                <a:ext cx="304560" cy="257040"/>
              </a:xfrm>
              <a:prstGeom prst="flowChartDelay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8842320" y="3365280"/>
                <a:ext cx="269640" cy="385200"/>
                <a:chOff x="8842320" y="3365280"/>
                <a:chExt cx="269640" cy="3852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8842320" y="3436200"/>
                  <a:ext cx="269640" cy="314280"/>
                </a:xfrm>
                <a:prstGeom prst="can">
                  <a:avLst>
                    <a:gd name="adj" fmla="val 50000"/>
                  </a:avLst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8842320" y="3365280"/>
                  <a:ext cx="269640" cy="31536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"/>
              <p:cNvSpPr/>
              <p:nvPr/>
            </p:nvSpPr>
            <p:spPr>
              <a:xfrm>
                <a:off x="8975520" y="3392280"/>
                <a:ext cx="65160" cy="19332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0" y="9"/>
                    </a:moveTo>
                    <a:lnTo>
                      <a:pt x="28" y="122"/>
                    </a:lnTo>
                    <a:lnTo>
                      <a:pt x="4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886600" y="3180960"/>
                <a:ext cx="223920" cy="2253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993160" y="3198600"/>
                <a:ext cx="91800" cy="91800"/>
              </a:xfrm>
              <a:prstGeom prst="ellipse">
                <a:avLst/>
              </a:prstGeom>
              <a:solidFill>
                <a:srgbClr val="333333">
                  <a:alpha val="60000"/>
                </a:srgbClr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988120" y="325584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9057960" y="325584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6200000">
                <a:off x="8775000" y="3247920"/>
                <a:ext cx="269640" cy="135000"/>
              </a:xfrm>
              <a:prstGeom prst="flowChartDelay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"/>
              <p:cNvGrpSpPr/>
              <p:nvPr/>
            </p:nvGrpSpPr>
            <p:grpSpPr>
              <a:xfrm>
                <a:off x="8899560" y="3130920"/>
                <a:ext cx="178560" cy="141480"/>
                <a:chOff x="8899560" y="3130920"/>
                <a:chExt cx="178560" cy="141480"/>
              </a:xfrm>
            </p:grpSpPr>
            <p:sp>
              <p:nvSpPr>
                <p:cNvPr id="356" name=""/>
                <p:cNvSpPr/>
                <p:nvPr/>
              </p:nvSpPr>
              <p:spPr>
                <a:xfrm rot="8100000">
                  <a:off x="8976960" y="3137040"/>
                  <a:ext cx="68040" cy="121680"/>
                </a:xfrm>
                <a:custGeom>
                  <a:avLst/>
                  <a:gdLst>
                    <a:gd name="textAreaLeft" fmla="*/ 0 w 68040"/>
                    <a:gd name="textAreaRight" fmla="*/ 52920 w 68040"/>
                    <a:gd name="textAreaTop" fmla="*/ 54720 h 121680"/>
                    <a:gd name="textAreaBottom" fmla="*/ 66960 h 121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9173" y="3004"/>
                        <a:pt x="16746" y="5080"/>
                        <a:pt x="16746" y="10800"/>
                      </a:cubicBezTo>
                      <a:cubicBezTo>
                        <a:pt x="16746" y="16520"/>
                        <a:pt x="19173" y="18596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8100000">
                  <a:off x="8932320" y="3143880"/>
                  <a:ext cx="68400" cy="122040"/>
                </a:xfrm>
                <a:custGeom>
                  <a:avLst/>
                  <a:gdLst>
                    <a:gd name="textAreaLeft" fmla="*/ 0 w 68400"/>
                    <a:gd name="textAreaRight" fmla="*/ 53280 w 68400"/>
                    <a:gd name="textAreaTop" fmla="*/ 55080 h 122040"/>
                    <a:gd name="textAreaBottom" fmla="*/ 66960 h 122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9173" y="3004"/>
                        <a:pt x="16746" y="5080"/>
                        <a:pt x="16746" y="10800"/>
                      </a:cubicBezTo>
                      <a:cubicBezTo>
                        <a:pt x="16746" y="16520"/>
                        <a:pt x="19173" y="18596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8840880" y="3130920"/>
              <a:ext cx="269640" cy="619560"/>
              <a:chOff x="8840880" y="3130920"/>
              <a:chExt cx="269640" cy="619560"/>
            </a:xfrm>
          </p:grpSpPr>
          <p:sp>
            <p:nvSpPr>
              <p:cNvPr id="359" name=""/>
              <p:cNvSpPr/>
              <p:nvPr/>
            </p:nvSpPr>
            <p:spPr>
              <a:xfrm rot="16200000">
                <a:off x="8829720" y="3169800"/>
                <a:ext cx="304560" cy="257040"/>
              </a:xfrm>
              <a:prstGeom prst="flowChartDelay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8840880" y="3365280"/>
                <a:ext cx="269640" cy="385200"/>
                <a:chOff x="8840880" y="3365280"/>
                <a:chExt cx="269640" cy="3852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8840880" y="3436200"/>
                  <a:ext cx="269640" cy="314280"/>
                </a:xfrm>
                <a:prstGeom prst="can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752f75"/>
                    </a:gs>
                    <a:gs pos="50000">
                      <a:srgbClr val="ff66ff"/>
                    </a:gs>
                    <a:gs pos="100000">
                      <a:srgbClr val="752f7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8840880" y="3365280"/>
                  <a:ext cx="269640" cy="31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2f75"/>
                    </a:gs>
                    <a:gs pos="50000">
                      <a:srgbClr val="ff66ff"/>
                    </a:gs>
                    <a:gs pos="100000">
                      <a:srgbClr val="752f7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8974080" y="3392280"/>
                <a:ext cx="65160" cy="19332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0" y="9"/>
                    </a:moveTo>
                    <a:lnTo>
                      <a:pt x="28" y="122"/>
                    </a:lnTo>
                    <a:lnTo>
                      <a:pt x="4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885160" y="3180960"/>
                <a:ext cx="223920" cy="2253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991720" y="3198600"/>
                <a:ext cx="91800" cy="91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986680" y="325584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9056520" y="325584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6200000">
                <a:off x="8773560" y="3247920"/>
                <a:ext cx="269640" cy="135000"/>
              </a:xfrm>
              <a:prstGeom prst="flowChartDelay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8898120" y="3130920"/>
                <a:ext cx="178560" cy="141480"/>
                <a:chOff x="8898120" y="3130920"/>
                <a:chExt cx="178560" cy="141480"/>
              </a:xfrm>
            </p:grpSpPr>
            <p:sp>
              <p:nvSpPr>
                <p:cNvPr id="370" name=""/>
                <p:cNvSpPr/>
                <p:nvPr/>
              </p:nvSpPr>
              <p:spPr>
                <a:xfrm rot="8100000">
                  <a:off x="8975520" y="3137040"/>
                  <a:ext cx="68040" cy="121680"/>
                </a:xfrm>
                <a:custGeom>
                  <a:avLst/>
                  <a:gdLst>
                    <a:gd name="textAreaLeft" fmla="*/ 0 w 68040"/>
                    <a:gd name="textAreaRight" fmla="*/ 52920 w 68040"/>
                    <a:gd name="textAreaTop" fmla="*/ 54720 h 121680"/>
                    <a:gd name="textAreaBottom" fmla="*/ 66960 h 121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9173" y="3004"/>
                        <a:pt x="16746" y="5080"/>
                        <a:pt x="16746" y="10800"/>
                      </a:cubicBezTo>
                      <a:cubicBezTo>
                        <a:pt x="16746" y="16520"/>
                        <a:pt x="19173" y="18596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8100000">
                  <a:off x="8930880" y="3143880"/>
                  <a:ext cx="68400" cy="122040"/>
                </a:xfrm>
                <a:custGeom>
                  <a:avLst/>
                  <a:gdLst>
                    <a:gd name="textAreaLeft" fmla="*/ 0 w 68400"/>
                    <a:gd name="textAreaRight" fmla="*/ 53280 w 68400"/>
                    <a:gd name="textAreaTop" fmla="*/ 55080 h 122040"/>
                    <a:gd name="textAreaBottom" fmla="*/ 66960 h 122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9173" y="3004"/>
                        <a:pt x="16746" y="5080"/>
                        <a:pt x="16746" y="10800"/>
                      </a:cubicBezTo>
                      <a:cubicBezTo>
                        <a:pt x="16746" y="16520"/>
                        <a:pt x="19173" y="18596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2" name=""/>
          <p:cNvGrpSpPr/>
          <p:nvPr/>
        </p:nvGrpSpPr>
        <p:grpSpPr>
          <a:xfrm>
            <a:off x="8118000" y="3128400"/>
            <a:ext cx="273240" cy="622080"/>
            <a:chOff x="8118000" y="3128400"/>
            <a:chExt cx="273240" cy="622080"/>
          </a:xfrm>
        </p:grpSpPr>
        <p:grpSp>
          <p:nvGrpSpPr>
            <p:cNvPr id="373" name=""/>
            <p:cNvGrpSpPr/>
            <p:nvPr/>
          </p:nvGrpSpPr>
          <p:grpSpPr>
            <a:xfrm>
              <a:off x="8119440" y="3128400"/>
              <a:ext cx="271800" cy="622080"/>
              <a:chOff x="8119440" y="3128400"/>
              <a:chExt cx="271800" cy="622080"/>
            </a:xfrm>
          </p:grpSpPr>
          <p:sp>
            <p:nvSpPr>
              <p:cNvPr id="374" name=""/>
              <p:cNvSpPr/>
              <p:nvPr/>
            </p:nvSpPr>
            <p:spPr>
              <a:xfrm rot="16200000">
                <a:off x="8080920" y="3177360"/>
                <a:ext cx="304560" cy="223560"/>
              </a:xfrm>
              <a:prstGeom prst="flowChartDelay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200000">
                <a:off x="8148600" y="3198960"/>
                <a:ext cx="304560" cy="180720"/>
              </a:xfrm>
              <a:prstGeom prst="flowChartDelay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8121600" y="3365280"/>
                <a:ext cx="269640" cy="385200"/>
                <a:chOff x="8121600" y="3365280"/>
                <a:chExt cx="269640" cy="3852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8121600" y="3436200"/>
                  <a:ext cx="269640" cy="314280"/>
                </a:xfrm>
                <a:prstGeom prst="can">
                  <a:avLst>
                    <a:gd name="adj" fmla="val 50000"/>
                  </a:avLst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8121600" y="3365280"/>
                  <a:ext cx="269640" cy="31536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8254800" y="3392280"/>
                <a:ext cx="65160" cy="19332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0" y="9"/>
                    </a:moveTo>
                    <a:lnTo>
                      <a:pt x="28" y="122"/>
                    </a:lnTo>
                    <a:lnTo>
                      <a:pt x="4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165880" y="3180960"/>
                <a:ext cx="223920" cy="2253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272440" y="3198600"/>
                <a:ext cx="91800" cy="91800"/>
              </a:xfrm>
              <a:prstGeom prst="ellipse">
                <a:avLst/>
              </a:prstGeom>
              <a:solidFill>
                <a:srgbClr val="333333">
                  <a:alpha val="60000"/>
                </a:srgbClr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267400" y="325584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337240" y="325584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800000">
                <a:off x="8165520" y="3136680"/>
                <a:ext cx="90720" cy="210600"/>
              </a:xfrm>
              <a:custGeom>
                <a:avLst/>
                <a:gdLst>
                  <a:gd name="textAreaLeft" fmla="*/ 360 w 90720"/>
                  <a:gd name="textAreaRight" fmla="*/ 70560 w 90720"/>
                  <a:gd name="textAreaTop" fmla="*/ 95040 h 210600"/>
                  <a:gd name="textAreaBottom" fmla="*/ 115560 h 21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9173" y="3004"/>
                      <a:pt x="16746" y="5080"/>
                      <a:pt x="16746" y="10800"/>
                    </a:cubicBezTo>
                    <a:cubicBezTo>
                      <a:pt x="16746" y="16520"/>
                      <a:pt x="19173" y="1859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165880" y="3271680"/>
                <a:ext cx="44640" cy="9000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8118000" y="3128400"/>
              <a:ext cx="271800" cy="622080"/>
              <a:chOff x="8118000" y="3128400"/>
              <a:chExt cx="271800" cy="622080"/>
            </a:xfrm>
          </p:grpSpPr>
          <p:sp>
            <p:nvSpPr>
              <p:cNvPr id="387" name=""/>
              <p:cNvSpPr/>
              <p:nvPr/>
            </p:nvSpPr>
            <p:spPr>
              <a:xfrm rot="16200000">
                <a:off x="8079480" y="3177360"/>
                <a:ext cx="304560" cy="223560"/>
              </a:xfrm>
              <a:prstGeom prst="flowChartDelay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6200000">
                <a:off x="8147160" y="3198960"/>
                <a:ext cx="304560" cy="180720"/>
              </a:xfrm>
              <a:prstGeom prst="flowChartDelay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8120160" y="3365280"/>
                <a:ext cx="269640" cy="385200"/>
                <a:chOff x="8120160" y="3365280"/>
                <a:chExt cx="269640" cy="38520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8120160" y="3436200"/>
                  <a:ext cx="269640" cy="314280"/>
                </a:xfrm>
                <a:prstGeom prst="can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e7517"/>
                    </a:gs>
                    <a:gs pos="50000">
                      <a:srgbClr val="ccff33"/>
                    </a:gs>
                    <a:gs pos="100000">
                      <a:srgbClr val="5e751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8120160" y="3365280"/>
                  <a:ext cx="269640" cy="31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7517"/>
                    </a:gs>
                    <a:gs pos="50000">
                      <a:srgbClr val="ccff33"/>
                    </a:gs>
                    <a:gs pos="100000">
                      <a:srgbClr val="5e751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"/>
              <p:cNvSpPr/>
              <p:nvPr/>
            </p:nvSpPr>
            <p:spPr>
              <a:xfrm>
                <a:off x="8253360" y="3392280"/>
                <a:ext cx="65160" cy="19332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0" y="9"/>
                    </a:moveTo>
                    <a:lnTo>
                      <a:pt x="28" y="122"/>
                    </a:lnTo>
                    <a:lnTo>
                      <a:pt x="4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164440" y="3180960"/>
                <a:ext cx="223920" cy="2253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271000" y="3198600"/>
                <a:ext cx="91800" cy="91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265960" y="325584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335800" y="325584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800000">
                <a:off x="8164080" y="3136680"/>
                <a:ext cx="90720" cy="210600"/>
              </a:xfrm>
              <a:custGeom>
                <a:avLst/>
                <a:gdLst>
                  <a:gd name="textAreaLeft" fmla="*/ 360 w 90720"/>
                  <a:gd name="textAreaRight" fmla="*/ 70560 w 90720"/>
                  <a:gd name="textAreaTop" fmla="*/ 95040 h 210600"/>
                  <a:gd name="textAreaBottom" fmla="*/ 115560 h 21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9173" y="3004"/>
                      <a:pt x="16746" y="5080"/>
                      <a:pt x="16746" y="10800"/>
                    </a:cubicBezTo>
                    <a:cubicBezTo>
                      <a:pt x="16746" y="16520"/>
                      <a:pt x="19173" y="1859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164440" y="3271680"/>
                <a:ext cx="44640" cy="9000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9127440" y="4665960"/>
            <a:ext cx="345240" cy="651960"/>
            <a:chOff x="9127440" y="4665960"/>
            <a:chExt cx="345240" cy="651960"/>
          </a:xfrm>
        </p:grpSpPr>
        <p:grpSp>
          <p:nvGrpSpPr>
            <p:cNvPr id="400" name=""/>
            <p:cNvGrpSpPr/>
            <p:nvPr/>
          </p:nvGrpSpPr>
          <p:grpSpPr>
            <a:xfrm>
              <a:off x="9129240" y="4665960"/>
              <a:ext cx="343440" cy="651960"/>
              <a:chOff x="9129240" y="4665960"/>
              <a:chExt cx="343440" cy="651960"/>
            </a:xfrm>
          </p:grpSpPr>
          <p:sp>
            <p:nvSpPr>
              <p:cNvPr id="401" name=""/>
              <p:cNvSpPr/>
              <p:nvPr/>
            </p:nvSpPr>
            <p:spPr>
              <a:xfrm>
                <a:off x="9158400" y="5003640"/>
                <a:ext cx="314280" cy="314280"/>
              </a:xfrm>
              <a:prstGeom prst="can">
                <a:avLst>
                  <a:gd name="adj" fmla="val 50000"/>
                </a:avLst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9158400" y="4932000"/>
                <a:ext cx="314280" cy="31608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9248760" y="4932000"/>
                <a:ext cx="135000" cy="90720"/>
              </a:xfrm>
              <a:custGeom>
                <a:avLst/>
                <a:gdLst/>
                <a:ahLst/>
                <a:rect l="l" t="t" r="r" b="b"/>
                <a:pathLst>
                  <a:path w="85" h="57">
                    <a:moveTo>
                      <a:pt x="0" y="0"/>
                    </a:moveTo>
                    <a:lnTo>
                      <a:pt x="28" y="57"/>
                    </a:lnTo>
                    <a:lnTo>
                      <a:pt x="57" y="28"/>
                    </a:lnTo>
                    <a:lnTo>
                      <a:pt x="85" y="57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9202680" y="4748040"/>
                <a:ext cx="223920" cy="2253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9309240" y="4765320"/>
                <a:ext cx="91800" cy="92160"/>
              </a:xfrm>
              <a:prstGeom prst="ellipse">
                <a:avLst/>
              </a:prstGeom>
              <a:solidFill>
                <a:srgbClr val="333333">
                  <a:alpha val="60000"/>
                </a:srgbClr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304200" y="4822560"/>
                <a:ext cx="24120" cy="4752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9374040" y="4822560"/>
                <a:ext cx="24120" cy="4752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9259560" y="4700160"/>
                <a:ext cx="178920" cy="142920"/>
                <a:chOff x="9259560" y="4700160"/>
                <a:chExt cx="178920" cy="142920"/>
              </a:xfrm>
            </p:grpSpPr>
            <p:sp>
              <p:nvSpPr>
                <p:cNvPr id="409" name=""/>
                <p:cNvSpPr/>
                <p:nvPr/>
              </p:nvSpPr>
              <p:spPr>
                <a:xfrm rot="8100000">
                  <a:off x="9336960" y="4706280"/>
                  <a:ext cx="68040" cy="122040"/>
                </a:xfrm>
                <a:custGeom>
                  <a:avLst/>
                  <a:gdLst>
                    <a:gd name="textAreaLeft" fmla="*/ 0 w 68040"/>
                    <a:gd name="textAreaRight" fmla="*/ 52920 w 68040"/>
                    <a:gd name="textAreaTop" fmla="*/ 55080 h 122040"/>
                    <a:gd name="textAreaBottom" fmla="*/ 66960 h 122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9173" y="3004"/>
                        <a:pt x="16746" y="5080"/>
                        <a:pt x="16746" y="10800"/>
                      </a:cubicBezTo>
                      <a:cubicBezTo>
                        <a:pt x="16746" y="16520"/>
                        <a:pt x="19173" y="18596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8100000">
                  <a:off x="9292680" y="4714200"/>
                  <a:ext cx="68400" cy="122400"/>
                </a:xfrm>
                <a:custGeom>
                  <a:avLst/>
                  <a:gdLst>
                    <a:gd name="textAreaLeft" fmla="*/ 0 w 68400"/>
                    <a:gd name="textAreaRight" fmla="*/ 53280 w 68400"/>
                    <a:gd name="textAreaTop" fmla="*/ 55080 h 122400"/>
                    <a:gd name="textAreaBottom" fmla="*/ 67320 h 122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9173" y="3004"/>
                        <a:pt x="16746" y="5080"/>
                        <a:pt x="16746" y="10800"/>
                      </a:cubicBezTo>
                      <a:cubicBezTo>
                        <a:pt x="16746" y="16520"/>
                        <a:pt x="19173" y="18596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 rot="1800000">
                <a:off x="9181800" y="4684320"/>
                <a:ext cx="141120" cy="249120"/>
              </a:xfrm>
              <a:custGeom>
                <a:avLst/>
                <a:gdLst>
                  <a:gd name="textAreaLeft" fmla="*/ 360 w 141120"/>
                  <a:gd name="textAreaRight" fmla="*/ 109440 w 141120"/>
                  <a:gd name="textAreaTop" fmla="*/ 112320 h 249120"/>
                  <a:gd name="textAreaBottom" fmla="*/ 13680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9173" y="3004"/>
                      <a:pt x="16746" y="5080"/>
                      <a:pt x="16746" y="10800"/>
                    </a:cubicBezTo>
                    <a:cubicBezTo>
                      <a:pt x="16746" y="16520"/>
                      <a:pt x="19173" y="1859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9228240" y="4819320"/>
                <a:ext cx="44280" cy="9072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9127440" y="4665960"/>
              <a:ext cx="343440" cy="651960"/>
              <a:chOff x="9127440" y="4665960"/>
              <a:chExt cx="343440" cy="651960"/>
            </a:xfrm>
          </p:grpSpPr>
          <p:sp>
            <p:nvSpPr>
              <p:cNvPr id="414" name=""/>
              <p:cNvSpPr/>
              <p:nvPr/>
            </p:nvSpPr>
            <p:spPr>
              <a:xfrm>
                <a:off x="9156600" y="5003640"/>
                <a:ext cx="314280" cy="31428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462f75"/>
                  </a:gs>
                  <a:gs pos="50000">
                    <a:srgbClr val="9966ff"/>
                  </a:gs>
                  <a:gs pos="100000">
                    <a:srgbClr val="462f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9156600" y="4932000"/>
                <a:ext cx="314280" cy="316080"/>
              </a:xfrm>
              <a:prstGeom prst="ellipse">
                <a:avLst/>
              </a:prstGeom>
              <a:gradFill rotWithShape="0">
                <a:gsLst>
                  <a:gs pos="0">
                    <a:srgbClr val="462f75"/>
                  </a:gs>
                  <a:gs pos="50000">
                    <a:srgbClr val="9966ff">
                      <a:alpha val="90196"/>
                    </a:srgbClr>
                  </a:gs>
                  <a:gs pos="100000">
                    <a:srgbClr val="462f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246960" y="4932000"/>
                <a:ext cx="135000" cy="90720"/>
              </a:xfrm>
              <a:custGeom>
                <a:avLst/>
                <a:gdLst/>
                <a:ahLst/>
                <a:rect l="l" t="t" r="r" b="b"/>
                <a:pathLst>
                  <a:path w="85" h="57">
                    <a:moveTo>
                      <a:pt x="0" y="0"/>
                    </a:moveTo>
                    <a:lnTo>
                      <a:pt x="28" y="57"/>
                    </a:lnTo>
                    <a:lnTo>
                      <a:pt x="57" y="28"/>
                    </a:lnTo>
                    <a:lnTo>
                      <a:pt x="85" y="57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9200880" y="4748040"/>
                <a:ext cx="223920" cy="2253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9307440" y="4765320"/>
                <a:ext cx="91800" cy="92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9302400" y="4822560"/>
                <a:ext cx="24120" cy="47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9372240" y="4822560"/>
                <a:ext cx="24120" cy="47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9257760" y="4700160"/>
                <a:ext cx="178920" cy="142920"/>
                <a:chOff x="9257760" y="4700160"/>
                <a:chExt cx="178920" cy="142920"/>
              </a:xfrm>
            </p:grpSpPr>
            <p:sp>
              <p:nvSpPr>
                <p:cNvPr id="422" name=""/>
                <p:cNvSpPr/>
                <p:nvPr/>
              </p:nvSpPr>
              <p:spPr>
                <a:xfrm rot="8100000">
                  <a:off x="9335160" y="4706280"/>
                  <a:ext cx="68040" cy="122040"/>
                </a:xfrm>
                <a:custGeom>
                  <a:avLst/>
                  <a:gdLst>
                    <a:gd name="textAreaLeft" fmla="*/ 0 w 68040"/>
                    <a:gd name="textAreaRight" fmla="*/ 52920 w 68040"/>
                    <a:gd name="textAreaTop" fmla="*/ 55080 h 122040"/>
                    <a:gd name="textAreaBottom" fmla="*/ 66960 h 122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9173" y="3004"/>
                        <a:pt x="16746" y="5080"/>
                        <a:pt x="16746" y="10800"/>
                      </a:cubicBezTo>
                      <a:cubicBezTo>
                        <a:pt x="16746" y="16520"/>
                        <a:pt x="19173" y="18596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rot="8100000">
                  <a:off x="9290880" y="4714200"/>
                  <a:ext cx="68400" cy="122400"/>
                </a:xfrm>
                <a:custGeom>
                  <a:avLst/>
                  <a:gdLst>
                    <a:gd name="textAreaLeft" fmla="*/ 0 w 68400"/>
                    <a:gd name="textAreaRight" fmla="*/ 53280 w 68400"/>
                    <a:gd name="textAreaTop" fmla="*/ 55080 h 122400"/>
                    <a:gd name="textAreaBottom" fmla="*/ 67320 h 122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9173" y="3004"/>
                        <a:pt x="16746" y="5080"/>
                        <a:pt x="16746" y="10800"/>
                      </a:cubicBezTo>
                      <a:cubicBezTo>
                        <a:pt x="16746" y="16520"/>
                        <a:pt x="19173" y="18596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4" name=""/>
              <p:cNvSpPr/>
              <p:nvPr/>
            </p:nvSpPr>
            <p:spPr>
              <a:xfrm rot="1800000">
                <a:off x="9180000" y="4684320"/>
                <a:ext cx="141120" cy="249120"/>
              </a:xfrm>
              <a:custGeom>
                <a:avLst/>
                <a:gdLst>
                  <a:gd name="textAreaLeft" fmla="*/ 360 w 141120"/>
                  <a:gd name="textAreaRight" fmla="*/ 109440 w 141120"/>
                  <a:gd name="textAreaTop" fmla="*/ 112320 h 249120"/>
                  <a:gd name="textAreaBottom" fmla="*/ 13680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9173" y="3004"/>
                      <a:pt x="16746" y="5080"/>
                      <a:pt x="16746" y="10800"/>
                    </a:cubicBezTo>
                    <a:cubicBezTo>
                      <a:pt x="16746" y="16520"/>
                      <a:pt x="19173" y="1859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9226440" y="4819320"/>
                <a:ext cx="44280" cy="9072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9176760" y="3851640"/>
            <a:ext cx="342000" cy="654480"/>
            <a:chOff x="9176760" y="3851640"/>
            <a:chExt cx="342000" cy="654480"/>
          </a:xfrm>
        </p:grpSpPr>
        <p:grpSp>
          <p:nvGrpSpPr>
            <p:cNvPr id="427" name=""/>
            <p:cNvGrpSpPr/>
            <p:nvPr/>
          </p:nvGrpSpPr>
          <p:grpSpPr>
            <a:xfrm>
              <a:off x="9178560" y="3851640"/>
              <a:ext cx="340200" cy="654480"/>
              <a:chOff x="9178560" y="3851640"/>
              <a:chExt cx="340200" cy="65448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9204480" y="3936960"/>
                <a:ext cx="314280" cy="569160"/>
                <a:chOff x="9204480" y="3936960"/>
                <a:chExt cx="314280" cy="56916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9204480" y="4327200"/>
                  <a:ext cx="314280" cy="17892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9204480" y="4192200"/>
                  <a:ext cx="314280" cy="313920"/>
                </a:xfrm>
                <a:prstGeom prst="can">
                  <a:avLst>
                    <a:gd name="adj" fmla="val 50000"/>
                  </a:avLst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9204480" y="4120920"/>
                  <a:ext cx="314280" cy="31536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9334440" y="4136760"/>
                  <a:ext cx="122400" cy="274320"/>
                </a:xfrm>
                <a:custGeom>
                  <a:avLst/>
                  <a:gdLst/>
                  <a:ahLst/>
                  <a:rect l="l" t="t" r="r" b="b"/>
                  <a:pathLst>
                    <a:path w="77" h="173">
                      <a:moveTo>
                        <a:pt x="57" y="0"/>
                      </a:moveTo>
                      <a:lnTo>
                        <a:pt x="0" y="0"/>
                      </a:lnTo>
                      <a:lnTo>
                        <a:pt x="32" y="32"/>
                      </a:lnTo>
                      <a:lnTo>
                        <a:pt x="8" y="141"/>
                      </a:lnTo>
                      <a:lnTo>
                        <a:pt x="48" y="173"/>
                      </a:lnTo>
                      <a:lnTo>
                        <a:pt x="77" y="140"/>
                      </a:lnTo>
                      <a:lnTo>
                        <a:pt x="48" y="32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9248760" y="3936960"/>
                  <a:ext cx="223920" cy="22500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355320" y="3954240"/>
                  <a:ext cx="91800" cy="91440"/>
                </a:xfrm>
                <a:prstGeom prst="ellipse">
                  <a:avLst/>
                </a:prstGeom>
                <a:solidFill>
                  <a:srgbClr val="333333">
                    <a:alpha val="60000"/>
                  </a:srgbClr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9350280" y="4011120"/>
                  <a:ext cx="24120" cy="4752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9420120" y="4011120"/>
                  <a:ext cx="24120" cy="4752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9309240" y="3886200"/>
                <a:ext cx="178560" cy="141480"/>
                <a:chOff x="9309240" y="3886200"/>
                <a:chExt cx="178560" cy="141480"/>
              </a:xfrm>
            </p:grpSpPr>
            <p:sp>
              <p:nvSpPr>
                <p:cNvPr id="438" name=""/>
                <p:cNvSpPr/>
                <p:nvPr/>
              </p:nvSpPr>
              <p:spPr>
                <a:xfrm rot="8100000">
                  <a:off x="9386640" y="3892320"/>
                  <a:ext cx="68040" cy="121680"/>
                </a:xfrm>
                <a:custGeom>
                  <a:avLst/>
                  <a:gdLst>
                    <a:gd name="textAreaLeft" fmla="*/ 0 w 68040"/>
                    <a:gd name="textAreaRight" fmla="*/ 52920 w 68040"/>
                    <a:gd name="textAreaTop" fmla="*/ 54720 h 121680"/>
                    <a:gd name="textAreaBottom" fmla="*/ 66960 h 121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9173" y="3004"/>
                        <a:pt x="16746" y="5080"/>
                        <a:pt x="16746" y="10800"/>
                      </a:cubicBezTo>
                      <a:cubicBezTo>
                        <a:pt x="16746" y="16520"/>
                        <a:pt x="19173" y="18596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8100000">
                  <a:off x="9342000" y="3899160"/>
                  <a:ext cx="68400" cy="122040"/>
                </a:xfrm>
                <a:custGeom>
                  <a:avLst/>
                  <a:gdLst>
                    <a:gd name="textAreaLeft" fmla="*/ 0 w 68400"/>
                    <a:gd name="textAreaRight" fmla="*/ 53280 w 68400"/>
                    <a:gd name="textAreaTop" fmla="*/ 55080 h 122040"/>
                    <a:gd name="textAreaBottom" fmla="*/ 66960 h 122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9173" y="3004"/>
                        <a:pt x="16746" y="5080"/>
                        <a:pt x="16746" y="10800"/>
                      </a:cubicBezTo>
                      <a:cubicBezTo>
                        <a:pt x="16746" y="16520"/>
                        <a:pt x="19173" y="18596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 rot="1800000">
                <a:off x="9231120" y="3870000"/>
                <a:ext cx="141120" cy="249120"/>
              </a:xfrm>
              <a:custGeom>
                <a:avLst/>
                <a:gdLst>
                  <a:gd name="textAreaLeft" fmla="*/ 360 w 141120"/>
                  <a:gd name="textAreaRight" fmla="*/ 109440 w 141120"/>
                  <a:gd name="textAreaTop" fmla="*/ 112320 h 249120"/>
                  <a:gd name="textAreaBottom" fmla="*/ 13680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9173" y="3004"/>
                      <a:pt x="16746" y="5080"/>
                      <a:pt x="16746" y="10800"/>
                    </a:cubicBezTo>
                    <a:cubicBezTo>
                      <a:pt x="16746" y="16520"/>
                      <a:pt x="19173" y="1859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9277560" y="4005000"/>
                <a:ext cx="44280" cy="903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9176760" y="3851640"/>
              <a:ext cx="340200" cy="654480"/>
              <a:chOff x="9176760" y="3851640"/>
              <a:chExt cx="340200" cy="65448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9202680" y="3936960"/>
                <a:ext cx="314280" cy="569160"/>
                <a:chOff x="9202680" y="3936960"/>
                <a:chExt cx="314280" cy="5691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9202680" y="4327200"/>
                  <a:ext cx="314280" cy="17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e00"/>
                    </a:gs>
                    <a:gs pos="50000">
                      <a:srgbClr val="99cc00"/>
                    </a:gs>
                    <a:gs pos="100000">
                      <a:srgbClr val="465e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9202680" y="4192200"/>
                  <a:ext cx="314280" cy="313920"/>
                </a:xfrm>
                <a:prstGeom prst="can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74675"/>
                    </a:gs>
                    <a:gs pos="50000">
                      <a:srgbClr val="3399ff"/>
                    </a:gs>
                    <a:gs pos="100000">
                      <a:srgbClr val="17467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9202680" y="4120920"/>
                  <a:ext cx="314280" cy="31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75"/>
                    </a:gs>
                    <a:gs pos="50000">
                      <a:srgbClr val="3399ff"/>
                    </a:gs>
                    <a:gs pos="100000">
                      <a:srgbClr val="17467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9332640" y="4136760"/>
                  <a:ext cx="122400" cy="274320"/>
                </a:xfrm>
                <a:custGeom>
                  <a:avLst/>
                  <a:gdLst/>
                  <a:ahLst/>
                  <a:rect l="l" t="t" r="r" b="b"/>
                  <a:pathLst>
                    <a:path w="77" h="173">
                      <a:moveTo>
                        <a:pt x="57" y="0"/>
                      </a:moveTo>
                      <a:lnTo>
                        <a:pt x="0" y="0"/>
                      </a:lnTo>
                      <a:lnTo>
                        <a:pt x="32" y="32"/>
                      </a:lnTo>
                      <a:lnTo>
                        <a:pt x="8" y="141"/>
                      </a:lnTo>
                      <a:lnTo>
                        <a:pt x="48" y="173"/>
                      </a:lnTo>
                      <a:lnTo>
                        <a:pt x="77" y="140"/>
                      </a:lnTo>
                      <a:lnTo>
                        <a:pt x="48" y="32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9246960" y="3936960"/>
                  <a:ext cx="223920" cy="225000"/>
                </a:xfrm>
                <a:prstGeom prst="ellips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9353520" y="3954240"/>
                  <a:ext cx="91800" cy="9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392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9348480" y="4011120"/>
                  <a:ext cx="24120" cy="475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9418320" y="4011120"/>
                  <a:ext cx="24120" cy="475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9307440" y="3886200"/>
                <a:ext cx="178560" cy="141480"/>
                <a:chOff x="9307440" y="3886200"/>
                <a:chExt cx="178560" cy="141480"/>
              </a:xfrm>
            </p:grpSpPr>
            <p:sp>
              <p:nvSpPr>
                <p:cNvPr id="453" name=""/>
                <p:cNvSpPr/>
                <p:nvPr/>
              </p:nvSpPr>
              <p:spPr>
                <a:xfrm rot="8100000">
                  <a:off x="9384840" y="3892320"/>
                  <a:ext cx="68040" cy="121680"/>
                </a:xfrm>
                <a:custGeom>
                  <a:avLst/>
                  <a:gdLst>
                    <a:gd name="textAreaLeft" fmla="*/ 0 w 68040"/>
                    <a:gd name="textAreaRight" fmla="*/ 52920 w 68040"/>
                    <a:gd name="textAreaTop" fmla="*/ 54720 h 121680"/>
                    <a:gd name="textAreaBottom" fmla="*/ 66960 h 121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9173" y="3004"/>
                        <a:pt x="16746" y="5080"/>
                        <a:pt x="16746" y="10800"/>
                      </a:cubicBezTo>
                      <a:cubicBezTo>
                        <a:pt x="16746" y="16520"/>
                        <a:pt x="19173" y="18596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8100000">
                  <a:off x="9340200" y="3899160"/>
                  <a:ext cx="68400" cy="122040"/>
                </a:xfrm>
                <a:custGeom>
                  <a:avLst/>
                  <a:gdLst>
                    <a:gd name="textAreaLeft" fmla="*/ 0 w 68400"/>
                    <a:gd name="textAreaRight" fmla="*/ 53280 w 68400"/>
                    <a:gd name="textAreaTop" fmla="*/ 55080 h 122040"/>
                    <a:gd name="textAreaBottom" fmla="*/ 66960 h 122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9173" y="3004"/>
                        <a:pt x="16746" y="5080"/>
                        <a:pt x="16746" y="10800"/>
                      </a:cubicBezTo>
                      <a:cubicBezTo>
                        <a:pt x="16746" y="16520"/>
                        <a:pt x="19173" y="18596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"/>
              <p:cNvSpPr/>
              <p:nvPr/>
            </p:nvSpPr>
            <p:spPr>
              <a:xfrm rot="1800000">
                <a:off x="9229320" y="3870000"/>
                <a:ext cx="141120" cy="249120"/>
              </a:xfrm>
              <a:custGeom>
                <a:avLst/>
                <a:gdLst>
                  <a:gd name="textAreaLeft" fmla="*/ 360 w 141120"/>
                  <a:gd name="textAreaRight" fmla="*/ 109440 w 141120"/>
                  <a:gd name="textAreaTop" fmla="*/ 112320 h 249120"/>
                  <a:gd name="textAreaBottom" fmla="*/ 13680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9173" y="3004"/>
                      <a:pt x="16746" y="5080"/>
                      <a:pt x="16746" y="10800"/>
                    </a:cubicBezTo>
                    <a:cubicBezTo>
                      <a:pt x="16746" y="16520"/>
                      <a:pt x="19173" y="1859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9275760" y="4005000"/>
                <a:ext cx="44280" cy="903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"/>
          <p:cNvGrpSpPr/>
          <p:nvPr/>
        </p:nvGrpSpPr>
        <p:grpSpPr>
          <a:xfrm>
            <a:off x="8761680" y="4669920"/>
            <a:ext cx="350640" cy="648360"/>
            <a:chOff x="8761680" y="4669920"/>
            <a:chExt cx="350640" cy="648360"/>
          </a:xfrm>
        </p:grpSpPr>
        <p:grpSp>
          <p:nvGrpSpPr>
            <p:cNvPr id="458" name=""/>
            <p:cNvGrpSpPr/>
            <p:nvPr/>
          </p:nvGrpSpPr>
          <p:grpSpPr>
            <a:xfrm>
              <a:off x="8763480" y="4669920"/>
              <a:ext cx="348840" cy="648360"/>
              <a:chOff x="8763480" y="4669920"/>
              <a:chExt cx="348840" cy="648360"/>
            </a:xfrm>
          </p:grpSpPr>
          <p:sp>
            <p:nvSpPr>
              <p:cNvPr id="459" name=""/>
              <p:cNvSpPr/>
              <p:nvPr/>
            </p:nvSpPr>
            <p:spPr>
              <a:xfrm>
                <a:off x="8798040" y="5004000"/>
                <a:ext cx="314280" cy="314280"/>
              </a:xfrm>
              <a:prstGeom prst="can">
                <a:avLst>
                  <a:gd name="adj" fmla="val 50000"/>
                </a:avLst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798040" y="4932360"/>
                <a:ext cx="314280" cy="31608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888400" y="4932360"/>
                <a:ext cx="135000" cy="90720"/>
              </a:xfrm>
              <a:custGeom>
                <a:avLst/>
                <a:gdLst/>
                <a:ahLst/>
                <a:rect l="l" t="t" r="r" b="b"/>
                <a:pathLst>
                  <a:path w="85" h="57">
                    <a:moveTo>
                      <a:pt x="0" y="0"/>
                    </a:moveTo>
                    <a:lnTo>
                      <a:pt x="28" y="57"/>
                    </a:lnTo>
                    <a:lnTo>
                      <a:pt x="57" y="28"/>
                    </a:lnTo>
                    <a:lnTo>
                      <a:pt x="85" y="57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842320" y="4748400"/>
                <a:ext cx="223920" cy="2253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948880" y="4765680"/>
                <a:ext cx="91800" cy="92160"/>
              </a:xfrm>
              <a:prstGeom prst="ellipse">
                <a:avLst/>
              </a:prstGeom>
              <a:solidFill>
                <a:srgbClr val="333333">
                  <a:alpha val="60000"/>
                </a:srgbClr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943840" y="4822920"/>
                <a:ext cx="24120" cy="4752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9013680" y="4822920"/>
                <a:ext cx="24120" cy="4752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1800000">
                <a:off x="8812080" y="4687560"/>
                <a:ext cx="133560" cy="230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717" y="3199"/>
                      <a:pt x="17833" y="5080"/>
                      <a:pt x="17833" y="10800"/>
                    </a:cubicBezTo>
                    <a:cubicBezTo>
                      <a:pt x="17833" y="16520"/>
                      <a:pt x="19717" y="1840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7200000">
                <a:off x="8964000" y="4675320"/>
                <a:ext cx="87480" cy="172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717" y="3199"/>
                      <a:pt x="17833" y="5080"/>
                      <a:pt x="17833" y="10800"/>
                    </a:cubicBezTo>
                    <a:cubicBezTo>
                      <a:pt x="17833" y="16520"/>
                      <a:pt x="19717" y="1840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856720" y="4821480"/>
                <a:ext cx="44280" cy="903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8761680" y="4669920"/>
              <a:ext cx="348840" cy="648360"/>
              <a:chOff x="8761680" y="4669920"/>
              <a:chExt cx="348840" cy="648360"/>
            </a:xfrm>
          </p:grpSpPr>
          <p:sp>
            <p:nvSpPr>
              <p:cNvPr id="470" name=""/>
              <p:cNvSpPr/>
              <p:nvPr/>
            </p:nvSpPr>
            <p:spPr>
              <a:xfrm>
                <a:off x="8796240" y="5004000"/>
                <a:ext cx="314280" cy="31428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2f4675"/>
                  </a:gs>
                  <a:gs pos="50000">
                    <a:srgbClr val="6699ff"/>
                  </a:gs>
                  <a:gs pos="100000">
                    <a:srgbClr val="2f46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796240" y="4932360"/>
                <a:ext cx="314280" cy="316080"/>
              </a:xfrm>
              <a:prstGeom prst="ellipse">
                <a:avLst/>
              </a:prstGeom>
              <a:gradFill rotWithShape="0">
                <a:gsLst>
                  <a:gs pos="0">
                    <a:srgbClr val="2f4675"/>
                  </a:gs>
                  <a:gs pos="50000">
                    <a:srgbClr val="6699ff"/>
                  </a:gs>
                  <a:gs pos="100000">
                    <a:srgbClr val="2f46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886600" y="4932360"/>
                <a:ext cx="135000" cy="90720"/>
              </a:xfrm>
              <a:custGeom>
                <a:avLst/>
                <a:gdLst/>
                <a:ahLst/>
                <a:rect l="l" t="t" r="r" b="b"/>
                <a:pathLst>
                  <a:path w="85" h="57">
                    <a:moveTo>
                      <a:pt x="0" y="0"/>
                    </a:moveTo>
                    <a:lnTo>
                      <a:pt x="28" y="57"/>
                    </a:lnTo>
                    <a:lnTo>
                      <a:pt x="57" y="28"/>
                    </a:lnTo>
                    <a:lnTo>
                      <a:pt x="85" y="57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840520" y="4748400"/>
                <a:ext cx="223920" cy="2253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947080" y="4765680"/>
                <a:ext cx="91800" cy="92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942040" y="4822920"/>
                <a:ext cx="24120" cy="47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9011880" y="4822920"/>
                <a:ext cx="24120" cy="47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800000">
                <a:off x="8810280" y="4687560"/>
                <a:ext cx="133560" cy="230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717" y="3199"/>
                      <a:pt x="17833" y="5080"/>
                      <a:pt x="17833" y="10800"/>
                    </a:cubicBezTo>
                    <a:cubicBezTo>
                      <a:pt x="17833" y="16520"/>
                      <a:pt x="19717" y="1840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7200000">
                <a:off x="8962200" y="4675320"/>
                <a:ext cx="87480" cy="172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717" y="3199"/>
                      <a:pt x="17833" y="5080"/>
                      <a:pt x="17833" y="10800"/>
                    </a:cubicBezTo>
                    <a:cubicBezTo>
                      <a:pt x="17833" y="16520"/>
                      <a:pt x="19717" y="1840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854920" y="4821480"/>
                <a:ext cx="44280" cy="903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"/>
          <p:cNvGrpSpPr/>
          <p:nvPr/>
        </p:nvGrpSpPr>
        <p:grpSpPr>
          <a:xfrm>
            <a:off x="8818920" y="3866760"/>
            <a:ext cx="343080" cy="639360"/>
            <a:chOff x="8818920" y="3866760"/>
            <a:chExt cx="343080" cy="639360"/>
          </a:xfrm>
        </p:grpSpPr>
        <p:grpSp>
          <p:nvGrpSpPr>
            <p:cNvPr id="481" name=""/>
            <p:cNvGrpSpPr/>
            <p:nvPr/>
          </p:nvGrpSpPr>
          <p:grpSpPr>
            <a:xfrm>
              <a:off x="8820720" y="3866760"/>
              <a:ext cx="341280" cy="639360"/>
              <a:chOff x="8820720" y="3866760"/>
              <a:chExt cx="341280" cy="63936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8844120" y="3936960"/>
                <a:ext cx="314280" cy="569160"/>
                <a:chOff x="8844120" y="3936960"/>
                <a:chExt cx="314280" cy="569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8844120" y="4327200"/>
                  <a:ext cx="314280" cy="17892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8844120" y="4192200"/>
                  <a:ext cx="314280" cy="313920"/>
                </a:xfrm>
                <a:prstGeom prst="can">
                  <a:avLst>
                    <a:gd name="adj" fmla="val 50000"/>
                  </a:avLst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8844120" y="4120920"/>
                  <a:ext cx="314280" cy="31536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8974080" y="4136760"/>
                  <a:ext cx="122400" cy="274320"/>
                </a:xfrm>
                <a:custGeom>
                  <a:avLst/>
                  <a:gdLst/>
                  <a:ahLst/>
                  <a:rect l="l" t="t" r="r" b="b"/>
                  <a:pathLst>
                    <a:path w="77" h="173">
                      <a:moveTo>
                        <a:pt x="57" y="0"/>
                      </a:moveTo>
                      <a:lnTo>
                        <a:pt x="0" y="0"/>
                      </a:lnTo>
                      <a:lnTo>
                        <a:pt x="32" y="32"/>
                      </a:lnTo>
                      <a:lnTo>
                        <a:pt x="8" y="141"/>
                      </a:lnTo>
                      <a:lnTo>
                        <a:pt x="48" y="173"/>
                      </a:lnTo>
                      <a:lnTo>
                        <a:pt x="77" y="140"/>
                      </a:lnTo>
                      <a:lnTo>
                        <a:pt x="48" y="32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8888400" y="3936960"/>
                  <a:ext cx="223920" cy="22500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8994960" y="3954240"/>
                  <a:ext cx="91800" cy="91440"/>
                </a:xfrm>
                <a:prstGeom prst="ellipse">
                  <a:avLst/>
                </a:prstGeom>
                <a:solidFill>
                  <a:srgbClr val="333333">
                    <a:alpha val="60000"/>
                  </a:srgbClr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8989920" y="4011120"/>
                  <a:ext cx="24120" cy="4752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9059760" y="4011120"/>
                  <a:ext cx="24120" cy="4752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1" name=""/>
              <p:cNvSpPr/>
              <p:nvPr/>
            </p:nvSpPr>
            <p:spPr>
              <a:xfrm rot="1800000">
                <a:off x="8868960" y="3884400"/>
                <a:ext cx="133560" cy="230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717" y="3199"/>
                      <a:pt x="17833" y="5080"/>
                      <a:pt x="17833" y="10800"/>
                    </a:cubicBezTo>
                    <a:cubicBezTo>
                      <a:pt x="17833" y="16520"/>
                      <a:pt x="19717" y="1840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7200000">
                <a:off x="9021960" y="3871440"/>
                <a:ext cx="86760" cy="172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717" y="3199"/>
                      <a:pt x="17833" y="5080"/>
                      <a:pt x="17833" y="10800"/>
                    </a:cubicBezTo>
                    <a:cubicBezTo>
                      <a:pt x="17833" y="16520"/>
                      <a:pt x="19717" y="1840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913960" y="4017960"/>
                <a:ext cx="44280" cy="9000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8818920" y="3866760"/>
              <a:ext cx="341280" cy="639360"/>
              <a:chOff x="8818920" y="3866760"/>
              <a:chExt cx="341280" cy="63936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8842320" y="3936960"/>
                <a:ext cx="314280" cy="569160"/>
                <a:chOff x="8842320" y="3936960"/>
                <a:chExt cx="314280" cy="56916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8842320" y="4327200"/>
                  <a:ext cx="314280" cy="17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e00"/>
                    </a:gs>
                    <a:gs pos="50000">
                      <a:srgbClr val="99cc00"/>
                    </a:gs>
                    <a:gs pos="100000">
                      <a:srgbClr val="465e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842320" y="4192200"/>
                  <a:ext cx="314280" cy="313920"/>
                </a:xfrm>
                <a:prstGeom prst="can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755e2f"/>
                    </a:gs>
                    <a:gs pos="50000">
                      <a:srgbClr val="ffcc66"/>
                    </a:gs>
                    <a:gs pos="100000">
                      <a:srgbClr val="755e2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8842320" y="4120920"/>
                  <a:ext cx="314280" cy="31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50000">
                      <a:srgbClr val="ffcc66"/>
                    </a:gs>
                    <a:gs pos="100000">
                      <a:srgbClr val="755e2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972280" y="4136760"/>
                  <a:ext cx="122400" cy="274320"/>
                </a:xfrm>
                <a:custGeom>
                  <a:avLst/>
                  <a:gdLst/>
                  <a:ahLst/>
                  <a:rect l="l" t="t" r="r" b="b"/>
                  <a:pathLst>
                    <a:path w="77" h="173">
                      <a:moveTo>
                        <a:pt x="57" y="0"/>
                      </a:moveTo>
                      <a:lnTo>
                        <a:pt x="0" y="0"/>
                      </a:lnTo>
                      <a:lnTo>
                        <a:pt x="32" y="32"/>
                      </a:lnTo>
                      <a:lnTo>
                        <a:pt x="8" y="141"/>
                      </a:lnTo>
                      <a:lnTo>
                        <a:pt x="48" y="173"/>
                      </a:lnTo>
                      <a:lnTo>
                        <a:pt x="77" y="140"/>
                      </a:lnTo>
                      <a:lnTo>
                        <a:pt x="48" y="32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8886600" y="3936960"/>
                  <a:ext cx="223920" cy="225000"/>
                </a:xfrm>
                <a:prstGeom prst="ellips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8993160" y="3954240"/>
                  <a:ext cx="91800" cy="9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392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988120" y="4011120"/>
                  <a:ext cx="24120" cy="475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9057960" y="4011120"/>
                  <a:ext cx="24120" cy="475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 rot="1800000">
                <a:off x="8867160" y="3884400"/>
                <a:ext cx="133560" cy="230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717" y="3199"/>
                      <a:pt x="17833" y="5080"/>
                      <a:pt x="17833" y="10800"/>
                    </a:cubicBezTo>
                    <a:cubicBezTo>
                      <a:pt x="17833" y="16520"/>
                      <a:pt x="19717" y="1840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7200000">
                <a:off x="9020160" y="3871440"/>
                <a:ext cx="86760" cy="172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717" y="3199"/>
                      <a:pt x="17833" y="5080"/>
                      <a:pt x="17833" y="10800"/>
                    </a:cubicBezTo>
                    <a:cubicBezTo>
                      <a:pt x="17833" y="16520"/>
                      <a:pt x="19717" y="1840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912160" y="4017960"/>
                <a:ext cx="44280" cy="9000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7" name=""/>
          <p:cNvGrpSpPr/>
          <p:nvPr/>
        </p:nvGrpSpPr>
        <p:grpSpPr>
          <a:xfrm>
            <a:off x="8085960" y="3865320"/>
            <a:ext cx="351720" cy="641520"/>
            <a:chOff x="8085960" y="3865320"/>
            <a:chExt cx="351720" cy="641520"/>
          </a:xfrm>
        </p:grpSpPr>
        <p:grpSp>
          <p:nvGrpSpPr>
            <p:cNvPr id="508" name=""/>
            <p:cNvGrpSpPr/>
            <p:nvPr/>
          </p:nvGrpSpPr>
          <p:grpSpPr>
            <a:xfrm>
              <a:off x="8087760" y="3865320"/>
              <a:ext cx="349920" cy="641520"/>
              <a:chOff x="8087760" y="3865320"/>
              <a:chExt cx="349920" cy="64152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8123400" y="3936960"/>
                <a:ext cx="314280" cy="569880"/>
                <a:chOff x="8123400" y="3936960"/>
                <a:chExt cx="314280" cy="56988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8123400" y="4327560"/>
                  <a:ext cx="314280" cy="17928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123400" y="4192560"/>
                  <a:ext cx="314280" cy="314280"/>
                </a:xfrm>
                <a:prstGeom prst="can">
                  <a:avLst>
                    <a:gd name="adj" fmla="val 50000"/>
                  </a:avLst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123400" y="4121280"/>
                  <a:ext cx="314280" cy="31572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253360" y="4137120"/>
                  <a:ext cx="122400" cy="274680"/>
                </a:xfrm>
                <a:custGeom>
                  <a:avLst/>
                  <a:gdLst/>
                  <a:ahLst/>
                  <a:rect l="l" t="t" r="r" b="b"/>
                  <a:pathLst>
                    <a:path w="77" h="173">
                      <a:moveTo>
                        <a:pt x="57" y="0"/>
                      </a:moveTo>
                      <a:lnTo>
                        <a:pt x="0" y="0"/>
                      </a:lnTo>
                      <a:lnTo>
                        <a:pt x="32" y="32"/>
                      </a:lnTo>
                      <a:lnTo>
                        <a:pt x="8" y="141"/>
                      </a:lnTo>
                      <a:lnTo>
                        <a:pt x="48" y="173"/>
                      </a:lnTo>
                      <a:lnTo>
                        <a:pt x="77" y="140"/>
                      </a:lnTo>
                      <a:lnTo>
                        <a:pt x="48" y="32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167680" y="3936960"/>
                  <a:ext cx="223920" cy="22536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274240" y="3954600"/>
                  <a:ext cx="91800" cy="91800"/>
                </a:xfrm>
                <a:prstGeom prst="ellipse">
                  <a:avLst/>
                </a:prstGeom>
                <a:solidFill>
                  <a:srgbClr val="333333">
                    <a:alpha val="60000"/>
                  </a:srgbClr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8269200" y="4011480"/>
                  <a:ext cx="24120" cy="4788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339040" y="4011480"/>
                  <a:ext cx="24120" cy="4788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"/>
              <p:cNvSpPr/>
              <p:nvPr/>
            </p:nvSpPr>
            <p:spPr>
              <a:xfrm rot="5400000">
                <a:off x="8213040" y="3832920"/>
                <a:ext cx="123840" cy="2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800000">
                <a:off x="8140680" y="3879720"/>
                <a:ext cx="123840" cy="2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177400" y="4020840"/>
                <a:ext cx="44280" cy="9072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8085960" y="3865320"/>
              <a:ext cx="349920" cy="641520"/>
              <a:chOff x="8085960" y="3865320"/>
              <a:chExt cx="349920" cy="641520"/>
            </a:xfrm>
          </p:grpSpPr>
          <p:grpSp>
            <p:nvGrpSpPr>
              <p:cNvPr id="522" name=""/>
              <p:cNvGrpSpPr/>
              <p:nvPr/>
            </p:nvGrpSpPr>
            <p:grpSpPr>
              <a:xfrm>
                <a:off x="8121600" y="3936960"/>
                <a:ext cx="314280" cy="569880"/>
                <a:chOff x="8121600" y="3936960"/>
                <a:chExt cx="314280" cy="56988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8121600" y="4327560"/>
                  <a:ext cx="314280" cy="17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e00"/>
                    </a:gs>
                    <a:gs pos="50000">
                      <a:srgbClr val="99cc00"/>
                    </a:gs>
                    <a:gs pos="100000">
                      <a:srgbClr val="465e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121600" y="4192560"/>
                  <a:ext cx="314280" cy="314280"/>
                </a:xfrm>
                <a:prstGeom prst="can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8121600" y="4121280"/>
                  <a:ext cx="314280" cy="31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251560" y="4137120"/>
                  <a:ext cx="122400" cy="274680"/>
                </a:xfrm>
                <a:custGeom>
                  <a:avLst/>
                  <a:gdLst/>
                  <a:ahLst/>
                  <a:rect l="l" t="t" r="r" b="b"/>
                  <a:pathLst>
                    <a:path w="77" h="173">
                      <a:moveTo>
                        <a:pt x="57" y="0"/>
                      </a:moveTo>
                      <a:lnTo>
                        <a:pt x="0" y="0"/>
                      </a:lnTo>
                      <a:lnTo>
                        <a:pt x="32" y="32"/>
                      </a:lnTo>
                      <a:lnTo>
                        <a:pt x="8" y="141"/>
                      </a:lnTo>
                      <a:lnTo>
                        <a:pt x="48" y="173"/>
                      </a:lnTo>
                      <a:lnTo>
                        <a:pt x="77" y="140"/>
                      </a:lnTo>
                      <a:lnTo>
                        <a:pt x="48" y="32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165880" y="3936960"/>
                  <a:ext cx="223920" cy="225360"/>
                </a:xfrm>
                <a:prstGeom prst="ellips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8272440" y="3954600"/>
                  <a:ext cx="91800" cy="9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392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8267400" y="4011480"/>
                  <a:ext cx="24120" cy="478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337240" y="4011480"/>
                  <a:ext cx="24120" cy="478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"/>
              <p:cNvSpPr/>
              <p:nvPr/>
            </p:nvSpPr>
            <p:spPr>
              <a:xfrm rot="5400000">
                <a:off x="8211240" y="3832920"/>
                <a:ext cx="123840" cy="2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1800000">
                <a:off x="8138880" y="3879720"/>
                <a:ext cx="123840" cy="2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175600" y="4020840"/>
                <a:ext cx="44280" cy="9072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"/>
          <p:cNvGrpSpPr/>
          <p:nvPr/>
        </p:nvGrpSpPr>
        <p:grpSpPr>
          <a:xfrm>
            <a:off x="8041320" y="4673520"/>
            <a:ext cx="350280" cy="644760"/>
            <a:chOff x="8041320" y="4673520"/>
            <a:chExt cx="350280" cy="644760"/>
          </a:xfrm>
        </p:grpSpPr>
        <p:grpSp>
          <p:nvGrpSpPr>
            <p:cNvPr id="535" name=""/>
            <p:cNvGrpSpPr/>
            <p:nvPr/>
          </p:nvGrpSpPr>
          <p:grpSpPr>
            <a:xfrm>
              <a:off x="8043120" y="4673520"/>
              <a:ext cx="348480" cy="644760"/>
              <a:chOff x="8043120" y="4673520"/>
              <a:chExt cx="348480" cy="644760"/>
            </a:xfrm>
          </p:grpSpPr>
          <p:sp>
            <p:nvSpPr>
              <p:cNvPr id="536" name=""/>
              <p:cNvSpPr/>
              <p:nvPr/>
            </p:nvSpPr>
            <p:spPr>
              <a:xfrm>
                <a:off x="8077320" y="5004000"/>
                <a:ext cx="314280" cy="314280"/>
              </a:xfrm>
              <a:prstGeom prst="can">
                <a:avLst>
                  <a:gd name="adj" fmla="val 50000"/>
                </a:avLst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077320" y="4932360"/>
                <a:ext cx="314280" cy="31608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166240" y="4932360"/>
                <a:ext cx="134640" cy="90720"/>
              </a:xfrm>
              <a:custGeom>
                <a:avLst/>
                <a:gdLst/>
                <a:ahLst/>
                <a:rect l="l" t="t" r="r" b="b"/>
                <a:pathLst>
                  <a:path w="85" h="57">
                    <a:moveTo>
                      <a:pt x="0" y="0"/>
                    </a:moveTo>
                    <a:lnTo>
                      <a:pt x="28" y="57"/>
                    </a:lnTo>
                    <a:lnTo>
                      <a:pt x="57" y="28"/>
                    </a:lnTo>
                    <a:lnTo>
                      <a:pt x="85" y="57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121600" y="4748400"/>
                <a:ext cx="223920" cy="2253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228160" y="4765680"/>
                <a:ext cx="91800" cy="92160"/>
              </a:xfrm>
              <a:prstGeom prst="ellipse">
                <a:avLst/>
              </a:prstGeom>
              <a:solidFill>
                <a:srgbClr val="333333">
                  <a:alpha val="60000"/>
                </a:srgbClr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223120" y="4822920"/>
                <a:ext cx="24120" cy="4752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292960" y="4822920"/>
                <a:ext cx="24120" cy="4752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5400000">
                <a:off x="8168400" y="4641120"/>
                <a:ext cx="123840" cy="2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800000">
                <a:off x="8096040" y="4687920"/>
                <a:ext cx="123840" cy="2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8041320" y="4673520"/>
              <a:ext cx="348480" cy="644760"/>
              <a:chOff x="8041320" y="4673520"/>
              <a:chExt cx="348480" cy="64476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8041320" y="4673520"/>
                <a:ext cx="348480" cy="644760"/>
                <a:chOff x="8041320" y="4673520"/>
                <a:chExt cx="348480" cy="64476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8075520" y="5004000"/>
                  <a:ext cx="314280" cy="314280"/>
                </a:xfrm>
                <a:prstGeom prst="can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4600"/>
                    </a:gs>
                    <a:gs pos="50000">
                      <a:srgbClr val="009900"/>
                    </a:gs>
                    <a:gs pos="100000">
                      <a:srgbClr val="0046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075520" y="4932360"/>
                  <a:ext cx="314280" cy="316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4600"/>
                    </a:gs>
                    <a:gs pos="50000">
                      <a:srgbClr val="009900"/>
                    </a:gs>
                    <a:gs pos="100000">
                      <a:srgbClr val="0046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164440" y="4932360"/>
                  <a:ext cx="134640" cy="90720"/>
                </a:xfrm>
                <a:custGeom>
                  <a:avLst/>
                  <a:gdLst/>
                  <a:ahLst/>
                  <a:rect l="l" t="t" r="r" b="b"/>
                  <a:pathLst>
                    <a:path w="85" h="57">
                      <a:moveTo>
                        <a:pt x="0" y="0"/>
                      </a:moveTo>
                      <a:lnTo>
                        <a:pt x="28" y="57"/>
                      </a:lnTo>
                      <a:lnTo>
                        <a:pt x="57" y="28"/>
                      </a:lnTo>
                      <a:lnTo>
                        <a:pt x="85" y="57"/>
                      </a:lnTo>
                      <a:lnTo>
                        <a:pt x="8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119800" y="4748400"/>
                  <a:ext cx="223920" cy="225360"/>
                </a:xfrm>
                <a:prstGeom prst="ellips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8226360" y="4765680"/>
                  <a:ext cx="91800" cy="9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392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8221320" y="4822920"/>
                  <a:ext cx="24120" cy="475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291160" y="4822920"/>
                  <a:ext cx="24120" cy="475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rot="5400000">
                  <a:off x="8166600" y="4641120"/>
                  <a:ext cx="123840" cy="246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rot="1800000">
                  <a:off x="8094240" y="4687920"/>
                  <a:ext cx="123840" cy="246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"/>
              <p:cNvSpPr/>
              <p:nvPr/>
            </p:nvSpPr>
            <p:spPr>
              <a:xfrm>
                <a:off x="8131320" y="4829400"/>
                <a:ext cx="44280" cy="903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7" name=""/>
          <p:cNvGrpSpPr/>
          <p:nvPr/>
        </p:nvGrpSpPr>
        <p:grpSpPr>
          <a:xfrm>
            <a:off x="8437680" y="4707000"/>
            <a:ext cx="315720" cy="611280"/>
            <a:chOff x="8437680" y="4707000"/>
            <a:chExt cx="315720" cy="611280"/>
          </a:xfrm>
        </p:grpSpPr>
        <p:grpSp>
          <p:nvGrpSpPr>
            <p:cNvPr id="558" name=""/>
            <p:cNvGrpSpPr/>
            <p:nvPr/>
          </p:nvGrpSpPr>
          <p:grpSpPr>
            <a:xfrm>
              <a:off x="8437680" y="4707000"/>
              <a:ext cx="314280" cy="611280"/>
              <a:chOff x="8437680" y="4707000"/>
              <a:chExt cx="314280" cy="611280"/>
            </a:xfrm>
          </p:grpSpPr>
          <p:sp>
            <p:nvSpPr>
              <p:cNvPr id="559" name=""/>
              <p:cNvSpPr/>
              <p:nvPr/>
            </p:nvSpPr>
            <p:spPr>
              <a:xfrm>
                <a:off x="8437680" y="5004000"/>
                <a:ext cx="314280" cy="314280"/>
              </a:xfrm>
              <a:prstGeom prst="can">
                <a:avLst>
                  <a:gd name="adj" fmla="val 50000"/>
                </a:avLst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437680" y="4932360"/>
                <a:ext cx="314280" cy="31608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481960" y="4707000"/>
                <a:ext cx="223920" cy="2667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467920" y="4805640"/>
                <a:ext cx="44280" cy="903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8439120" y="4707000"/>
              <a:ext cx="314280" cy="611280"/>
              <a:chOff x="8439120" y="4707000"/>
              <a:chExt cx="314280" cy="611280"/>
            </a:xfrm>
          </p:grpSpPr>
          <p:sp>
            <p:nvSpPr>
              <p:cNvPr id="564" name=""/>
              <p:cNvSpPr/>
              <p:nvPr/>
            </p:nvSpPr>
            <p:spPr>
              <a:xfrm>
                <a:off x="8591400" y="4749840"/>
                <a:ext cx="92160" cy="92160"/>
              </a:xfrm>
              <a:prstGeom prst="ellipse">
                <a:avLst/>
              </a:prstGeom>
              <a:solidFill>
                <a:srgbClr val="333333">
                  <a:alpha val="60000"/>
                </a:srgbClr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586720" y="4807080"/>
                <a:ext cx="23760" cy="4752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656560" y="4807080"/>
                <a:ext cx="23760" cy="4752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546760" y="4778640"/>
                <a:ext cx="61920" cy="19080"/>
              </a:xfrm>
              <a:prstGeom prst="rect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8" name=""/>
              <p:cNvGrpSpPr/>
              <p:nvPr/>
            </p:nvGrpSpPr>
            <p:grpSpPr>
              <a:xfrm>
                <a:off x="8439120" y="4932720"/>
                <a:ext cx="314280" cy="385560"/>
                <a:chOff x="8439120" y="4932720"/>
                <a:chExt cx="314280" cy="38556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8439120" y="5004000"/>
                  <a:ext cx="314280" cy="314280"/>
                </a:xfrm>
                <a:prstGeom prst="can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e2f00"/>
                    </a:gs>
                    <a:gs pos="50000">
                      <a:srgbClr val="cc6600"/>
                    </a:gs>
                    <a:gs pos="100000">
                      <a:srgbClr val="5e2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439120" y="4932720"/>
                  <a:ext cx="314280" cy="31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2f00"/>
                    </a:gs>
                    <a:gs pos="50000">
                      <a:srgbClr val="cc6600"/>
                    </a:gs>
                    <a:gs pos="100000">
                      <a:srgbClr val="5e2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529840" y="4932720"/>
                  <a:ext cx="134640" cy="90360"/>
                </a:xfrm>
                <a:custGeom>
                  <a:avLst/>
                  <a:gdLst/>
                  <a:ahLst/>
                  <a:rect l="l" t="t" r="r" b="b"/>
                  <a:pathLst>
                    <a:path w="85" h="57">
                      <a:moveTo>
                        <a:pt x="0" y="0"/>
                      </a:moveTo>
                      <a:lnTo>
                        <a:pt x="28" y="57"/>
                      </a:lnTo>
                      <a:lnTo>
                        <a:pt x="57" y="28"/>
                      </a:lnTo>
                      <a:lnTo>
                        <a:pt x="85" y="57"/>
                      </a:lnTo>
                      <a:lnTo>
                        <a:pt x="8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8483400" y="4707000"/>
                <a:ext cx="223920" cy="2667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589600" y="4766040"/>
                <a:ext cx="92160" cy="91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584920" y="4822920"/>
                <a:ext cx="23760" cy="47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654760" y="4822920"/>
                <a:ext cx="23760" cy="47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8596080" y="4878000"/>
                <a:ext cx="82440" cy="42840"/>
              </a:xfrm>
              <a:custGeom>
                <a:avLst/>
                <a:gdLst>
                  <a:gd name="textAreaLeft" fmla="*/ 18000 w 82440"/>
                  <a:gd name="textAreaRight" fmla="*/ 64440 w 82440"/>
                  <a:gd name="textAreaTop" fmla="*/ 9360 h 42840"/>
                  <a:gd name="textAreaBottom" fmla="*/ 33480 h 42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545320" y="4794480"/>
                <a:ext cx="61920" cy="190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645400" y="4794480"/>
                <a:ext cx="44280" cy="190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469000" y="4805640"/>
                <a:ext cx="44640" cy="903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"/>
          <p:cNvGrpSpPr/>
          <p:nvPr/>
        </p:nvGrpSpPr>
        <p:grpSpPr>
          <a:xfrm>
            <a:off x="8481960" y="3892680"/>
            <a:ext cx="316080" cy="613800"/>
            <a:chOff x="8481960" y="3892680"/>
            <a:chExt cx="316080" cy="613800"/>
          </a:xfrm>
        </p:grpSpPr>
        <p:grpSp>
          <p:nvGrpSpPr>
            <p:cNvPr id="581" name=""/>
            <p:cNvGrpSpPr/>
            <p:nvPr/>
          </p:nvGrpSpPr>
          <p:grpSpPr>
            <a:xfrm>
              <a:off x="8483760" y="3892680"/>
              <a:ext cx="314280" cy="613800"/>
              <a:chOff x="8483760" y="3892680"/>
              <a:chExt cx="314280" cy="613800"/>
            </a:xfrm>
          </p:grpSpPr>
          <p:sp>
            <p:nvSpPr>
              <p:cNvPr id="582" name=""/>
              <p:cNvSpPr/>
              <p:nvPr/>
            </p:nvSpPr>
            <p:spPr>
              <a:xfrm>
                <a:off x="8483760" y="4327200"/>
                <a:ext cx="314280" cy="17928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483760" y="4192560"/>
                <a:ext cx="314280" cy="313920"/>
              </a:xfrm>
              <a:prstGeom prst="can">
                <a:avLst>
                  <a:gd name="adj" fmla="val 50000"/>
                </a:avLst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483760" y="4120920"/>
                <a:ext cx="314280" cy="31572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13720" y="4136760"/>
                <a:ext cx="122400" cy="274320"/>
              </a:xfrm>
              <a:custGeom>
                <a:avLst/>
                <a:gdLst/>
                <a:ahLst/>
                <a:rect l="l" t="t" r="r" b="b"/>
                <a:pathLst>
                  <a:path w="77" h="173">
                    <a:moveTo>
                      <a:pt x="57" y="0"/>
                    </a:moveTo>
                    <a:lnTo>
                      <a:pt x="0" y="0"/>
                    </a:lnTo>
                    <a:lnTo>
                      <a:pt x="32" y="32"/>
                    </a:lnTo>
                    <a:lnTo>
                      <a:pt x="8" y="141"/>
                    </a:lnTo>
                    <a:lnTo>
                      <a:pt x="48" y="173"/>
                    </a:lnTo>
                    <a:lnTo>
                      <a:pt x="77" y="140"/>
                    </a:lnTo>
                    <a:lnTo>
                      <a:pt x="48" y="3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528040" y="3892680"/>
                <a:ext cx="223920" cy="26964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634600" y="3954240"/>
                <a:ext cx="91800" cy="91800"/>
              </a:xfrm>
              <a:prstGeom prst="ellipse">
                <a:avLst/>
              </a:prstGeom>
              <a:solidFill>
                <a:srgbClr val="333333">
                  <a:alpha val="60000"/>
                </a:srgbClr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629560" y="401148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699400" y="401148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8639280" y="4082760"/>
                <a:ext cx="82440" cy="42480"/>
              </a:xfrm>
              <a:custGeom>
                <a:avLst/>
                <a:gdLst>
                  <a:gd name="textAreaLeft" fmla="*/ 18000 w 82440"/>
                  <a:gd name="textAreaRight" fmla="*/ 64440 w 82440"/>
                  <a:gd name="textAreaTop" fmla="*/ 9360 h 42480"/>
                  <a:gd name="textAreaBottom" fmla="*/ 33120 h 4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588520" y="3976560"/>
                <a:ext cx="61920" cy="18720"/>
              </a:xfrm>
              <a:prstGeom prst="rect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688600" y="3976560"/>
                <a:ext cx="44280" cy="18720"/>
              </a:xfrm>
              <a:prstGeom prst="rect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512200" y="3992400"/>
                <a:ext cx="44640" cy="9000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8481960" y="3892680"/>
              <a:ext cx="314280" cy="613800"/>
              <a:chOff x="8481960" y="3892680"/>
              <a:chExt cx="314280" cy="613800"/>
            </a:xfrm>
          </p:grpSpPr>
          <p:sp>
            <p:nvSpPr>
              <p:cNvPr id="595" name=""/>
              <p:cNvSpPr/>
              <p:nvPr/>
            </p:nvSpPr>
            <p:spPr>
              <a:xfrm>
                <a:off x="8481960" y="4327200"/>
                <a:ext cx="314280" cy="179280"/>
              </a:xfrm>
              <a:prstGeom prst="ellipse">
                <a:avLst/>
              </a:prstGeom>
              <a:gradFill rotWithShape="0">
                <a:gsLst>
                  <a:gs pos="0">
                    <a:srgbClr val="465e00"/>
                  </a:gs>
                  <a:gs pos="50000">
                    <a:srgbClr val="99cc00"/>
                  </a:gs>
                  <a:gs pos="100000">
                    <a:srgbClr val="465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481960" y="4192560"/>
                <a:ext cx="314280" cy="3139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481960" y="4120920"/>
                <a:ext cx="314280" cy="315720"/>
              </a:xfrm>
              <a:prstGeom prst="ellipse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611920" y="4136760"/>
                <a:ext cx="122400" cy="274320"/>
              </a:xfrm>
              <a:custGeom>
                <a:avLst/>
                <a:gdLst/>
                <a:ahLst/>
                <a:rect l="l" t="t" r="r" b="b"/>
                <a:pathLst>
                  <a:path w="77" h="173">
                    <a:moveTo>
                      <a:pt x="57" y="0"/>
                    </a:moveTo>
                    <a:lnTo>
                      <a:pt x="0" y="0"/>
                    </a:lnTo>
                    <a:lnTo>
                      <a:pt x="32" y="32"/>
                    </a:lnTo>
                    <a:lnTo>
                      <a:pt x="8" y="141"/>
                    </a:lnTo>
                    <a:lnTo>
                      <a:pt x="48" y="173"/>
                    </a:lnTo>
                    <a:lnTo>
                      <a:pt x="77" y="140"/>
                    </a:lnTo>
                    <a:lnTo>
                      <a:pt x="48" y="32"/>
                    </a:lnTo>
                    <a:lnTo>
                      <a:pt x="57" y="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526240" y="3892680"/>
                <a:ext cx="223920" cy="26964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632800" y="3954240"/>
                <a:ext cx="91800" cy="91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627760" y="401148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697600" y="401148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8637480" y="4082760"/>
                <a:ext cx="82440" cy="42480"/>
              </a:xfrm>
              <a:custGeom>
                <a:avLst/>
                <a:gdLst>
                  <a:gd name="textAreaLeft" fmla="*/ 18000 w 82440"/>
                  <a:gd name="textAreaRight" fmla="*/ 64440 w 82440"/>
                  <a:gd name="textAreaTop" fmla="*/ 9360 h 42480"/>
                  <a:gd name="textAreaBottom" fmla="*/ 33120 h 4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586720" y="3976560"/>
                <a:ext cx="61920" cy="187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686800" y="3976560"/>
                <a:ext cx="44280" cy="187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510400" y="3992400"/>
                <a:ext cx="44640" cy="9000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7671240" y="4657680"/>
            <a:ext cx="361440" cy="660600"/>
            <a:chOff x="7671240" y="4657680"/>
            <a:chExt cx="361440" cy="660600"/>
          </a:xfrm>
        </p:grpSpPr>
        <p:grpSp>
          <p:nvGrpSpPr>
            <p:cNvPr id="608" name=""/>
            <p:cNvGrpSpPr/>
            <p:nvPr/>
          </p:nvGrpSpPr>
          <p:grpSpPr>
            <a:xfrm>
              <a:off x="7673040" y="4657680"/>
              <a:ext cx="359640" cy="660600"/>
              <a:chOff x="7673040" y="4657680"/>
              <a:chExt cx="359640" cy="660600"/>
            </a:xfrm>
          </p:grpSpPr>
          <p:sp>
            <p:nvSpPr>
              <p:cNvPr id="609" name=""/>
              <p:cNvSpPr/>
              <p:nvPr/>
            </p:nvSpPr>
            <p:spPr>
              <a:xfrm>
                <a:off x="7726320" y="4705560"/>
                <a:ext cx="261720" cy="24912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718400" y="5004000"/>
                <a:ext cx="314280" cy="314280"/>
              </a:xfrm>
              <a:prstGeom prst="can">
                <a:avLst>
                  <a:gd name="adj" fmla="val 50000"/>
                </a:avLst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716600" y="4932360"/>
                <a:ext cx="314280" cy="31608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07320" y="4932360"/>
                <a:ext cx="134640" cy="90720"/>
              </a:xfrm>
              <a:custGeom>
                <a:avLst/>
                <a:gdLst/>
                <a:ahLst/>
                <a:rect l="l" t="t" r="r" b="b"/>
                <a:pathLst>
                  <a:path w="85" h="57">
                    <a:moveTo>
                      <a:pt x="0" y="0"/>
                    </a:moveTo>
                    <a:lnTo>
                      <a:pt x="28" y="57"/>
                    </a:lnTo>
                    <a:lnTo>
                      <a:pt x="57" y="28"/>
                    </a:lnTo>
                    <a:lnTo>
                      <a:pt x="85" y="57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762680" y="4748400"/>
                <a:ext cx="223920" cy="2253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869240" y="4765680"/>
                <a:ext cx="91800" cy="92160"/>
              </a:xfrm>
              <a:prstGeom prst="ellipse">
                <a:avLst/>
              </a:prstGeom>
              <a:solidFill>
                <a:srgbClr val="333333">
                  <a:alpha val="60000"/>
                </a:srgbClr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864200" y="4822920"/>
                <a:ext cx="24120" cy="4752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934040" y="4822920"/>
                <a:ext cx="24120" cy="4752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 rot="9000000">
                <a:off x="7756200" y="4706640"/>
                <a:ext cx="131760" cy="79560"/>
              </a:xfrm>
              <a:custGeom>
                <a:avLst/>
                <a:gdLst>
                  <a:gd name="textAreaLeft" fmla="*/ 22320 w 131760"/>
                  <a:gd name="textAreaRight" fmla="*/ 93960 w 131760"/>
                  <a:gd name="textAreaTop" fmla="*/ 17280 h 79560"/>
                  <a:gd name="textAreaBottom" fmla="*/ 62280 h 7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01" y="2763"/>
                      <a:pt x="15401" y="5080"/>
                      <a:pt x="15401" y="10800"/>
                    </a:cubicBezTo>
                    <a:cubicBezTo>
                      <a:pt x="15401" y="16520"/>
                      <a:pt x="18501" y="1883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 rot="9000000">
                <a:off x="7813080" y="4701960"/>
                <a:ext cx="131760" cy="79560"/>
              </a:xfrm>
              <a:custGeom>
                <a:avLst/>
                <a:gdLst>
                  <a:gd name="textAreaLeft" fmla="*/ 22320 w 131760"/>
                  <a:gd name="textAreaRight" fmla="*/ 93960 w 131760"/>
                  <a:gd name="textAreaTop" fmla="*/ 17280 h 79560"/>
                  <a:gd name="textAreaBottom" fmla="*/ 62280 h 7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01" y="2763"/>
                      <a:pt x="15401" y="5080"/>
                      <a:pt x="15401" y="10800"/>
                    </a:cubicBezTo>
                    <a:cubicBezTo>
                      <a:pt x="15401" y="16520"/>
                      <a:pt x="18501" y="1883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 rot="9000000">
                <a:off x="7882920" y="4703400"/>
                <a:ext cx="131760" cy="79560"/>
              </a:xfrm>
              <a:custGeom>
                <a:avLst/>
                <a:gdLst>
                  <a:gd name="textAreaLeft" fmla="*/ 22320 w 131760"/>
                  <a:gd name="textAreaRight" fmla="*/ 93960 w 131760"/>
                  <a:gd name="textAreaTop" fmla="*/ 17280 h 79560"/>
                  <a:gd name="textAreaBottom" fmla="*/ 62280 h 7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01" y="2763"/>
                      <a:pt x="15401" y="5080"/>
                      <a:pt x="15401" y="10800"/>
                    </a:cubicBezTo>
                    <a:cubicBezTo>
                      <a:pt x="15401" y="16520"/>
                      <a:pt x="18501" y="1883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1800000">
                <a:off x="7725960" y="4672080"/>
                <a:ext cx="123840" cy="2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770600" y="4813560"/>
                <a:ext cx="44640" cy="903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7671240" y="4657680"/>
              <a:ext cx="359280" cy="660600"/>
              <a:chOff x="7671240" y="4657680"/>
              <a:chExt cx="359280" cy="660600"/>
            </a:xfrm>
          </p:grpSpPr>
          <p:sp>
            <p:nvSpPr>
              <p:cNvPr id="623" name=""/>
              <p:cNvSpPr/>
              <p:nvPr/>
            </p:nvSpPr>
            <p:spPr>
              <a:xfrm>
                <a:off x="7724520" y="4705560"/>
                <a:ext cx="261360" cy="249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716600" y="5004000"/>
                <a:ext cx="313920" cy="31428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2f2f46"/>
                  </a:gs>
                  <a:gs pos="50000">
                    <a:srgbClr val="666699"/>
                  </a:gs>
                  <a:gs pos="100000">
                    <a:srgbClr val="2f2f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715160" y="4932360"/>
                <a:ext cx="313920" cy="316080"/>
              </a:xfrm>
              <a:prstGeom prst="ellipse">
                <a:avLst/>
              </a:prstGeom>
              <a:gradFill rotWithShape="0">
                <a:gsLst>
                  <a:gs pos="0">
                    <a:srgbClr val="2f2f46"/>
                  </a:gs>
                  <a:gs pos="50000">
                    <a:srgbClr val="666699"/>
                  </a:gs>
                  <a:gs pos="100000">
                    <a:srgbClr val="2f2f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805520" y="4932360"/>
                <a:ext cx="134280" cy="90720"/>
              </a:xfrm>
              <a:custGeom>
                <a:avLst/>
                <a:gdLst/>
                <a:ahLst/>
                <a:rect l="l" t="t" r="r" b="b"/>
                <a:pathLst>
                  <a:path w="85" h="57">
                    <a:moveTo>
                      <a:pt x="0" y="0"/>
                    </a:moveTo>
                    <a:lnTo>
                      <a:pt x="28" y="57"/>
                    </a:lnTo>
                    <a:lnTo>
                      <a:pt x="57" y="28"/>
                    </a:lnTo>
                    <a:lnTo>
                      <a:pt x="85" y="57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760880" y="4748400"/>
                <a:ext cx="223560" cy="2253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867440" y="4765680"/>
                <a:ext cx="91440" cy="92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862400" y="4822920"/>
                <a:ext cx="23760" cy="47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932240" y="4822920"/>
                <a:ext cx="23760" cy="47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 rot="9000000">
                <a:off x="7754400" y="4706280"/>
                <a:ext cx="131400" cy="79560"/>
              </a:xfrm>
              <a:custGeom>
                <a:avLst/>
                <a:gdLst>
                  <a:gd name="textAreaLeft" fmla="*/ 22320 w 131400"/>
                  <a:gd name="textAreaRight" fmla="*/ 93600 w 131400"/>
                  <a:gd name="textAreaTop" fmla="*/ 17280 h 79560"/>
                  <a:gd name="textAreaBottom" fmla="*/ 62280 h 7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01" y="2763"/>
                      <a:pt x="15401" y="5080"/>
                      <a:pt x="15401" y="10800"/>
                    </a:cubicBezTo>
                    <a:cubicBezTo>
                      <a:pt x="15401" y="16520"/>
                      <a:pt x="18501" y="1883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 rot="9000000">
                <a:off x="7811280" y="4701600"/>
                <a:ext cx="131400" cy="79560"/>
              </a:xfrm>
              <a:custGeom>
                <a:avLst/>
                <a:gdLst>
                  <a:gd name="textAreaLeft" fmla="*/ 22320 w 131400"/>
                  <a:gd name="textAreaRight" fmla="*/ 93600 w 131400"/>
                  <a:gd name="textAreaTop" fmla="*/ 17280 h 79560"/>
                  <a:gd name="textAreaBottom" fmla="*/ 62280 h 7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01" y="2763"/>
                      <a:pt x="15401" y="5080"/>
                      <a:pt x="15401" y="10800"/>
                    </a:cubicBezTo>
                    <a:cubicBezTo>
                      <a:pt x="15401" y="16520"/>
                      <a:pt x="18501" y="1883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 rot="9000000">
                <a:off x="7881120" y="4703040"/>
                <a:ext cx="131400" cy="79560"/>
              </a:xfrm>
              <a:custGeom>
                <a:avLst/>
                <a:gdLst>
                  <a:gd name="textAreaLeft" fmla="*/ 22320 w 131400"/>
                  <a:gd name="textAreaRight" fmla="*/ 93600 w 131400"/>
                  <a:gd name="textAreaTop" fmla="*/ 17280 h 79560"/>
                  <a:gd name="textAreaBottom" fmla="*/ 62280 h 7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01" y="2763"/>
                      <a:pt x="15401" y="5080"/>
                      <a:pt x="15401" y="10800"/>
                    </a:cubicBezTo>
                    <a:cubicBezTo>
                      <a:pt x="15401" y="16520"/>
                      <a:pt x="18501" y="1883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1800000">
                <a:off x="7724520" y="4671720"/>
                <a:ext cx="123480" cy="2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768800" y="4813560"/>
                <a:ext cx="44280" cy="903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6" name=""/>
          <p:cNvGrpSpPr/>
          <p:nvPr/>
        </p:nvGrpSpPr>
        <p:grpSpPr>
          <a:xfrm>
            <a:off x="7716240" y="3846240"/>
            <a:ext cx="361080" cy="660600"/>
            <a:chOff x="7716240" y="3846240"/>
            <a:chExt cx="361080" cy="660600"/>
          </a:xfrm>
        </p:grpSpPr>
        <p:grpSp>
          <p:nvGrpSpPr>
            <p:cNvPr id="637" name=""/>
            <p:cNvGrpSpPr/>
            <p:nvPr/>
          </p:nvGrpSpPr>
          <p:grpSpPr>
            <a:xfrm>
              <a:off x="7718040" y="3846240"/>
              <a:ext cx="359280" cy="660600"/>
              <a:chOff x="7718040" y="3846240"/>
              <a:chExt cx="359280" cy="660600"/>
            </a:xfrm>
          </p:grpSpPr>
          <p:sp>
            <p:nvSpPr>
              <p:cNvPr id="638" name=""/>
              <p:cNvSpPr/>
              <p:nvPr/>
            </p:nvSpPr>
            <p:spPr>
              <a:xfrm>
                <a:off x="7763040" y="4327200"/>
                <a:ext cx="314280" cy="17964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763040" y="4192560"/>
                <a:ext cx="314280" cy="314280"/>
              </a:xfrm>
              <a:prstGeom prst="can">
                <a:avLst>
                  <a:gd name="adj" fmla="val 50000"/>
                </a:avLst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763040" y="4120920"/>
                <a:ext cx="314280" cy="31608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893000" y="4136760"/>
                <a:ext cx="122400" cy="274680"/>
              </a:xfrm>
              <a:custGeom>
                <a:avLst/>
                <a:gdLst/>
                <a:ahLst/>
                <a:rect l="l" t="t" r="r" b="b"/>
                <a:pathLst>
                  <a:path w="77" h="173">
                    <a:moveTo>
                      <a:pt x="57" y="0"/>
                    </a:moveTo>
                    <a:lnTo>
                      <a:pt x="0" y="0"/>
                    </a:lnTo>
                    <a:lnTo>
                      <a:pt x="32" y="32"/>
                    </a:lnTo>
                    <a:lnTo>
                      <a:pt x="8" y="141"/>
                    </a:lnTo>
                    <a:lnTo>
                      <a:pt x="48" y="173"/>
                    </a:lnTo>
                    <a:lnTo>
                      <a:pt x="77" y="140"/>
                    </a:lnTo>
                    <a:lnTo>
                      <a:pt x="48" y="3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770960" y="3894120"/>
                <a:ext cx="261720" cy="24912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807320" y="3936960"/>
                <a:ext cx="223920" cy="2253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913880" y="3954240"/>
                <a:ext cx="91800" cy="92160"/>
              </a:xfrm>
              <a:prstGeom prst="ellipse">
                <a:avLst/>
              </a:prstGeom>
              <a:solidFill>
                <a:srgbClr val="333333">
                  <a:alpha val="60000"/>
                </a:srgbClr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908840" y="4011480"/>
                <a:ext cx="24120" cy="4752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978680" y="4011480"/>
                <a:ext cx="24120" cy="4752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 rot="9000000">
                <a:off x="7800840" y="3895560"/>
                <a:ext cx="131760" cy="79200"/>
              </a:xfrm>
              <a:custGeom>
                <a:avLst/>
                <a:gdLst>
                  <a:gd name="textAreaLeft" fmla="*/ 22320 w 131760"/>
                  <a:gd name="textAreaRight" fmla="*/ 93960 w 131760"/>
                  <a:gd name="textAreaTop" fmla="*/ 17280 h 79200"/>
                  <a:gd name="textAreaBottom" fmla="*/ 61920 h 7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01" y="2763"/>
                      <a:pt x="15401" y="5080"/>
                      <a:pt x="15401" y="10800"/>
                    </a:cubicBezTo>
                    <a:cubicBezTo>
                      <a:pt x="15401" y="16520"/>
                      <a:pt x="18501" y="1883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 rot="9000000">
                <a:off x="7857720" y="3890880"/>
                <a:ext cx="131760" cy="79200"/>
              </a:xfrm>
              <a:custGeom>
                <a:avLst/>
                <a:gdLst>
                  <a:gd name="textAreaLeft" fmla="*/ 22320 w 131760"/>
                  <a:gd name="textAreaRight" fmla="*/ 93960 w 131760"/>
                  <a:gd name="textAreaTop" fmla="*/ 17280 h 79200"/>
                  <a:gd name="textAreaBottom" fmla="*/ 61920 h 7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01" y="2763"/>
                      <a:pt x="15401" y="5080"/>
                      <a:pt x="15401" y="10800"/>
                    </a:cubicBezTo>
                    <a:cubicBezTo>
                      <a:pt x="15401" y="16520"/>
                      <a:pt x="18501" y="1883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 rot="9000000">
                <a:off x="7927560" y="3891960"/>
                <a:ext cx="131760" cy="79560"/>
              </a:xfrm>
              <a:custGeom>
                <a:avLst/>
                <a:gdLst>
                  <a:gd name="textAreaLeft" fmla="*/ 22320 w 131760"/>
                  <a:gd name="textAreaRight" fmla="*/ 93960 w 131760"/>
                  <a:gd name="textAreaTop" fmla="*/ 17280 h 79560"/>
                  <a:gd name="textAreaBottom" fmla="*/ 62280 h 7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01" y="2763"/>
                      <a:pt x="15401" y="5080"/>
                      <a:pt x="15401" y="10800"/>
                    </a:cubicBezTo>
                    <a:cubicBezTo>
                      <a:pt x="15401" y="16520"/>
                      <a:pt x="18501" y="1883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800000">
                <a:off x="7770960" y="3860640"/>
                <a:ext cx="123840" cy="2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815240" y="4001760"/>
                <a:ext cx="44640" cy="9072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7716240" y="3846240"/>
              <a:ext cx="359280" cy="660600"/>
              <a:chOff x="7716240" y="3846240"/>
              <a:chExt cx="359280" cy="660600"/>
            </a:xfrm>
          </p:grpSpPr>
          <p:sp>
            <p:nvSpPr>
              <p:cNvPr id="653" name=""/>
              <p:cNvSpPr/>
              <p:nvPr/>
            </p:nvSpPr>
            <p:spPr>
              <a:xfrm>
                <a:off x="7761240" y="4327200"/>
                <a:ext cx="314280" cy="179640"/>
              </a:xfrm>
              <a:prstGeom prst="ellipse">
                <a:avLst/>
              </a:prstGeom>
              <a:gradFill rotWithShape="0">
                <a:gsLst>
                  <a:gs pos="0">
                    <a:srgbClr val="465e00"/>
                  </a:gs>
                  <a:gs pos="50000">
                    <a:srgbClr val="99cc00"/>
                  </a:gs>
                  <a:gs pos="100000">
                    <a:srgbClr val="465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761240" y="4192560"/>
                <a:ext cx="314280" cy="31428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465e00"/>
                  </a:gs>
                  <a:gs pos="50000">
                    <a:srgbClr val="99cc00"/>
                  </a:gs>
                  <a:gs pos="100000">
                    <a:srgbClr val="465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761240" y="4120920"/>
                <a:ext cx="314280" cy="316080"/>
              </a:xfrm>
              <a:prstGeom prst="ellipse">
                <a:avLst/>
              </a:prstGeom>
              <a:gradFill rotWithShape="0">
                <a:gsLst>
                  <a:gs pos="0">
                    <a:srgbClr val="465e00"/>
                  </a:gs>
                  <a:gs pos="50000">
                    <a:srgbClr val="99cc00"/>
                  </a:gs>
                  <a:gs pos="100000">
                    <a:srgbClr val="465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891200" y="4136760"/>
                <a:ext cx="122400" cy="274680"/>
              </a:xfrm>
              <a:custGeom>
                <a:avLst/>
                <a:gdLst/>
                <a:ahLst/>
                <a:rect l="l" t="t" r="r" b="b"/>
                <a:pathLst>
                  <a:path w="77" h="173">
                    <a:moveTo>
                      <a:pt x="57" y="0"/>
                    </a:moveTo>
                    <a:lnTo>
                      <a:pt x="0" y="0"/>
                    </a:lnTo>
                    <a:lnTo>
                      <a:pt x="32" y="32"/>
                    </a:lnTo>
                    <a:lnTo>
                      <a:pt x="8" y="141"/>
                    </a:lnTo>
                    <a:lnTo>
                      <a:pt x="48" y="173"/>
                    </a:lnTo>
                    <a:lnTo>
                      <a:pt x="77" y="140"/>
                    </a:lnTo>
                    <a:lnTo>
                      <a:pt x="48" y="32"/>
                    </a:lnTo>
                    <a:lnTo>
                      <a:pt x="57" y="0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769160" y="3894120"/>
                <a:ext cx="261720" cy="249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805520" y="3936960"/>
                <a:ext cx="223920" cy="2253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912080" y="3954240"/>
                <a:ext cx="91800" cy="92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907040" y="4011480"/>
                <a:ext cx="24120" cy="47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976880" y="4011480"/>
                <a:ext cx="24120" cy="47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 rot="9000000">
                <a:off x="7799040" y="3895560"/>
                <a:ext cx="131760" cy="79200"/>
              </a:xfrm>
              <a:custGeom>
                <a:avLst/>
                <a:gdLst>
                  <a:gd name="textAreaLeft" fmla="*/ 22320 w 131760"/>
                  <a:gd name="textAreaRight" fmla="*/ 93960 w 131760"/>
                  <a:gd name="textAreaTop" fmla="*/ 17280 h 79200"/>
                  <a:gd name="textAreaBottom" fmla="*/ 61920 h 7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01" y="2763"/>
                      <a:pt x="15401" y="5080"/>
                      <a:pt x="15401" y="10800"/>
                    </a:cubicBezTo>
                    <a:cubicBezTo>
                      <a:pt x="15401" y="16520"/>
                      <a:pt x="18501" y="1883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 rot="9000000">
                <a:off x="7855920" y="3890880"/>
                <a:ext cx="131760" cy="79200"/>
              </a:xfrm>
              <a:custGeom>
                <a:avLst/>
                <a:gdLst>
                  <a:gd name="textAreaLeft" fmla="*/ 22320 w 131760"/>
                  <a:gd name="textAreaRight" fmla="*/ 93960 w 131760"/>
                  <a:gd name="textAreaTop" fmla="*/ 17280 h 79200"/>
                  <a:gd name="textAreaBottom" fmla="*/ 61920 h 7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01" y="2763"/>
                      <a:pt x="15401" y="5080"/>
                      <a:pt x="15401" y="10800"/>
                    </a:cubicBezTo>
                    <a:cubicBezTo>
                      <a:pt x="15401" y="16520"/>
                      <a:pt x="18501" y="1883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 rot="9000000">
                <a:off x="7925760" y="3891960"/>
                <a:ext cx="131760" cy="79560"/>
              </a:xfrm>
              <a:custGeom>
                <a:avLst/>
                <a:gdLst>
                  <a:gd name="textAreaLeft" fmla="*/ 22320 w 131760"/>
                  <a:gd name="textAreaRight" fmla="*/ 93960 w 131760"/>
                  <a:gd name="textAreaTop" fmla="*/ 17280 h 79560"/>
                  <a:gd name="textAreaBottom" fmla="*/ 62280 h 7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01" y="2763"/>
                      <a:pt x="15401" y="5080"/>
                      <a:pt x="15401" y="10800"/>
                    </a:cubicBezTo>
                    <a:cubicBezTo>
                      <a:pt x="15401" y="16520"/>
                      <a:pt x="18501" y="1883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800000">
                <a:off x="7769160" y="3860640"/>
                <a:ext cx="123840" cy="2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813440" y="4001760"/>
                <a:ext cx="44640" cy="9072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7" name=""/>
          <p:cNvGrpSpPr/>
          <p:nvPr/>
        </p:nvGrpSpPr>
        <p:grpSpPr>
          <a:xfrm>
            <a:off x="8480520" y="2422440"/>
            <a:ext cx="271080" cy="604080"/>
            <a:chOff x="8480520" y="2422440"/>
            <a:chExt cx="271080" cy="604080"/>
          </a:xfrm>
        </p:grpSpPr>
        <p:grpSp>
          <p:nvGrpSpPr>
            <p:cNvPr id="668" name=""/>
            <p:cNvGrpSpPr/>
            <p:nvPr/>
          </p:nvGrpSpPr>
          <p:grpSpPr>
            <a:xfrm>
              <a:off x="8481960" y="2422440"/>
              <a:ext cx="269640" cy="604080"/>
              <a:chOff x="8481960" y="2422440"/>
              <a:chExt cx="269640" cy="604080"/>
            </a:xfrm>
          </p:grpSpPr>
          <p:sp>
            <p:nvSpPr>
              <p:cNvPr id="669" name=""/>
              <p:cNvSpPr/>
              <p:nvPr/>
            </p:nvSpPr>
            <p:spPr>
              <a:xfrm rot="16200000">
                <a:off x="8470800" y="2446200"/>
                <a:ext cx="304560" cy="257040"/>
              </a:xfrm>
              <a:prstGeom prst="flowChartDelay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0" name=""/>
              <p:cNvGrpSpPr/>
              <p:nvPr/>
            </p:nvGrpSpPr>
            <p:grpSpPr>
              <a:xfrm>
                <a:off x="8481960" y="2641320"/>
                <a:ext cx="269640" cy="385200"/>
                <a:chOff x="8481960" y="2641320"/>
                <a:chExt cx="269640" cy="38520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8481960" y="2712240"/>
                  <a:ext cx="269640" cy="314280"/>
                </a:xfrm>
                <a:prstGeom prst="can">
                  <a:avLst>
                    <a:gd name="adj" fmla="val 50000"/>
                  </a:avLst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8481960" y="2641320"/>
                  <a:ext cx="269640" cy="31536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3" name=""/>
              <p:cNvSpPr/>
              <p:nvPr/>
            </p:nvSpPr>
            <p:spPr>
              <a:xfrm>
                <a:off x="8613720" y="2668320"/>
                <a:ext cx="64800" cy="19332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0" y="9"/>
                    </a:moveTo>
                    <a:lnTo>
                      <a:pt x="28" y="122"/>
                    </a:lnTo>
                    <a:lnTo>
                      <a:pt x="4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526240" y="2457000"/>
                <a:ext cx="223920" cy="2253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632800" y="2474640"/>
                <a:ext cx="91800" cy="91800"/>
              </a:xfrm>
              <a:prstGeom prst="ellipse">
                <a:avLst/>
              </a:prstGeom>
              <a:solidFill>
                <a:srgbClr val="333333">
                  <a:alpha val="60000"/>
                </a:srgbClr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627760" y="253188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697600" y="253188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6200000">
                <a:off x="8414640" y="2523960"/>
                <a:ext cx="269640" cy="135000"/>
              </a:xfrm>
              <a:prstGeom prst="flowChartDelay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8480520" y="2422440"/>
              <a:ext cx="269640" cy="604080"/>
              <a:chOff x="8480520" y="2422440"/>
              <a:chExt cx="269640" cy="604080"/>
            </a:xfrm>
          </p:grpSpPr>
          <p:sp>
            <p:nvSpPr>
              <p:cNvPr id="680" name=""/>
              <p:cNvSpPr/>
              <p:nvPr/>
            </p:nvSpPr>
            <p:spPr>
              <a:xfrm rot="16200000">
                <a:off x="8469360" y="2446200"/>
                <a:ext cx="304560" cy="257040"/>
              </a:xfrm>
              <a:prstGeom prst="flowChartDelay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1" name=""/>
              <p:cNvGrpSpPr/>
              <p:nvPr/>
            </p:nvGrpSpPr>
            <p:grpSpPr>
              <a:xfrm>
                <a:off x="8480520" y="2641320"/>
                <a:ext cx="269640" cy="385200"/>
                <a:chOff x="8480520" y="2641320"/>
                <a:chExt cx="269640" cy="3852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8480520" y="2712240"/>
                  <a:ext cx="269640" cy="314280"/>
                </a:xfrm>
                <a:prstGeom prst="can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462f75"/>
                    </a:gs>
                    <a:gs pos="50000">
                      <a:srgbClr val="9966ff"/>
                    </a:gs>
                    <a:gs pos="100000">
                      <a:srgbClr val="462f7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8480520" y="2641320"/>
                  <a:ext cx="269640" cy="31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2f75"/>
                    </a:gs>
                    <a:gs pos="50000">
                      <a:srgbClr val="9966ff"/>
                    </a:gs>
                    <a:gs pos="100000">
                      <a:srgbClr val="462f7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4" name=""/>
              <p:cNvSpPr/>
              <p:nvPr/>
            </p:nvSpPr>
            <p:spPr>
              <a:xfrm>
                <a:off x="8612280" y="2668320"/>
                <a:ext cx="64800" cy="19332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0" y="9"/>
                    </a:moveTo>
                    <a:lnTo>
                      <a:pt x="28" y="122"/>
                    </a:lnTo>
                    <a:lnTo>
                      <a:pt x="4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524800" y="2457000"/>
                <a:ext cx="223920" cy="2253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631360" y="2474640"/>
                <a:ext cx="91800" cy="91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626320" y="253188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696160" y="253188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6200000">
                <a:off x="8413200" y="2523960"/>
                <a:ext cx="269640" cy="135000"/>
              </a:xfrm>
              <a:prstGeom prst="flowChartDelay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0" name=""/>
          <p:cNvGrpSpPr/>
          <p:nvPr/>
        </p:nvGrpSpPr>
        <p:grpSpPr>
          <a:xfrm>
            <a:off x="7761240" y="2417400"/>
            <a:ext cx="271440" cy="613800"/>
            <a:chOff x="7761240" y="2417400"/>
            <a:chExt cx="271440" cy="613800"/>
          </a:xfrm>
        </p:grpSpPr>
        <p:grpSp>
          <p:nvGrpSpPr>
            <p:cNvPr id="691" name=""/>
            <p:cNvGrpSpPr/>
            <p:nvPr/>
          </p:nvGrpSpPr>
          <p:grpSpPr>
            <a:xfrm>
              <a:off x="7763040" y="2417400"/>
              <a:ext cx="269640" cy="613800"/>
              <a:chOff x="7763040" y="2417400"/>
              <a:chExt cx="269640" cy="613800"/>
            </a:xfrm>
          </p:grpSpPr>
          <p:sp>
            <p:nvSpPr>
              <p:cNvPr id="692" name=""/>
              <p:cNvSpPr/>
              <p:nvPr/>
            </p:nvSpPr>
            <p:spPr>
              <a:xfrm rot="16200000">
                <a:off x="7791480" y="2401560"/>
                <a:ext cx="225000" cy="256680"/>
              </a:xfrm>
              <a:prstGeom prst="flowChartDelay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3" name=""/>
              <p:cNvGrpSpPr/>
              <p:nvPr/>
            </p:nvGrpSpPr>
            <p:grpSpPr>
              <a:xfrm>
                <a:off x="7763040" y="2646000"/>
                <a:ext cx="269640" cy="385200"/>
                <a:chOff x="7763040" y="2646000"/>
                <a:chExt cx="269640" cy="38520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7763040" y="2716920"/>
                  <a:ext cx="269640" cy="314280"/>
                </a:xfrm>
                <a:prstGeom prst="can">
                  <a:avLst>
                    <a:gd name="adj" fmla="val 50000"/>
                  </a:avLst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7763040" y="2646000"/>
                  <a:ext cx="269640" cy="31536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7899480" y="2673000"/>
                <a:ext cx="64440" cy="19332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0" y="9"/>
                    </a:moveTo>
                    <a:lnTo>
                      <a:pt x="28" y="122"/>
                    </a:lnTo>
                    <a:lnTo>
                      <a:pt x="4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808760" y="2461680"/>
                <a:ext cx="223560" cy="2253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915320" y="2479320"/>
                <a:ext cx="91440" cy="91800"/>
              </a:xfrm>
              <a:prstGeom prst="ellipse">
                <a:avLst/>
              </a:prstGeom>
              <a:solidFill>
                <a:srgbClr val="333333">
                  <a:alpha val="60000"/>
                </a:srgbClr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910280" y="2536560"/>
                <a:ext cx="23760" cy="471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980120" y="2536560"/>
                <a:ext cx="23760" cy="471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6200000">
                <a:off x="7713000" y="2502360"/>
                <a:ext cx="234720" cy="134640"/>
              </a:xfrm>
              <a:prstGeom prst="flowChartDelay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7761240" y="2417400"/>
              <a:ext cx="270000" cy="613800"/>
              <a:chOff x="7761240" y="2417400"/>
              <a:chExt cx="270000" cy="613800"/>
            </a:xfrm>
          </p:grpSpPr>
          <p:sp>
            <p:nvSpPr>
              <p:cNvPr id="703" name=""/>
              <p:cNvSpPr/>
              <p:nvPr/>
            </p:nvSpPr>
            <p:spPr>
              <a:xfrm rot="16200000">
                <a:off x="7790040" y="2401200"/>
                <a:ext cx="225000" cy="257040"/>
              </a:xfrm>
              <a:prstGeom prst="flowChartDelay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4" name=""/>
              <p:cNvGrpSpPr/>
              <p:nvPr/>
            </p:nvGrpSpPr>
            <p:grpSpPr>
              <a:xfrm>
                <a:off x="7761240" y="2646000"/>
                <a:ext cx="270000" cy="385200"/>
                <a:chOff x="7761240" y="2646000"/>
                <a:chExt cx="270000" cy="38520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7761240" y="2716920"/>
                  <a:ext cx="270000" cy="314280"/>
                </a:xfrm>
                <a:prstGeom prst="can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752f46"/>
                    </a:gs>
                    <a:gs pos="50000">
                      <a:srgbClr val="ff6699"/>
                    </a:gs>
                    <a:gs pos="100000">
                      <a:srgbClr val="752f4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761240" y="2646000"/>
                  <a:ext cx="270000" cy="31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2f46"/>
                    </a:gs>
                    <a:gs pos="50000">
                      <a:srgbClr val="ff6699"/>
                    </a:gs>
                    <a:gs pos="100000">
                      <a:srgbClr val="752f4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7" name=""/>
              <p:cNvSpPr/>
              <p:nvPr/>
            </p:nvSpPr>
            <p:spPr>
              <a:xfrm>
                <a:off x="7898040" y="2673000"/>
                <a:ext cx="64800" cy="19332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0" y="9"/>
                    </a:moveTo>
                    <a:lnTo>
                      <a:pt x="28" y="122"/>
                    </a:lnTo>
                    <a:lnTo>
                      <a:pt x="4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807320" y="2461680"/>
                <a:ext cx="223920" cy="2253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913880" y="2479320"/>
                <a:ext cx="91800" cy="91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908840" y="253656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978680" y="253656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16200000">
                <a:off x="7711200" y="2502000"/>
                <a:ext cx="234720" cy="135000"/>
              </a:xfrm>
              <a:prstGeom prst="flowChartDelay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9201240" y="2420640"/>
            <a:ext cx="271080" cy="605880"/>
            <a:chOff x="9201240" y="2420640"/>
            <a:chExt cx="271080" cy="605880"/>
          </a:xfrm>
        </p:grpSpPr>
        <p:grpSp>
          <p:nvGrpSpPr>
            <p:cNvPr id="714" name=""/>
            <p:cNvGrpSpPr/>
            <p:nvPr/>
          </p:nvGrpSpPr>
          <p:grpSpPr>
            <a:xfrm>
              <a:off x="9202680" y="2420640"/>
              <a:ext cx="269640" cy="605880"/>
              <a:chOff x="9202680" y="2420640"/>
              <a:chExt cx="269640" cy="605880"/>
            </a:xfrm>
          </p:grpSpPr>
          <p:sp>
            <p:nvSpPr>
              <p:cNvPr id="715" name=""/>
              <p:cNvSpPr/>
              <p:nvPr/>
            </p:nvSpPr>
            <p:spPr>
              <a:xfrm rot="16200000">
                <a:off x="9191520" y="2446200"/>
                <a:ext cx="304560" cy="257040"/>
              </a:xfrm>
              <a:prstGeom prst="flowChartDelay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6" name=""/>
              <p:cNvGrpSpPr/>
              <p:nvPr/>
            </p:nvGrpSpPr>
            <p:grpSpPr>
              <a:xfrm>
                <a:off x="9202680" y="2641320"/>
                <a:ext cx="268200" cy="385200"/>
                <a:chOff x="9202680" y="2641320"/>
                <a:chExt cx="268200" cy="38520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9202680" y="2712240"/>
                  <a:ext cx="268200" cy="314280"/>
                </a:xfrm>
                <a:prstGeom prst="can">
                  <a:avLst>
                    <a:gd name="adj" fmla="val 50000"/>
                  </a:avLst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9202680" y="2641320"/>
                  <a:ext cx="268200" cy="31536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"/>
              <p:cNvSpPr/>
              <p:nvPr/>
            </p:nvSpPr>
            <p:spPr>
              <a:xfrm>
                <a:off x="9339120" y="2668320"/>
                <a:ext cx="65160" cy="19332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0" y="9"/>
                    </a:moveTo>
                    <a:lnTo>
                      <a:pt x="28" y="122"/>
                    </a:lnTo>
                    <a:lnTo>
                      <a:pt x="4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9248760" y="2457000"/>
                <a:ext cx="223560" cy="2253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9353520" y="2474640"/>
                <a:ext cx="91800" cy="91800"/>
              </a:xfrm>
              <a:prstGeom prst="ellipse">
                <a:avLst/>
              </a:prstGeom>
              <a:solidFill>
                <a:srgbClr val="333333">
                  <a:alpha val="60000"/>
                </a:srgbClr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348480" y="253188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9418320" y="253188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16200000">
                <a:off x="9135000" y="2523960"/>
                <a:ext cx="269640" cy="134640"/>
              </a:xfrm>
              <a:prstGeom prst="flowChartDelay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8100000">
                <a:off x="9332640" y="2426760"/>
                <a:ext cx="68400" cy="121680"/>
              </a:xfrm>
              <a:custGeom>
                <a:avLst/>
                <a:gdLst>
                  <a:gd name="textAreaLeft" fmla="*/ 0 w 68400"/>
                  <a:gd name="textAreaRight" fmla="*/ 53280 w 68400"/>
                  <a:gd name="textAreaTop" fmla="*/ 54720 h 121680"/>
                  <a:gd name="textAreaBottom" fmla="*/ 66960 h 12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9173" y="3004"/>
                      <a:pt x="16746" y="5080"/>
                      <a:pt x="16746" y="10800"/>
                    </a:cubicBezTo>
                    <a:cubicBezTo>
                      <a:pt x="16746" y="16520"/>
                      <a:pt x="19173" y="1859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9201240" y="2420640"/>
              <a:ext cx="269640" cy="605880"/>
              <a:chOff x="9201240" y="2420640"/>
              <a:chExt cx="269640" cy="605880"/>
            </a:xfrm>
          </p:grpSpPr>
          <p:sp>
            <p:nvSpPr>
              <p:cNvPr id="727" name=""/>
              <p:cNvSpPr/>
              <p:nvPr/>
            </p:nvSpPr>
            <p:spPr>
              <a:xfrm rot="16200000">
                <a:off x="9190080" y="2446200"/>
                <a:ext cx="304560" cy="257040"/>
              </a:xfrm>
              <a:prstGeom prst="flowChartDelay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8" name=""/>
              <p:cNvGrpSpPr/>
              <p:nvPr/>
            </p:nvGrpSpPr>
            <p:grpSpPr>
              <a:xfrm>
                <a:off x="9201240" y="2641320"/>
                <a:ext cx="268200" cy="385200"/>
                <a:chOff x="9201240" y="2641320"/>
                <a:chExt cx="268200" cy="38520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9201240" y="2712240"/>
                  <a:ext cx="268200" cy="314280"/>
                </a:xfrm>
                <a:prstGeom prst="can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754617"/>
                    </a:gs>
                    <a:gs pos="50000">
                      <a:srgbClr val="ff9933"/>
                    </a:gs>
                    <a:gs pos="100000">
                      <a:srgbClr val="75461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9201240" y="2641320"/>
                  <a:ext cx="268200" cy="31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17"/>
                    </a:gs>
                    <a:gs pos="50000">
                      <a:srgbClr val="ff9933"/>
                    </a:gs>
                    <a:gs pos="100000">
                      <a:srgbClr val="75461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1" name=""/>
              <p:cNvSpPr/>
              <p:nvPr/>
            </p:nvSpPr>
            <p:spPr>
              <a:xfrm>
                <a:off x="9337680" y="2668320"/>
                <a:ext cx="65160" cy="19332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0" y="9"/>
                    </a:moveTo>
                    <a:lnTo>
                      <a:pt x="28" y="122"/>
                    </a:lnTo>
                    <a:lnTo>
                      <a:pt x="4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247320" y="2457000"/>
                <a:ext cx="223560" cy="2253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9352080" y="2474640"/>
                <a:ext cx="91800" cy="91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9347040" y="253188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9416880" y="253188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6200000">
                <a:off x="9133560" y="2523960"/>
                <a:ext cx="269640" cy="134640"/>
              </a:xfrm>
              <a:prstGeom prst="flowChartDelay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8100000">
                <a:off x="9331200" y="2426760"/>
                <a:ext cx="68400" cy="121680"/>
              </a:xfrm>
              <a:custGeom>
                <a:avLst/>
                <a:gdLst>
                  <a:gd name="textAreaLeft" fmla="*/ 0 w 68400"/>
                  <a:gd name="textAreaRight" fmla="*/ 53280 w 68400"/>
                  <a:gd name="textAreaTop" fmla="*/ 54720 h 121680"/>
                  <a:gd name="textAreaBottom" fmla="*/ 66960 h 12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9173" y="3004"/>
                      <a:pt x="16746" y="5080"/>
                      <a:pt x="16746" y="10800"/>
                    </a:cubicBezTo>
                    <a:cubicBezTo>
                      <a:pt x="16746" y="16520"/>
                      <a:pt x="19173" y="1859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8840880" y="2411640"/>
            <a:ext cx="271080" cy="619560"/>
            <a:chOff x="8840880" y="2411640"/>
            <a:chExt cx="271080" cy="619560"/>
          </a:xfrm>
        </p:grpSpPr>
        <p:grpSp>
          <p:nvGrpSpPr>
            <p:cNvPr id="739" name=""/>
            <p:cNvGrpSpPr/>
            <p:nvPr/>
          </p:nvGrpSpPr>
          <p:grpSpPr>
            <a:xfrm>
              <a:off x="8842320" y="2411640"/>
              <a:ext cx="269640" cy="619560"/>
              <a:chOff x="8842320" y="2411640"/>
              <a:chExt cx="269640" cy="619560"/>
            </a:xfrm>
          </p:grpSpPr>
          <p:sp>
            <p:nvSpPr>
              <p:cNvPr id="740" name=""/>
              <p:cNvSpPr/>
              <p:nvPr/>
            </p:nvSpPr>
            <p:spPr>
              <a:xfrm rot="16200000">
                <a:off x="8831160" y="2450520"/>
                <a:ext cx="304560" cy="257040"/>
              </a:xfrm>
              <a:prstGeom prst="flowChartDelay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1" name=""/>
              <p:cNvGrpSpPr/>
              <p:nvPr/>
            </p:nvGrpSpPr>
            <p:grpSpPr>
              <a:xfrm>
                <a:off x="8842320" y="2646000"/>
                <a:ext cx="269640" cy="385200"/>
                <a:chOff x="8842320" y="2646000"/>
                <a:chExt cx="269640" cy="3852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8842320" y="2716920"/>
                  <a:ext cx="269640" cy="314280"/>
                </a:xfrm>
                <a:prstGeom prst="can">
                  <a:avLst>
                    <a:gd name="adj" fmla="val 50000"/>
                  </a:avLst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8842320" y="2646000"/>
                  <a:ext cx="269640" cy="31536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8975520" y="2673000"/>
                <a:ext cx="65160" cy="19332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0" y="9"/>
                    </a:moveTo>
                    <a:lnTo>
                      <a:pt x="28" y="122"/>
                    </a:lnTo>
                    <a:lnTo>
                      <a:pt x="4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886600" y="2461680"/>
                <a:ext cx="223920" cy="2253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993160" y="2479320"/>
                <a:ext cx="91800" cy="91800"/>
              </a:xfrm>
              <a:prstGeom prst="ellipse">
                <a:avLst/>
              </a:prstGeom>
              <a:solidFill>
                <a:srgbClr val="333333">
                  <a:alpha val="60000"/>
                </a:srgbClr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988120" y="253656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9057960" y="253656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16200000">
                <a:off x="8775000" y="2528640"/>
                <a:ext cx="269640" cy="135000"/>
              </a:xfrm>
              <a:prstGeom prst="flowChartDelay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"/>
              <p:cNvGrpSpPr/>
              <p:nvPr/>
            </p:nvGrpSpPr>
            <p:grpSpPr>
              <a:xfrm>
                <a:off x="8899560" y="2411640"/>
                <a:ext cx="178560" cy="141480"/>
                <a:chOff x="8899560" y="2411640"/>
                <a:chExt cx="178560" cy="141480"/>
              </a:xfrm>
            </p:grpSpPr>
            <p:sp>
              <p:nvSpPr>
                <p:cNvPr id="751" name=""/>
                <p:cNvSpPr/>
                <p:nvPr/>
              </p:nvSpPr>
              <p:spPr>
                <a:xfrm rot="8100000">
                  <a:off x="8976960" y="2417760"/>
                  <a:ext cx="68040" cy="121680"/>
                </a:xfrm>
                <a:custGeom>
                  <a:avLst/>
                  <a:gdLst>
                    <a:gd name="textAreaLeft" fmla="*/ 0 w 68040"/>
                    <a:gd name="textAreaRight" fmla="*/ 52920 w 68040"/>
                    <a:gd name="textAreaTop" fmla="*/ 54720 h 121680"/>
                    <a:gd name="textAreaBottom" fmla="*/ 66960 h 121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9173" y="3004"/>
                        <a:pt x="16746" y="5080"/>
                        <a:pt x="16746" y="10800"/>
                      </a:cubicBezTo>
                      <a:cubicBezTo>
                        <a:pt x="16746" y="16520"/>
                        <a:pt x="19173" y="18596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rot="8100000">
                  <a:off x="8932320" y="2424600"/>
                  <a:ext cx="68400" cy="122040"/>
                </a:xfrm>
                <a:custGeom>
                  <a:avLst/>
                  <a:gdLst>
                    <a:gd name="textAreaLeft" fmla="*/ 0 w 68400"/>
                    <a:gd name="textAreaRight" fmla="*/ 53280 w 68400"/>
                    <a:gd name="textAreaTop" fmla="*/ 55080 h 122040"/>
                    <a:gd name="textAreaBottom" fmla="*/ 66960 h 122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9173" y="3004"/>
                        <a:pt x="16746" y="5080"/>
                        <a:pt x="16746" y="10800"/>
                      </a:cubicBezTo>
                      <a:cubicBezTo>
                        <a:pt x="16746" y="16520"/>
                        <a:pt x="19173" y="18596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3" name=""/>
            <p:cNvGrpSpPr/>
            <p:nvPr/>
          </p:nvGrpSpPr>
          <p:grpSpPr>
            <a:xfrm>
              <a:off x="8840880" y="2411640"/>
              <a:ext cx="269640" cy="619560"/>
              <a:chOff x="8840880" y="2411640"/>
              <a:chExt cx="269640" cy="619560"/>
            </a:xfrm>
          </p:grpSpPr>
          <p:sp>
            <p:nvSpPr>
              <p:cNvPr id="754" name=""/>
              <p:cNvSpPr/>
              <p:nvPr/>
            </p:nvSpPr>
            <p:spPr>
              <a:xfrm rot="16200000">
                <a:off x="8829720" y="2450520"/>
                <a:ext cx="304560" cy="257040"/>
              </a:xfrm>
              <a:prstGeom prst="flowChartDelay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"/>
              <p:cNvGrpSpPr/>
              <p:nvPr/>
            </p:nvGrpSpPr>
            <p:grpSpPr>
              <a:xfrm>
                <a:off x="8840880" y="2646000"/>
                <a:ext cx="269640" cy="385200"/>
                <a:chOff x="8840880" y="2646000"/>
                <a:chExt cx="269640" cy="38520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8840880" y="2716920"/>
                  <a:ext cx="269640" cy="314280"/>
                </a:xfrm>
                <a:prstGeom prst="can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460000"/>
                    </a:gs>
                    <a:gs pos="50000">
                      <a:srgbClr val="990000"/>
                    </a:gs>
                    <a:gs pos="100000">
                      <a:srgbClr val="46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8840880" y="2646000"/>
                  <a:ext cx="269640" cy="31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0000"/>
                    </a:gs>
                    <a:gs pos="50000">
                      <a:srgbClr val="990000"/>
                    </a:gs>
                    <a:gs pos="100000">
                      <a:srgbClr val="46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8974080" y="2673000"/>
                <a:ext cx="65160" cy="19332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0" y="9"/>
                    </a:moveTo>
                    <a:lnTo>
                      <a:pt x="28" y="122"/>
                    </a:lnTo>
                    <a:lnTo>
                      <a:pt x="4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885160" y="2461680"/>
                <a:ext cx="223920" cy="2253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991720" y="2479320"/>
                <a:ext cx="91800" cy="91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986680" y="253656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9056520" y="253656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6200000">
                <a:off x="8773560" y="2528640"/>
                <a:ext cx="269640" cy="135000"/>
              </a:xfrm>
              <a:prstGeom prst="flowChartDelay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8898120" y="2411640"/>
                <a:ext cx="178560" cy="141480"/>
                <a:chOff x="8898120" y="2411640"/>
                <a:chExt cx="178560" cy="141480"/>
              </a:xfrm>
            </p:grpSpPr>
            <p:sp>
              <p:nvSpPr>
                <p:cNvPr id="765" name=""/>
                <p:cNvSpPr/>
                <p:nvPr/>
              </p:nvSpPr>
              <p:spPr>
                <a:xfrm rot="8100000">
                  <a:off x="8975520" y="2417760"/>
                  <a:ext cx="68040" cy="121680"/>
                </a:xfrm>
                <a:custGeom>
                  <a:avLst/>
                  <a:gdLst>
                    <a:gd name="textAreaLeft" fmla="*/ 0 w 68040"/>
                    <a:gd name="textAreaRight" fmla="*/ 52920 w 68040"/>
                    <a:gd name="textAreaTop" fmla="*/ 54720 h 121680"/>
                    <a:gd name="textAreaBottom" fmla="*/ 66960 h 121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9173" y="3004"/>
                        <a:pt x="16746" y="5080"/>
                        <a:pt x="16746" y="10800"/>
                      </a:cubicBezTo>
                      <a:cubicBezTo>
                        <a:pt x="16746" y="16520"/>
                        <a:pt x="19173" y="18596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rot="8100000">
                  <a:off x="8930880" y="2424600"/>
                  <a:ext cx="68400" cy="122040"/>
                </a:xfrm>
                <a:custGeom>
                  <a:avLst/>
                  <a:gdLst>
                    <a:gd name="textAreaLeft" fmla="*/ 0 w 68400"/>
                    <a:gd name="textAreaRight" fmla="*/ 53280 w 68400"/>
                    <a:gd name="textAreaTop" fmla="*/ 55080 h 122040"/>
                    <a:gd name="textAreaBottom" fmla="*/ 66960 h 122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9173" y="3004"/>
                        <a:pt x="16746" y="5080"/>
                        <a:pt x="16746" y="10800"/>
                      </a:cubicBezTo>
                      <a:cubicBezTo>
                        <a:pt x="16746" y="16520"/>
                        <a:pt x="19173" y="18596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7" name=""/>
          <p:cNvGrpSpPr/>
          <p:nvPr/>
        </p:nvGrpSpPr>
        <p:grpSpPr>
          <a:xfrm>
            <a:off x="8118000" y="2409120"/>
            <a:ext cx="273240" cy="622080"/>
            <a:chOff x="8118000" y="2409120"/>
            <a:chExt cx="273240" cy="622080"/>
          </a:xfrm>
        </p:grpSpPr>
        <p:grpSp>
          <p:nvGrpSpPr>
            <p:cNvPr id="768" name=""/>
            <p:cNvGrpSpPr/>
            <p:nvPr/>
          </p:nvGrpSpPr>
          <p:grpSpPr>
            <a:xfrm>
              <a:off x="8119440" y="2409120"/>
              <a:ext cx="271800" cy="622080"/>
              <a:chOff x="8119440" y="2409120"/>
              <a:chExt cx="271800" cy="622080"/>
            </a:xfrm>
          </p:grpSpPr>
          <p:sp>
            <p:nvSpPr>
              <p:cNvPr id="769" name=""/>
              <p:cNvSpPr/>
              <p:nvPr/>
            </p:nvSpPr>
            <p:spPr>
              <a:xfrm rot="16200000">
                <a:off x="8080920" y="2458080"/>
                <a:ext cx="304560" cy="223560"/>
              </a:xfrm>
              <a:prstGeom prst="flowChartDelay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6200000">
                <a:off x="8148600" y="2479680"/>
                <a:ext cx="304560" cy="180720"/>
              </a:xfrm>
              <a:prstGeom prst="flowChartDelay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1" name=""/>
              <p:cNvGrpSpPr/>
              <p:nvPr/>
            </p:nvGrpSpPr>
            <p:grpSpPr>
              <a:xfrm>
                <a:off x="8121600" y="2646000"/>
                <a:ext cx="269640" cy="385200"/>
                <a:chOff x="8121600" y="2646000"/>
                <a:chExt cx="269640" cy="38520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8121600" y="2716920"/>
                  <a:ext cx="269640" cy="314280"/>
                </a:xfrm>
                <a:prstGeom prst="can">
                  <a:avLst>
                    <a:gd name="adj" fmla="val 50000"/>
                  </a:avLst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8121600" y="2646000"/>
                  <a:ext cx="269640" cy="31536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4" name=""/>
              <p:cNvSpPr/>
              <p:nvPr/>
            </p:nvSpPr>
            <p:spPr>
              <a:xfrm>
                <a:off x="8254800" y="2673000"/>
                <a:ext cx="65160" cy="19332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0" y="9"/>
                    </a:moveTo>
                    <a:lnTo>
                      <a:pt x="28" y="122"/>
                    </a:lnTo>
                    <a:lnTo>
                      <a:pt x="4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165880" y="2461680"/>
                <a:ext cx="223920" cy="2253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272440" y="2479320"/>
                <a:ext cx="91800" cy="91800"/>
              </a:xfrm>
              <a:prstGeom prst="ellipse">
                <a:avLst/>
              </a:prstGeom>
              <a:solidFill>
                <a:srgbClr val="333333">
                  <a:alpha val="60000"/>
                </a:srgbClr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267400" y="253656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8337240" y="253656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800000">
                <a:off x="8165520" y="2417400"/>
                <a:ext cx="90720" cy="210600"/>
              </a:xfrm>
              <a:custGeom>
                <a:avLst/>
                <a:gdLst>
                  <a:gd name="textAreaLeft" fmla="*/ 360 w 90720"/>
                  <a:gd name="textAreaRight" fmla="*/ 70560 w 90720"/>
                  <a:gd name="textAreaTop" fmla="*/ 95040 h 210600"/>
                  <a:gd name="textAreaBottom" fmla="*/ 115560 h 21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9173" y="3004"/>
                      <a:pt x="16746" y="5080"/>
                      <a:pt x="16746" y="10800"/>
                    </a:cubicBezTo>
                    <a:cubicBezTo>
                      <a:pt x="16746" y="16520"/>
                      <a:pt x="19173" y="1859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165880" y="2552400"/>
                <a:ext cx="44640" cy="9000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8118000" y="2409120"/>
              <a:ext cx="271800" cy="622080"/>
              <a:chOff x="8118000" y="2409120"/>
              <a:chExt cx="271800" cy="622080"/>
            </a:xfrm>
          </p:grpSpPr>
          <p:sp>
            <p:nvSpPr>
              <p:cNvPr id="782" name=""/>
              <p:cNvSpPr/>
              <p:nvPr/>
            </p:nvSpPr>
            <p:spPr>
              <a:xfrm rot="16200000">
                <a:off x="8079480" y="2458080"/>
                <a:ext cx="304560" cy="223560"/>
              </a:xfrm>
              <a:prstGeom prst="flowChartDelay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6200000">
                <a:off x="8147160" y="2479680"/>
                <a:ext cx="304560" cy="180720"/>
              </a:xfrm>
              <a:prstGeom prst="flowChartDelay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4" name=""/>
              <p:cNvGrpSpPr/>
              <p:nvPr/>
            </p:nvGrpSpPr>
            <p:grpSpPr>
              <a:xfrm>
                <a:off x="8120160" y="2646000"/>
                <a:ext cx="269640" cy="385200"/>
                <a:chOff x="8120160" y="2646000"/>
                <a:chExt cx="269640" cy="38520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8120160" y="2716920"/>
                  <a:ext cx="269640" cy="314280"/>
                </a:xfrm>
                <a:prstGeom prst="can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7546"/>
                    </a:gs>
                    <a:gs pos="50000">
                      <a:srgbClr val="00ff99"/>
                    </a:gs>
                    <a:gs pos="100000">
                      <a:srgbClr val="00754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8120160" y="2646000"/>
                  <a:ext cx="269640" cy="31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546"/>
                    </a:gs>
                    <a:gs pos="50000">
                      <a:srgbClr val="00ff99"/>
                    </a:gs>
                    <a:gs pos="100000">
                      <a:srgbClr val="00754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"/>
              <p:cNvSpPr/>
              <p:nvPr/>
            </p:nvSpPr>
            <p:spPr>
              <a:xfrm>
                <a:off x="8253360" y="2673000"/>
                <a:ext cx="65160" cy="19332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0" y="9"/>
                    </a:moveTo>
                    <a:lnTo>
                      <a:pt x="28" y="122"/>
                    </a:lnTo>
                    <a:lnTo>
                      <a:pt x="4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164440" y="2461680"/>
                <a:ext cx="223920" cy="2253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271000" y="2479320"/>
                <a:ext cx="91800" cy="91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265960" y="253656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335800" y="2536560"/>
                <a:ext cx="24120" cy="47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800000">
                <a:off x="8164080" y="2417400"/>
                <a:ext cx="90720" cy="210600"/>
              </a:xfrm>
              <a:custGeom>
                <a:avLst/>
                <a:gdLst>
                  <a:gd name="textAreaLeft" fmla="*/ 360 w 90720"/>
                  <a:gd name="textAreaRight" fmla="*/ 70560 w 90720"/>
                  <a:gd name="textAreaTop" fmla="*/ 95040 h 210600"/>
                  <a:gd name="textAreaBottom" fmla="*/ 115560 h 21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9173" y="3004"/>
                      <a:pt x="16746" y="5080"/>
                      <a:pt x="16746" y="10800"/>
                    </a:cubicBezTo>
                    <a:cubicBezTo>
                      <a:pt x="16746" y="16520"/>
                      <a:pt x="19173" y="1859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164440" y="2552400"/>
                <a:ext cx="44640" cy="9000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4" name=""/>
          <p:cNvGrpSpPr/>
          <p:nvPr/>
        </p:nvGrpSpPr>
        <p:grpSpPr>
          <a:xfrm>
            <a:off x="7279560" y="4672080"/>
            <a:ext cx="348480" cy="650880"/>
            <a:chOff x="7279560" y="4672080"/>
            <a:chExt cx="348480" cy="650880"/>
          </a:xfrm>
        </p:grpSpPr>
        <p:grpSp>
          <p:nvGrpSpPr>
            <p:cNvPr id="795" name=""/>
            <p:cNvGrpSpPr/>
            <p:nvPr/>
          </p:nvGrpSpPr>
          <p:grpSpPr>
            <a:xfrm>
              <a:off x="7279920" y="4672080"/>
              <a:ext cx="348120" cy="650880"/>
              <a:chOff x="7279920" y="4672080"/>
              <a:chExt cx="348120" cy="650880"/>
            </a:xfrm>
          </p:grpSpPr>
          <p:sp>
            <p:nvSpPr>
              <p:cNvPr id="796" name=""/>
              <p:cNvSpPr/>
              <p:nvPr/>
            </p:nvSpPr>
            <p:spPr>
              <a:xfrm>
                <a:off x="7313760" y="5008680"/>
                <a:ext cx="314280" cy="314280"/>
              </a:xfrm>
              <a:prstGeom prst="can">
                <a:avLst>
                  <a:gd name="adj" fmla="val 50000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313760" y="4937400"/>
                <a:ext cx="314280" cy="315720"/>
              </a:xfrm>
              <a:prstGeom prst="ellipse">
                <a:avLst/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358400" y="4753080"/>
                <a:ext cx="223560" cy="225720"/>
              </a:xfrm>
              <a:prstGeom prst="ellipse">
                <a:avLst/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1800000">
                <a:off x="7332840" y="4692960"/>
                <a:ext cx="123840" cy="2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5400000">
                <a:off x="7374600" y="4610880"/>
                <a:ext cx="163800" cy="285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7279560" y="4672080"/>
              <a:ext cx="348480" cy="650880"/>
              <a:chOff x="7279560" y="4672080"/>
              <a:chExt cx="348480" cy="650880"/>
            </a:xfrm>
          </p:grpSpPr>
          <p:sp>
            <p:nvSpPr>
              <p:cNvPr id="802" name=""/>
              <p:cNvSpPr/>
              <p:nvPr/>
            </p:nvSpPr>
            <p:spPr>
              <a:xfrm>
                <a:off x="7313760" y="5008680"/>
                <a:ext cx="314280" cy="31428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55e2f"/>
                  </a:gs>
                  <a:gs pos="50000">
                    <a:srgbClr val="ffcc66"/>
                  </a:gs>
                  <a:gs pos="100000">
                    <a:srgbClr val="755e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313760" y="4937400"/>
                <a:ext cx="314280" cy="315720"/>
              </a:xfrm>
              <a:prstGeom prst="ellipse">
                <a:avLst/>
              </a:prstGeom>
              <a:gradFill rotWithShape="0">
                <a:gsLst>
                  <a:gs pos="0">
                    <a:srgbClr val="755e2f"/>
                  </a:gs>
                  <a:gs pos="50000">
                    <a:srgbClr val="ffcc66"/>
                  </a:gs>
                  <a:gs pos="100000">
                    <a:srgbClr val="755e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402680" y="4937400"/>
                <a:ext cx="134640" cy="90360"/>
              </a:xfrm>
              <a:custGeom>
                <a:avLst/>
                <a:gdLst/>
                <a:ahLst/>
                <a:rect l="l" t="t" r="r" b="b"/>
                <a:pathLst>
                  <a:path w="85" h="57">
                    <a:moveTo>
                      <a:pt x="0" y="0"/>
                    </a:moveTo>
                    <a:lnTo>
                      <a:pt x="28" y="57"/>
                    </a:lnTo>
                    <a:lnTo>
                      <a:pt x="57" y="28"/>
                    </a:lnTo>
                    <a:lnTo>
                      <a:pt x="85" y="57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358040" y="4753080"/>
                <a:ext cx="223920" cy="2253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464240" y="4770720"/>
                <a:ext cx="92160" cy="92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459560" y="4827960"/>
                <a:ext cx="23760" cy="47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29400" y="4827960"/>
                <a:ext cx="23760" cy="47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800000">
                <a:off x="7332480" y="4692960"/>
                <a:ext cx="123840" cy="2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369200" y="4834080"/>
                <a:ext cx="44280" cy="9072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556400" y="5053320"/>
                <a:ext cx="44640" cy="90360"/>
              </a:xfrm>
              <a:custGeom>
                <a:avLst/>
                <a:gdLst>
                  <a:gd name="textAreaLeft" fmla="*/ 2160 w 44640"/>
                  <a:gd name="textAreaRight" fmla="*/ 42480 w 44640"/>
                  <a:gd name="textAreaTop" fmla="*/ 2160 h 90360"/>
                  <a:gd name="textAreaBottom" fmla="*/ 88200 h 90360"/>
                </a:gdLst>
                <a:ahLst/>
                <a:rect l="textAreaLeft" t="textAreaTop" r="textAreaRight" b="textAreaBottom"/>
                <a:pathLst>
                  <a:path w="21600" h="43546">
                    <a:moveTo>
                      <a:pt x="3600" y="0"/>
                    </a:moveTo>
                    <a:arcTo wR="3600" hR="3600" stAng="16200000" swAng="-5400000"/>
                    <a:lnTo>
                      <a:pt x="0" y="39946"/>
                    </a:lnTo>
                    <a:arcTo wR="3600" hR="3600" stAng="10800000" swAng="-5400000"/>
                    <a:lnTo>
                      <a:pt x="18000" y="4354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381800" y="5053320"/>
                <a:ext cx="66600" cy="90360"/>
              </a:xfrm>
              <a:custGeom>
                <a:avLst/>
                <a:gdLst>
                  <a:gd name="textAreaLeft" fmla="*/ 3240 w 66600"/>
                  <a:gd name="textAreaRight" fmla="*/ 63360 w 66600"/>
                  <a:gd name="textAreaTop" fmla="*/ 3240 h 90360"/>
                  <a:gd name="textAreaBottom" fmla="*/ 87120 h 90360"/>
                </a:gdLst>
                <a:ahLst/>
                <a:rect l="textAreaLeft" t="textAreaTop" r="textAreaRight" b="textAreaBottom"/>
                <a:pathLst>
                  <a:path w="21600" h="29265">
                    <a:moveTo>
                      <a:pt x="3600" y="0"/>
                    </a:moveTo>
                    <a:arcTo wR="3600" hR="3600" stAng="16200000" swAng="-5400000"/>
                    <a:lnTo>
                      <a:pt x="0" y="25665"/>
                    </a:lnTo>
                    <a:arcTo wR="3600" hR="3600" stAng="10800000" swAng="-5400000"/>
                    <a:lnTo>
                      <a:pt x="18000" y="2926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361280" y="4783320"/>
                <a:ext cx="42840" cy="179280"/>
              </a:xfrm>
              <a:custGeom>
                <a:avLst/>
                <a:gdLst/>
                <a:ahLst/>
                <a:rect l="l" t="t" r="r" b="b"/>
                <a:pathLst>
                  <a:path w="29" h="99">
                    <a:moveTo>
                      <a:pt x="0" y="14"/>
                    </a:moveTo>
                    <a:lnTo>
                      <a:pt x="29" y="99"/>
                    </a:lnTo>
                    <a:lnTo>
                      <a:pt x="18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5400000">
                <a:off x="7374240" y="4611240"/>
                <a:ext cx="163800" cy="28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493040" y="4737240"/>
                <a:ext cx="44280" cy="44640"/>
              </a:xfrm>
              <a:prstGeom prst="plus">
                <a:avLst>
                  <a:gd name="adj" fmla="val 35713"/>
                </a:avLst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6" name=""/>
          <p:cNvGrpSpPr/>
          <p:nvPr/>
        </p:nvGrpSpPr>
        <p:grpSpPr>
          <a:xfrm>
            <a:off x="7313040" y="3849840"/>
            <a:ext cx="359280" cy="663480"/>
            <a:chOff x="7313040" y="3849840"/>
            <a:chExt cx="359280" cy="663480"/>
          </a:xfrm>
        </p:grpSpPr>
        <p:grpSp>
          <p:nvGrpSpPr>
            <p:cNvPr id="817" name=""/>
            <p:cNvGrpSpPr/>
            <p:nvPr/>
          </p:nvGrpSpPr>
          <p:grpSpPr>
            <a:xfrm>
              <a:off x="7313040" y="3853080"/>
              <a:ext cx="359280" cy="660240"/>
              <a:chOff x="7313040" y="3853080"/>
              <a:chExt cx="359280" cy="660240"/>
            </a:xfrm>
          </p:grpSpPr>
          <p:sp>
            <p:nvSpPr>
              <p:cNvPr id="818" name=""/>
              <p:cNvSpPr/>
              <p:nvPr/>
            </p:nvSpPr>
            <p:spPr>
              <a:xfrm>
                <a:off x="7358040" y="4199040"/>
                <a:ext cx="314280" cy="314280"/>
              </a:xfrm>
              <a:prstGeom prst="can">
                <a:avLst>
                  <a:gd name="adj" fmla="val 50000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356600" y="4127760"/>
                <a:ext cx="314280" cy="315720"/>
              </a:xfrm>
              <a:prstGeom prst="ellipse">
                <a:avLst/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402680" y="3943440"/>
                <a:ext cx="223560" cy="225720"/>
              </a:xfrm>
              <a:prstGeom prst="ellipse">
                <a:avLst/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800000">
                <a:off x="7365960" y="3867480"/>
                <a:ext cx="123840" cy="2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5400000">
                <a:off x="7412760" y="3804480"/>
                <a:ext cx="163440" cy="285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7313040" y="3849840"/>
              <a:ext cx="359280" cy="660240"/>
              <a:chOff x="7313040" y="3849840"/>
              <a:chExt cx="359280" cy="660240"/>
            </a:xfrm>
          </p:grpSpPr>
          <p:sp>
            <p:nvSpPr>
              <p:cNvPr id="824" name=""/>
              <p:cNvSpPr/>
              <p:nvPr/>
            </p:nvSpPr>
            <p:spPr>
              <a:xfrm>
                <a:off x="7365960" y="3897360"/>
                <a:ext cx="261720" cy="249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358040" y="4195800"/>
                <a:ext cx="314280" cy="31428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3b3b3b"/>
                  </a:gs>
                  <a:gs pos="50000">
                    <a:srgbClr val="808080"/>
                  </a:gs>
                  <a:gs pos="100000">
                    <a:srgbClr val="3b3b3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356240" y="4124520"/>
                <a:ext cx="314280" cy="315720"/>
              </a:xfrm>
              <a:prstGeom prst="ellipse">
                <a:avLst/>
              </a:prstGeom>
              <a:gradFill rotWithShape="0">
                <a:gsLst>
                  <a:gs pos="0">
                    <a:srgbClr val="3b3b3b"/>
                  </a:gs>
                  <a:gs pos="50000">
                    <a:srgbClr val="808080"/>
                  </a:gs>
                  <a:gs pos="100000">
                    <a:srgbClr val="3b3b3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446960" y="4124520"/>
                <a:ext cx="134640" cy="90360"/>
              </a:xfrm>
              <a:custGeom>
                <a:avLst/>
                <a:gdLst/>
                <a:ahLst/>
                <a:rect l="l" t="t" r="r" b="b"/>
                <a:pathLst>
                  <a:path w="85" h="57">
                    <a:moveTo>
                      <a:pt x="0" y="0"/>
                    </a:moveTo>
                    <a:lnTo>
                      <a:pt x="28" y="57"/>
                    </a:lnTo>
                    <a:lnTo>
                      <a:pt x="57" y="28"/>
                    </a:lnTo>
                    <a:lnTo>
                      <a:pt x="85" y="57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402320" y="3940200"/>
                <a:ext cx="223920" cy="2253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508880" y="3957840"/>
                <a:ext cx="91800" cy="92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503840" y="4015080"/>
                <a:ext cx="23760" cy="47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573680" y="4015080"/>
                <a:ext cx="23760" cy="47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 rot="9000000">
                <a:off x="7395480" y="3899160"/>
                <a:ext cx="131760" cy="79200"/>
              </a:xfrm>
              <a:custGeom>
                <a:avLst/>
                <a:gdLst>
                  <a:gd name="textAreaLeft" fmla="*/ 22320 w 131760"/>
                  <a:gd name="textAreaRight" fmla="*/ 93960 w 131760"/>
                  <a:gd name="textAreaTop" fmla="*/ 17280 h 79200"/>
                  <a:gd name="textAreaBottom" fmla="*/ 61920 h 7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01" y="2763"/>
                      <a:pt x="15401" y="5080"/>
                      <a:pt x="15401" y="10800"/>
                    </a:cubicBezTo>
                    <a:cubicBezTo>
                      <a:pt x="15401" y="16520"/>
                      <a:pt x="18501" y="1883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800000">
                <a:off x="7365960" y="3864240"/>
                <a:ext cx="123840" cy="2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410240" y="4005360"/>
                <a:ext cx="44640" cy="9036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399080" y="3973680"/>
                <a:ext cx="42840" cy="179280"/>
              </a:xfrm>
              <a:custGeom>
                <a:avLst/>
                <a:gdLst/>
                <a:ahLst/>
                <a:rect l="l" t="t" r="r" b="b"/>
                <a:pathLst>
                  <a:path w="29" h="99">
                    <a:moveTo>
                      <a:pt x="0" y="14"/>
                    </a:moveTo>
                    <a:lnTo>
                      <a:pt x="29" y="99"/>
                    </a:lnTo>
                    <a:lnTo>
                      <a:pt x="18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5400000">
                <a:off x="7412760" y="3801240"/>
                <a:ext cx="163440" cy="285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354800" y="4146840"/>
                <a:ext cx="315720" cy="284040"/>
              </a:xfrm>
              <a:custGeom>
                <a:avLst/>
                <a:gdLst/>
                <a:ahLst/>
                <a:rect l="l" t="t" r="r" b="b"/>
                <a:pathLst>
                  <a:path w="199" h="179">
                    <a:moveTo>
                      <a:pt x="48" y="0"/>
                    </a:moveTo>
                    <a:lnTo>
                      <a:pt x="75" y="56"/>
                    </a:lnTo>
                    <a:lnTo>
                      <a:pt x="148" y="56"/>
                    </a:lnTo>
                    <a:lnTo>
                      <a:pt x="159" y="2"/>
                    </a:lnTo>
                    <a:lnTo>
                      <a:pt x="178" y="26"/>
                    </a:lnTo>
                    <a:lnTo>
                      <a:pt x="172" y="74"/>
                    </a:lnTo>
                    <a:lnTo>
                      <a:pt x="199" y="147"/>
                    </a:lnTo>
                    <a:lnTo>
                      <a:pt x="199" y="179"/>
                    </a:lnTo>
                    <a:lnTo>
                      <a:pt x="174" y="144"/>
                    </a:lnTo>
                    <a:lnTo>
                      <a:pt x="63" y="144"/>
                    </a:lnTo>
                    <a:lnTo>
                      <a:pt x="0" y="179"/>
                    </a:lnTo>
                    <a:lnTo>
                      <a:pt x="1" y="143"/>
                    </a:lnTo>
                    <a:lnTo>
                      <a:pt x="40" y="111"/>
                    </a:lnTo>
                    <a:lnTo>
                      <a:pt x="42" y="60"/>
                    </a:lnTo>
                    <a:lnTo>
                      <a:pt x="22" y="2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358040" y="3973680"/>
                <a:ext cx="277560" cy="41400"/>
              </a:xfrm>
              <a:custGeom>
                <a:avLst/>
                <a:gdLst/>
                <a:ahLst/>
                <a:rect l="l" t="t" r="r" b="b"/>
                <a:pathLst>
                  <a:path w="175" h="26">
                    <a:moveTo>
                      <a:pt x="0" y="26"/>
                    </a:moveTo>
                    <a:cubicBezTo>
                      <a:pt x="0" y="25"/>
                      <a:pt x="68" y="6"/>
                      <a:pt x="97" y="6"/>
                    </a:cubicBezTo>
                    <a:cubicBezTo>
                      <a:pt x="126" y="6"/>
                      <a:pt x="175" y="26"/>
                      <a:pt x="175" y="25"/>
                    </a:cubicBezTo>
                    <a:cubicBezTo>
                      <a:pt x="175" y="24"/>
                      <a:pt x="127" y="0"/>
                      <a:pt x="98" y="0"/>
                    </a:cubicBezTo>
                    <a:cubicBezTo>
                      <a:pt x="69" y="0"/>
                      <a:pt x="20" y="21"/>
                      <a:pt x="0" y="26"/>
                    </a:cubicBez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9" name=""/>
          <p:cNvGrpSpPr/>
          <p:nvPr/>
        </p:nvGrpSpPr>
        <p:grpSpPr>
          <a:xfrm>
            <a:off x="7400880" y="3141360"/>
            <a:ext cx="271440" cy="613800"/>
            <a:chOff x="7400880" y="3141360"/>
            <a:chExt cx="271440" cy="613800"/>
          </a:xfrm>
        </p:grpSpPr>
        <p:grpSp>
          <p:nvGrpSpPr>
            <p:cNvPr id="840" name=""/>
            <p:cNvGrpSpPr/>
            <p:nvPr/>
          </p:nvGrpSpPr>
          <p:grpSpPr>
            <a:xfrm>
              <a:off x="7400880" y="3141360"/>
              <a:ext cx="271440" cy="613800"/>
              <a:chOff x="7400880" y="3141360"/>
              <a:chExt cx="271440" cy="613800"/>
            </a:xfrm>
          </p:grpSpPr>
          <p:grpSp>
            <p:nvGrpSpPr>
              <p:cNvPr id="841" name=""/>
              <p:cNvGrpSpPr/>
              <p:nvPr/>
            </p:nvGrpSpPr>
            <p:grpSpPr>
              <a:xfrm>
                <a:off x="7402680" y="3141360"/>
                <a:ext cx="269640" cy="613800"/>
                <a:chOff x="7402680" y="3141360"/>
                <a:chExt cx="269640" cy="613800"/>
              </a:xfrm>
            </p:grpSpPr>
            <p:sp>
              <p:nvSpPr>
                <p:cNvPr id="842" name=""/>
                <p:cNvSpPr/>
                <p:nvPr/>
              </p:nvSpPr>
              <p:spPr>
                <a:xfrm rot="16200000">
                  <a:off x="7431120" y="3125520"/>
                  <a:ext cx="225000" cy="256680"/>
                </a:xfrm>
                <a:prstGeom prst="flowChartDelay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"/>
                <p:cNvGrpSpPr/>
                <p:nvPr/>
              </p:nvGrpSpPr>
              <p:grpSpPr>
                <a:xfrm>
                  <a:off x="7402680" y="3369960"/>
                  <a:ext cx="269640" cy="385200"/>
                  <a:chOff x="7402680" y="3369960"/>
                  <a:chExt cx="269640" cy="38520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7402680" y="3440880"/>
                    <a:ext cx="269640" cy="314280"/>
                  </a:xfrm>
                  <a:prstGeom prst="can">
                    <a:avLst>
                      <a:gd name="adj" fmla="val 50000"/>
                    </a:avLst>
                  </a:prstGeom>
                  <a:solidFill>
                    <a:srgbClr val="333333"/>
                  </a:solidFill>
                  <a:ln w="2844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7402680" y="3369960"/>
                    <a:ext cx="269640" cy="31536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2844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6" name=""/>
                <p:cNvSpPr/>
                <p:nvPr/>
              </p:nvSpPr>
              <p:spPr>
                <a:xfrm>
                  <a:off x="7539120" y="3396960"/>
                  <a:ext cx="64440" cy="193320"/>
                </a:xfrm>
                <a:custGeom>
                  <a:avLst/>
                  <a:gdLst/>
                  <a:ahLst/>
                  <a:rect l="l" t="t" r="r" b="b"/>
                  <a:pathLst>
                    <a:path w="41" h="122">
                      <a:moveTo>
                        <a:pt x="0" y="9"/>
                      </a:moveTo>
                      <a:lnTo>
                        <a:pt x="28" y="122"/>
                      </a:lnTo>
                      <a:lnTo>
                        <a:pt x="4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448400" y="3185640"/>
                  <a:ext cx="223560" cy="22536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7554960" y="3203280"/>
                  <a:ext cx="91440" cy="91800"/>
                </a:xfrm>
                <a:prstGeom prst="ellipse">
                  <a:avLst/>
                </a:prstGeom>
                <a:solidFill>
                  <a:srgbClr val="333333">
                    <a:alpha val="60000"/>
                  </a:srgbClr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7549920" y="3260520"/>
                  <a:ext cx="23760" cy="4716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7619760" y="3260520"/>
                  <a:ext cx="23760" cy="4716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rot="16200000">
                  <a:off x="7352640" y="3226320"/>
                  <a:ext cx="234720" cy="134640"/>
                </a:xfrm>
                <a:prstGeom prst="flowChartDelay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7400880" y="3141360"/>
                <a:ext cx="270000" cy="613800"/>
                <a:chOff x="7400880" y="3141360"/>
                <a:chExt cx="270000" cy="613800"/>
              </a:xfrm>
            </p:grpSpPr>
            <p:sp>
              <p:nvSpPr>
                <p:cNvPr id="853" name=""/>
                <p:cNvSpPr/>
                <p:nvPr/>
              </p:nvSpPr>
              <p:spPr>
                <a:xfrm rot="16200000">
                  <a:off x="7429680" y="3125160"/>
                  <a:ext cx="225000" cy="257040"/>
                </a:xfrm>
                <a:prstGeom prst="flowChartDelay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4" name=""/>
                <p:cNvGrpSpPr/>
                <p:nvPr/>
              </p:nvGrpSpPr>
              <p:grpSpPr>
                <a:xfrm>
                  <a:off x="7400880" y="3369960"/>
                  <a:ext cx="270000" cy="385200"/>
                  <a:chOff x="7400880" y="3369960"/>
                  <a:chExt cx="270000" cy="38520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>
                    <a:off x="7400880" y="3440880"/>
                    <a:ext cx="270000" cy="314280"/>
                  </a:xfrm>
                  <a:prstGeom prst="can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171746"/>
                      </a:gs>
                      <a:gs pos="50000">
                        <a:srgbClr val="333399"/>
                      </a:gs>
                      <a:gs pos="100000">
                        <a:srgbClr val="17174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7400880" y="3369960"/>
                    <a:ext cx="270000" cy="315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171746"/>
                      </a:gs>
                      <a:gs pos="50000">
                        <a:srgbClr val="333399"/>
                      </a:gs>
                      <a:gs pos="100000">
                        <a:srgbClr val="17174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7" name=""/>
                <p:cNvSpPr/>
                <p:nvPr/>
              </p:nvSpPr>
              <p:spPr>
                <a:xfrm>
                  <a:off x="7537680" y="3396960"/>
                  <a:ext cx="64800" cy="193320"/>
                </a:xfrm>
                <a:custGeom>
                  <a:avLst/>
                  <a:gdLst/>
                  <a:ahLst/>
                  <a:rect l="l" t="t" r="r" b="b"/>
                  <a:pathLst>
                    <a:path w="41" h="122">
                      <a:moveTo>
                        <a:pt x="0" y="9"/>
                      </a:moveTo>
                      <a:lnTo>
                        <a:pt x="28" y="122"/>
                      </a:lnTo>
                      <a:lnTo>
                        <a:pt x="4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7446960" y="3185640"/>
                  <a:ext cx="223920" cy="225360"/>
                </a:xfrm>
                <a:prstGeom prst="ellips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7553520" y="3203280"/>
                  <a:ext cx="91800" cy="9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392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7548480" y="3260520"/>
                  <a:ext cx="24120" cy="471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7618320" y="3260520"/>
                  <a:ext cx="24120" cy="471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rot="16200000">
                  <a:off x="7350840" y="3225960"/>
                  <a:ext cx="234720" cy="135000"/>
                </a:xfrm>
                <a:prstGeom prst="flowChartDelay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3" name=""/>
            <p:cNvGrpSpPr/>
            <p:nvPr/>
          </p:nvGrpSpPr>
          <p:grpSpPr>
            <a:xfrm>
              <a:off x="7513560" y="3414600"/>
              <a:ext cx="115560" cy="154080"/>
              <a:chOff x="7513560" y="3414600"/>
              <a:chExt cx="115560" cy="154080"/>
            </a:xfrm>
          </p:grpSpPr>
          <p:sp>
            <p:nvSpPr>
              <p:cNvPr id="864" name=""/>
              <p:cNvSpPr/>
              <p:nvPr/>
            </p:nvSpPr>
            <p:spPr>
              <a:xfrm>
                <a:off x="7513560" y="3414600"/>
                <a:ext cx="57960" cy="154080"/>
              </a:xfrm>
              <a:custGeom>
                <a:avLst/>
                <a:gdLst/>
                <a:ahLst/>
                <a:rect l="l" t="t" r="r" b="b"/>
                <a:pathLst>
                  <a:path w="85" h="227">
                    <a:moveTo>
                      <a:pt x="85" y="0"/>
                    </a:moveTo>
                    <a:lnTo>
                      <a:pt x="56" y="227"/>
                    </a:lnTo>
                    <a:lnTo>
                      <a:pt x="0" y="19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513560" y="3414600"/>
                <a:ext cx="57960" cy="115920"/>
              </a:xfrm>
              <a:custGeom>
                <a:avLst/>
                <a:gdLst/>
                <a:ahLst/>
                <a:rect l="l" t="t" r="r" b="b"/>
                <a:pathLst>
                  <a:path w="85" h="171">
                    <a:moveTo>
                      <a:pt x="85" y="0"/>
                    </a:moveTo>
                    <a:lnTo>
                      <a:pt x="0" y="114"/>
                    </a:lnTo>
                    <a:lnTo>
                      <a:pt x="56" y="17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7570800" y="3414600"/>
                <a:ext cx="57960" cy="154080"/>
              </a:xfrm>
              <a:custGeom>
                <a:avLst/>
                <a:gdLst/>
                <a:ahLst/>
                <a:rect l="l" t="t" r="r" b="b"/>
                <a:pathLst>
                  <a:path w="85" h="227">
                    <a:moveTo>
                      <a:pt x="85" y="0"/>
                    </a:moveTo>
                    <a:lnTo>
                      <a:pt x="56" y="227"/>
                    </a:lnTo>
                    <a:lnTo>
                      <a:pt x="0" y="19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7570800" y="3414600"/>
                <a:ext cx="57960" cy="115920"/>
              </a:xfrm>
              <a:custGeom>
                <a:avLst/>
                <a:gdLst/>
                <a:ahLst/>
                <a:rect l="l" t="t" r="r" b="b"/>
                <a:pathLst>
                  <a:path w="85" h="171">
                    <a:moveTo>
                      <a:pt x="85" y="0"/>
                    </a:moveTo>
                    <a:lnTo>
                      <a:pt x="0" y="114"/>
                    </a:lnTo>
                    <a:lnTo>
                      <a:pt x="56" y="17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551720" y="3414600"/>
                <a:ext cx="38880" cy="38520"/>
              </a:xfrm>
              <a:prstGeom prst="roundRect">
                <a:avLst>
                  <a:gd name="adj" fmla="val 24560"/>
                </a:avLst>
              </a:prstGeom>
              <a:solidFill>
                <a:srgbClr val="ff0000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9" name=""/>
          <p:cNvGrpSpPr/>
          <p:nvPr/>
        </p:nvGrpSpPr>
        <p:grpSpPr>
          <a:xfrm>
            <a:off x="7400880" y="2422080"/>
            <a:ext cx="271440" cy="613800"/>
            <a:chOff x="7400880" y="2422080"/>
            <a:chExt cx="271440" cy="613800"/>
          </a:xfrm>
        </p:grpSpPr>
        <p:grpSp>
          <p:nvGrpSpPr>
            <p:cNvPr id="870" name=""/>
            <p:cNvGrpSpPr/>
            <p:nvPr/>
          </p:nvGrpSpPr>
          <p:grpSpPr>
            <a:xfrm>
              <a:off x="7400880" y="2422080"/>
              <a:ext cx="271440" cy="613800"/>
              <a:chOff x="7400880" y="2422080"/>
              <a:chExt cx="271440" cy="613800"/>
            </a:xfrm>
          </p:grpSpPr>
          <p:grpSp>
            <p:nvGrpSpPr>
              <p:cNvPr id="871" name=""/>
              <p:cNvGrpSpPr/>
              <p:nvPr/>
            </p:nvGrpSpPr>
            <p:grpSpPr>
              <a:xfrm>
                <a:off x="7402680" y="2422080"/>
                <a:ext cx="269640" cy="613800"/>
                <a:chOff x="7402680" y="2422080"/>
                <a:chExt cx="269640" cy="613800"/>
              </a:xfrm>
            </p:grpSpPr>
            <p:sp>
              <p:nvSpPr>
                <p:cNvPr id="872" name=""/>
                <p:cNvSpPr/>
                <p:nvPr/>
              </p:nvSpPr>
              <p:spPr>
                <a:xfrm rot="16200000">
                  <a:off x="7431120" y="2406240"/>
                  <a:ext cx="225000" cy="256680"/>
                </a:xfrm>
                <a:prstGeom prst="flowChartDelay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3" name=""/>
                <p:cNvGrpSpPr/>
                <p:nvPr/>
              </p:nvGrpSpPr>
              <p:grpSpPr>
                <a:xfrm>
                  <a:off x="7402680" y="2650680"/>
                  <a:ext cx="269640" cy="385200"/>
                  <a:chOff x="7402680" y="2650680"/>
                  <a:chExt cx="269640" cy="38520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7402680" y="2721600"/>
                    <a:ext cx="269640" cy="314280"/>
                  </a:xfrm>
                  <a:prstGeom prst="can">
                    <a:avLst>
                      <a:gd name="adj" fmla="val 50000"/>
                    </a:avLst>
                  </a:prstGeom>
                  <a:solidFill>
                    <a:srgbClr val="333333"/>
                  </a:solidFill>
                  <a:ln w="2844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7402680" y="2650680"/>
                    <a:ext cx="269640" cy="31536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2844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6" name=""/>
                <p:cNvSpPr/>
                <p:nvPr/>
              </p:nvSpPr>
              <p:spPr>
                <a:xfrm>
                  <a:off x="7539120" y="2677680"/>
                  <a:ext cx="64440" cy="193320"/>
                </a:xfrm>
                <a:custGeom>
                  <a:avLst/>
                  <a:gdLst/>
                  <a:ahLst/>
                  <a:rect l="l" t="t" r="r" b="b"/>
                  <a:pathLst>
                    <a:path w="41" h="122">
                      <a:moveTo>
                        <a:pt x="0" y="9"/>
                      </a:moveTo>
                      <a:lnTo>
                        <a:pt x="28" y="122"/>
                      </a:lnTo>
                      <a:lnTo>
                        <a:pt x="4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284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7448400" y="2466360"/>
                  <a:ext cx="223560" cy="22536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7554960" y="2484000"/>
                  <a:ext cx="91440" cy="91800"/>
                </a:xfrm>
                <a:prstGeom prst="ellipse">
                  <a:avLst/>
                </a:prstGeom>
                <a:solidFill>
                  <a:srgbClr val="333333">
                    <a:alpha val="60000"/>
                  </a:srgbClr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7549920" y="2541240"/>
                  <a:ext cx="23760" cy="4716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7619760" y="2541240"/>
                  <a:ext cx="23760" cy="47160"/>
                </a:xfrm>
                <a:prstGeom prst="ellipse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rot="16200000">
                  <a:off x="7352640" y="2507040"/>
                  <a:ext cx="234720" cy="134640"/>
                </a:xfrm>
                <a:prstGeom prst="flowChartDelay">
                  <a:avLst/>
                </a:prstGeom>
                <a:solidFill>
                  <a:srgbClr val="333333"/>
                </a:solidFill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" name=""/>
              <p:cNvGrpSpPr/>
              <p:nvPr/>
            </p:nvGrpSpPr>
            <p:grpSpPr>
              <a:xfrm>
                <a:off x="7400880" y="2422080"/>
                <a:ext cx="270000" cy="613800"/>
                <a:chOff x="7400880" y="2422080"/>
                <a:chExt cx="270000" cy="613800"/>
              </a:xfrm>
            </p:grpSpPr>
            <p:sp>
              <p:nvSpPr>
                <p:cNvPr id="883" name=""/>
                <p:cNvSpPr/>
                <p:nvPr/>
              </p:nvSpPr>
              <p:spPr>
                <a:xfrm rot="16200000">
                  <a:off x="7429680" y="2405880"/>
                  <a:ext cx="225000" cy="257040"/>
                </a:xfrm>
                <a:prstGeom prst="flowChartDelay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4" name=""/>
                <p:cNvGrpSpPr/>
                <p:nvPr/>
              </p:nvGrpSpPr>
              <p:grpSpPr>
                <a:xfrm>
                  <a:off x="7400880" y="2650680"/>
                  <a:ext cx="270000" cy="385200"/>
                  <a:chOff x="7400880" y="2650680"/>
                  <a:chExt cx="270000" cy="38520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>
                    <a:off x="7400880" y="2721600"/>
                    <a:ext cx="270000" cy="314280"/>
                  </a:xfrm>
                  <a:prstGeom prst="can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752f46"/>
                      </a:gs>
                      <a:gs pos="50000">
                        <a:srgbClr val="ff6699"/>
                      </a:gs>
                      <a:gs pos="100000">
                        <a:srgbClr val="752f4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7400880" y="2650680"/>
                    <a:ext cx="270000" cy="315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52f46"/>
                      </a:gs>
                      <a:gs pos="50000">
                        <a:srgbClr val="ff6699"/>
                      </a:gs>
                      <a:gs pos="100000">
                        <a:srgbClr val="752f4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"/>
                <p:cNvSpPr/>
                <p:nvPr/>
              </p:nvSpPr>
              <p:spPr>
                <a:xfrm>
                  <a:off x="7537680" y="2677680"/>
                  <a:ext cx="64800" cy="193320"/>
                </a:xfrm>
                <a:custGeom>
                  <a:avLst/>
                  <a:gdLst/>
                  <a:ahLst/>
                  <a:rect l="l" t="t" r="r" b="b"/>
                  <a:pathLst>
                    <a:path w="41" h="122">
                      <a:moveTo>
                        <a:pt x="0" y="9"/>
                      </a:moveTo>
                      <a:lnTo>
                        <a:pt x="28" y="122"/>
                      </a:lnTo>
                      <a:lnTo>
                        <a:pt x="4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446960" y="2466360"/>
                  <a:ext cx="223920" cy="225360"/>
                </a:xfrm>
                <a:prstGeom prst="ellips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7553520" y="2484000"/>
                  <a:ext cx="91800" cy="9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392"/>
                      </a:srgbClr>
                    </a:gs>
                    <a:gs pos="100000">
                      <a:srgbClr val="75757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7548480" y="2541240"/>
                  <a:ext cx="24120" cy="471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7618320" y="2541240"/>
                  <a:ext cx="24120" cy="471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rot="16200000">
                  <a:off x="7350840" y="2506680"/>
                  <a:ext cx="234720" cy="135000"/>
                </a:xfrm>
                <a:prstGeom prst="flowChartDelay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3" name=""/>
            <p:cNvGrpSpPr/>
            <p:nvPr/>
          </p:nvGrpSpPr>
          <p:grpSpPr>
            <a:xfrm>
              <a:off x="7518240" y="2701800"/>
              <a:ext cx="115560" cy="154080"/>
              <a:chOff x="7518240" y="2701800"/>
              <a:chExt cx="115560" cy="154080"/>
            </a:xfrm>
          </p:grpSpPr>
          <p:sp>
            <p:nvSpPr>
              <p:cNvPr id="894" name=""/>
              <p:cNvSpPr/>
              <p:nvPr/>
            </p:nvSpPr>
            <p:spPr>
              <a:xfrm>
                <a:off x="7518240" y="2701800"/>
                <a:ext cx="57960" cy="154080"/>
              </a:xfrm>
              <a:custGeom>
                <a:avLst/>
                <a:gdLst/>
                <a:ahLst/>
                <a:rect l="l" t="t" r="r" b="b"/>
                <a:pathLst>
                  <a:path w="85" h="227">
                    <a:moveTo>
                      <a:pt x="85" y="0"/>
                    </a:moveTo>
                    <a:lnTo>
                      <a:pt x="56" y="227"/>
                    </a:lnTo>
                    <a:lnTo>
                      <a:pt x="0" y="19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3366ff"/>
              </a:solidFill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518240" y="2701800"/>
                <a:ext cx="57960" cy="115920"/>
              </a:xfrm>
              <a:custGeom>
                <a:avLst/>
                <a:gdLst/>
                <a:ahLst/>
                <a:rect l="l" t="t" r="r" b="b"/>
                <a:pathLst>
                  <a:path w="85" h="171">
                    <a:moveTo>
                      <a:pt x="85" y="0"/>
                    </a:moveTo>
                    <a:lnTo>
                      <a:pt x="0" y="114"/>
                    </a:lnTo>
                    <a:lnTo>
                      <a:pt x="56" y="17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3366ff"/>
              </a:solidFill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7575480" y="2701800"/>
                <a:ext cx="57960" cy="154080"/>
              </a:xfrm>
              <a:custGeom>
                <a:avLst/>
                <a:gdLst/>
                <a:ahLst/>
                <a:rect l="l" t="t" r="r" b="b"/>
                <a:pathLst>
                  <a:path w="85" h="227">
                    <a:moveTo>
                      <a:pt x="85" y="0"/>
                    </a:moveTo>
                    <a:lnTo>
                      <a:pt x="56" y="227"/>
                    </a:lnTo>
                    <a:lnTo>
                      <a:pt x="0" y="19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3366ff"/>
              </a:solidFill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7575480" y="2701800"/>
                <a:ext cx="57960" cy="115920"/>
              </a:xfrm>
              <a:custGeom>
                <a:avLst/>
                <a:gdLst/>
                <a:ahLst/>
                <a:rect l="l" t="t" r="r" b="b"/>
                <a:pathLst>
                  <a:path w="85" h="171">
                    <a:moveTo>
                      <a:pt x="85" y="0"/>
                    </a:moveTo>
                    <a:lnTo>
                      <a:pt x="0" y="114"/>
                    </a:lnTo>
                    <a:lnTo>
                      <a:pt x="56" y="17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3366ff"/>
              </a:solidFill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556400" y="2701800"/>
                <a:ext cx="38880" cy="38520"/>
              </a:xfrm>
              <a:prstGeom prst="roundRect">
                <a:avLst>
                  <a:gd name="adj" fmla="val 24560"/>
                </a:avLst>
              </a:prstGeom>
              <a:solidFill>
                <a:srgbClr val="3366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9" name=""/>
          <p:cNvGrpSpPr/>
          <p:nvPr/>
        </p:nvGrpSpPr>
        <p:grpSpPr>
          <a:xfrm>
            <a:off x="3224160" y="5805360"/>
            <a:ext cx="574560" cy="412920"/>
            <a:chOff x="3224160" y="5805360"/>
            <a:chExt cx="574560" cy="412920"/>
          </a:xfrm>
        </p:grpSpPr>
        <p:sp>
          <p:nvSpPr>
            <p:cNvPr id="900" name=""/>
            <p:cNvSpPr/>
            <p:nvPr/>
          </p:nvSpPr>
          <p:spPr>
            <a:xfrm>
              <a:off x="3224160" y="5805360"/>
              <a:ext cx="574560" cy="412920"/>
            </a:xfrm>
            <a:custGeom>
              <a:avLst/>
              <a:gdLst/>
              <a:ahLst/>
              <a:rect l="l" t="t" r="r" b="b"/>
              <a:pathLst>
                <a:path w="726" h="522">
                  <a:moveTo>
                    <a:pt x="0" y="91"/>
                  </a:moveTo>
                  <a:lnTo>
                    <a:pt x="45" y="0"/>
                  </a:lnTo>
                  <a:lnTo>
                    <a:pt x="431" y="0"/>
                  </a:lnTo>
                  <a:lnTo>
                    <a:pt x="454" y="68"/>
                  </a:lnTo>
                  <a:lnTo>
                    <a:pt x="726" y="68"/>
                  </a:lnTo>
                  <a:lnTo>
                    <a:pt x="726" y="522"/>
                  </a:lnTo>
                  <a:lnTo>
                    <a:pt x="0" y="52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224160" y="5805360"/>
              <a:ext cx="574560" cy="412920"/>
            </a:xfrm>
            <a:custGeom>
              <a:avLst/>
              <a:gdLst/>
              <a:ahLst/>
              <a:rect l="l" t="t" r="r" b="b"/>
              <a:pathLst>
                <a:path w="726" h="522">
                  <a:moveTo>
                    <a:pt x="0" y="91"/>
                  </a:moveTo>
                  <a:lnTo>
                    <a:pt x="45" y="0"/>
                  </a:lnTo>
                  <a:lnTo>
                    <a:pt x="431" y="0"/>
                  </a:lnTo>
                  <a:lnTo>
                    <a:pt x="454" y="68"/>
                  </a:lnTo>
                  <a:lnTo>
                    <a:pt x="726" y="68"/>
                  </a:lnTo>
                  <a:lnTo>
                    <a:pt x="726" y="522"/>
                  </a:lnTo>
                  <a:lnTo>
                    <a:pt x="0" y="522"/>
                  </a:lnTo>
                  <a:lnTo>
                    <a:pt x="0" y="91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3944880" y="5805360"/>
            <a:ext cx="576360" cy="412920"/>
            <a:chOff x="3944880" y="5805360"/>
            <a:chExt cx="576360" cy="412920"/>
          </a:xfrm>
        </p:grpSpPr>
        <p:sp>
          <p:nvSpPr>
            <p:cNvPr id="903" name=""/>
            <p:cNvSpPr/>
            <p:nvPr/>
          </p:nvSpPr>
          <p:spPr>
            <a:xfrm>
              <a:off x="3944880" y="5805360"/>
              <a:ext cx="576360" cy="412920"/>
            </a:xfrm>
            <a:custGeom>
              <a:avLst/>
              <a:gdLst/>
              <a:ahLst/>
              <a:rect l="l" t="t" r="r" b="b"/>
              <a:pathLst>
                <a:path w="726" h="522">
                  <a:moveTo>
                    <a:pt x="0" y="91"/>
                  </a:moveTo>
                  <a:lnTo>
                    <a:pt x="45" y="0"/>
                  </a:lnTo>
                  <a:lnTo>
                    <a:pt x="431" y="0"/>
                  </a:lnTo>
                  <a:lnTo>
                    <a:pt x="454" y="68"/>
                  </a:lnTo>
                  <a:lnTo>
                    <a:pt x="726" y="68"/>
                  </a:lnTo>
                  <a:lnTo>
                    <a:pt x="726" y="522"/>
                  </a:lnTo>
                  <a:lnTo>
                    <a:pt x="0" y="52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944880" y="5805360"/>
              <a:ext cx="576360" cy="412920"/>
            </a:xfrm>
            <a:custGeom>
              <a:avLst/>
              <a:gdLst/>
              <a:ahLst/>
              <a:rect l="l" t="t" r="r" b="b"/>
              <a:pathLst>
                <a:path w="726" h="522">
                  <a:moveTo>
                    <a:pt x="0" y="91"/>
                  </a:moveTo>
                  <a:lnTo>
                    <a:pt x="45" y="0"/>
                  </a:lnTo>
                  <a:lnTo>
                    <a:pt x="431" y="0"/>
                  </a:lnTo>
                  <a:lnTo>
                    <a:pt x="454" y="68"/>
                  </a:lnTo>
                  <a:lnTo>
                    <a:pt x="726" y="68"/>
                  </a:lnTo>
                  <a:lnTo>
                    <a:pt x="726" y="522"/>
                  </a:lnTo>
                  <a:lnTo>
                    <a:pt x="0" y="522"/>
                  </a:lnTo>
                  <a:lnTo>
                    <a:pt x="0" y="91"/>
                  </a:lnTo>
                  <a:close/>
                </a:path>
              </a:pathLst>
            </a:custGeom>
            <a:gradFill rotWithShape="0">
              <a:gsLst>
                <a:gs pos="0">
                  <a:srgbClr val="66ff66"/>
                </a:gs>
                <a:gs pos="100000">
                  <a:srgbClr val="53d1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5240160" y="2708280"/>
            <a:ext cx="936720" cy="825480"/>
            <a:chOff x="5240160" y="2708280"/>
            <a:chExt cx="936720" cy="825480"/>
          </a:xfrm>
        </p:grpSpPr>
        <p:grpSp>
          <p:nvGrpSpPr>
            <p:cNvPr id="906" name=""/>
            <p:cNvGrpSpPr/>
            <p:nvPr/>
          </p:nvGrpSpPr>
          <p:grpSpPr>
            <a:xfrm>
              <a:off x="5240160" y="2708280"/>
              <a:ext cx="936720" cy="825480"/>
              <a:chOff x="5240160" y="2708280"/>
              <a:chExt cx="936720" cy="825480"/>
            </a:xfrm>
          </p:grpSpPr>
          <p:sp>
            <p:nvSpPr>
              <p:cNvPr id="907" name=""/>
              <p:cNvSpPr/>
              <p:nvPr/>
            </p:nvSpPr>
            <p:spPr>
              <a:xfrm>
                <a:off x="5240160" y="2708280"/>
                <a:ext cx="936720" cy="825480"/>
              </a:xfrm>
              <a:prstGeom prst="rect">
                <a:avLst/>
              </a:prstGeom>
              <a:solidFill>
                <a:srgbClr val="0000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284080" y="2841840"/>
                <a:ext cx="847440" cy="64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84080" y="3444120"/>
                <a:ext cx="847440" cy="44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284080" y="2796840"/>
                <a:ext cx="847440" cy="43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1" name=""/>
            <p:cNvSpPr txBox="1"/>
            <p:nvPr/>
          </p:nvSpPr>
          <p:spPr>
            <a:xfrm>
              <a:off x="5384880" y="2924280"/>
              <a:ext cx="64764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仮公開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5240160" y="3645000"/>
            <a:ext cx="936720" cy="825480"/>
            <a:chOff x="5240160" y="3645000"/>
            <a:chExt cx="936720" cy="825480"/>
          </a:xfrm>
        </p:grpSpPr>
        <p:grpSp>
          <p:nvGrpSpPr>
            <p:cNvPr id="913" name=""/>
            <p:cNvGrpSpPr/>
            <p:nvPr/>
          </p:nvGrpSpPr>
          <p:grpSpPr>
            <a:xfrm>
              <a:off x="5240160" y="3645000"/>
              <a:ext cx="936720" cy="825480"/>
              <a:chOff x="5240160" y="3645000"/>
              <a:chExt cx="936720" cy="825480"/>
            </a:xfrm>
          </p:grpSpPr>
          <p:sp>
            <p:nvSpPr>
              <p:cNvPr id="914" name=""/>
              <p:cNvSpPr/>
              <p:nvPr/>
            </p:nvSpPr>
            <p:spPr>
              <a:xfrm>
                <a:off x="5240160" y="3645000"/>
                <a:ext cx="936720" cy="825480"/>
              </a:xfrm>
              <a:prstGeom prst="rect">
                <a:avLst/>
              </a:prstGeom>
              <a:solidFill>
                <a:srgbClr val="0000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284080" y="3778560"/>
                <a:ext cx="847440" cy="64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284080" y="4380840"/>
                <a:ext cx="847440" cy="44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284080" y="3733560"/>
                <a:ext cx="847440" cy="43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8" name=""/>
            <p:cNvSpPr txBox="1"/>
            <p:nvPr/>
          </p:nvSpPr>
          <p:spPr>
            <a:xfrm>
              <a:off x="5384880" y="3860640"/>
              <a:ext cx="64764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デ　モ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サイト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6248520" y="2708280"/>
            <a:ext cx="936360" cy="825480"/>
            <a:chOff x="6248520" y="2708280"/>
            <a:chExt cx="936360" cy="825480"/>
          </a:xfrm>
        </p:grpSpPr>
        <p:grpSp>
          <p:nvGrpSpPr>
            <p:cNvPr id="920" name=""/>
            <p:cNvGrpSpPr/>
            <p:nvPr/>
          </p:nvGrpSpPr>
          <p:grpSpPr>
            <a:xfrm>
              <a:off x="6248520" y="2708280"/>
              <a:ext cx="936360" cy="825480"/>
              <a:chOff x="6248520" y="2708280"/>
              <a:chExt cx="936360" cy="825480"/>
            </a:xfrm>
          </p:grpSpPr>
          <p:sp>
            <p:nvSpPr>
              <p:cNvPr id="921" name=""/>
              <p:cNvSpPr/>
              <p:nvPr/>
            </p:nvSpPr>
            <p:spPr>
              <a:xfrm>
                <a:off x="6248520" y="2708280"/>
                <a:ext cx="936360" cy="825480"/>
              </a:xfrm>
              <a:prstGeom prst="rect">
                <a:avLst/>
              </a:prstGeom>
              <a:solidFill>
                <a:srgbClr val="0000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292440" y="2841840"/>
                <a:ext cx="847080" cy="64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292440" y="3444120"/>
                <a:ext cx="847080" cy="44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292440" y="2796840"/>
                <a:ext cx="847080" cy="43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 txBox="1"/>
            <p:nvPr/>
          </p:nvSpPr>
          <p:spPr>
            <a:xfrm>
              <a:off x="6392880" y="2924280"/>
              <a:ext cx="64764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本公開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6248520" y="3645000"/>
            <a:ext cx="936360" cy="825480"/>
            <a:chOff x="6248520" y="3645000"/>
            <a:chExt cx="936360" cy="825480"/>
          </a:xfrm>
        </p:grpSpPr>
        <p:grpSp>
          <p:nvGrpSpPr>
            <p:cNvPr id="927" name=""/>
            <p:cNvGrpSpPr/>
            <p:nvPr/>
          </p:nvGrpSpPr>
          <p:grpSpPr>
            <a:xfrm>
              <a:off x="6248520" y="3645000"/>
              <a:ext cx="936360" cy="825480"/>
              <a:chOff x="6248520" y="3645000"/>
              <a:chExt cx="936360" cy="825480"/>
            </a:xfrm>
          </p:grpSpPr>
          <p:sp>
            <p:nvSpPr>
              <p:cNvPr id="928" name=""/>
              <p:cNvSpPr/>
              <p:nvPr/>
            </p:nvSpPr>
            <p:spPr>
              <a:xfrm>
                <a:off x="6248520" y="3645000"/>
                <a:ext cx="936360" cy="825480"/>
              </a:xfrm>
              <a:prstGeom prst="rect">
                <a:avLst/>
              </a:prstGeom>
              <a:solidFill>
                <a:srgbClr val="0000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292440" y="3778560"/>
                <a:ext cx="847080" cy="64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292440" y="4380840"/>
                <a:ext cx="847080" cy="44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292440" y="3733560"/>
                <a:ext cx="847080" cy="43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2" name=""/>
            <p:cNvSpPr txBox="1"/>
            <p:nvPr/>
          </p:nvSpPr>
          <p:spPr>
            <a:xfrm>
              <a:off x="6392880" y="3860640"/>
              <a:ext cx="64764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テスト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サイト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3224160" y="5300640"/>
            <a:ext cx="574560" cy="412920"/>
            <a:chOff x="3224160" y="5300640"/>
            <a:chExt cx="574560" cy="412920"/>
          </a:xfrm>
        </p:grpSpPr>
        <p:sp>
          <p:nvSpPr>
            <p:cNvPr id="934" name=""/>
            <p:cNvSpPr/>
            <p:nvPr/>
          </p:nvSpPr>
          <p:spPr>
            <a:xfrm>
              <a:off x="3224160" y="5300640"/>
              <a:ext cx="574560" cy="412920"/>
            </a:xfrm>
            <a:custGeom>
              <a:avLst/>
              <a:gdLst/>
              <a:ahLst/>
              <a:rect l="l" t="t" r="r" b="b"/>
              <a:pathLst>
                <a:path w="726" h="522">
                  <a:moveTo>
                    <a:pt x="0" y="91"/>
                  </a:moveTo>
                  <a:lnTo>
                    <a:pt x="45" y="0"/>
                  </a:lnTo>
                  <a:lnTo>
                    <a:pt x="431" y="0"/>
                  </a:lnTo>
                  <a:lnTo>
                    <a:pt x="454" y="68"/>
                  </a:lnTo>
                  <a:lnTo>
                    <a:pt x="726" y="68"/>
                  </a:lnTo>
                  <a:lnTo>
                    <a:pt x="726" y="522"/>
                  </a:lnTo>
                  <a:lnTo>
                    <a:pt x="0" y="52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224160" y="5300640"/>
              <a:ext cx="574560" cy="412920"/>
            </a:xfrm>
            <a:custGeom>
              <a:avLst/>
              <a:gdLst/>
              <a:ahLst/>
              <a:rect l="l" t="t" r="r" b="b"/>
              <a:pathLst>
                <a:path w="726" h="522">
                  <a:moveTo>
                    <a:pt x="0" y="91"/>
                  </a:moveTo>
                  <a:lnTo>
                    <a:pt x="45" y="0"/>
                  </a:lnTo>
                  <a:lnTo>
                    <a:pt x="431" y="0"/>
                  </a:lnTo>
                  <a:lnTo>
                    <a:pt x="454" y="68"/>
                  </a:lnTo>
                  <a:lnTo>
                    <a:pt x="726" y="68"/>
                  </a:lnTo>
                  <a:lnTo>
                    <a:pt x="726" y="522"/>
                  </a:lnTo>
                  <a:lnTo>
                    <a:pt x="0" y="522"/>
                  </a:lnTo>
                  <a:lnTo>
                    <a:pt x="0" y="91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7da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3944880" y="5300640"/>
            <a:ext cx="576360" cy="412920"/>
            <a:chOff x="3944880" y="5300640"/>
            <a:chExt cx="576360" cy="412920"/>
          </a:xfrm>
        </p:grpSpPr>
        <p:sp>
          <p:nvSpPr>
            <p:cNvPr id="937" name=""/>
            <p:cNvSpPr/>
            <p:nvPr/>
          </p:nvSpPr>
          <p:spPr>
            <a:xfrm>
              <a:off x="3944880" y="5300640"/>
              <a:ext cx="576360" cy="412920"/>
            </a:xfrm>
            <a:custGeom>
              <a:avLst/>
              <a:gdLst/>
              <a:ahLst/>
              <a:rect l="l" t="t" r="r" b="b"/>
              <a:pathLst>
                <a:path w="726" h="522">
                  <a:moveTo>
                    <a:pt x="0" y="91"/>
                  </a:moveTo>
                  <a:lnTo>
                    <a:pt x="45" y="0"/>
                  </a:lnTo>
                  <a:lnTo>
                    <a:pt x="431" y="0"/>
                  </a:lnTo>
                  <a:lnTo>
                    <a:pt x="454" y="68"/>
                  </a:lnTo>
                  <a:lnTo>
                    <a:pt x="726" y="68"/>
                  </a:lnTo>
                  <a:lnTo>
                    <a:pt x="726" y="522"/>
                  </a:lnTo>
                  <a:lnTo>
                    <a:pt x="0" y="52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944880" y="5300640"/>
              <a:ext cx="576360" cy="412920"/>
            </a:xfrm>
            <a:custGeom>
              <a:avLst/>
              <a:gdLst/>
              <a:ahLst/>
              <a:rect l="l" t="t" r="r" b="b"/>
              <a:pathLst>
                <a:path w="726" h="522">
                  <a:moveTo>
                    <a:pt x="0" y="91"/>
                  </a:moveTo>
                  <a:lnTo>
                    <a:pt x="45" y="0"/>
                  </a:lnTo>
                  <a:lnTo>
                    <a:pt x="431" y="0"/>
                  </a:lnTo>
                  <a:lnTo>
                    <a:pt x="454" y="68"/>
                  </a:lnTo>
                  <a:lnTo>
                    <a:pt x="726" y="68"/>
                  </a:lnTo>
                  <a:lnTo>
                    <a:pt x="726" y="522"/>
                  </a:lnTo>
                  <a:lnTo>
                    <a:pt x="0" y="522"/>
                  </a:lnTo>
                  <a:lnTo>
                    <a:pt x="0" y="91"/>
                  </a:lnTo>
                  <a:close/>
                </a:path>
              </a:pathLst>
            </a:custGeom>
            <a:gradFill rotWithShape="0">
              <a:gsLst>
                <a:gs pos="0">
                  <a:srgbClr val="ff6699"/>
                </a:gs>
                <a:gs pos="100000">
                  <a:srgbClr val="d1537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824520" y="6308640"/>
            <a:ext cx="795600" cy="331920"/>
            <a:chOff x="6824520" y="6308640"/>
            <a:chExt cx="795600" cy="331920"/>
          </a:xfrm>
        </p:grpSpPr>
        <p:sp>
          <p:nvSpPr>
            <p:cNvPr id="940" name=""/>
            <p:cNvSpPr/>
            <p:nvPr/>
          </p:nvSpPr>
          <p:spPr>
            <a:xfrm flipH="1">
              <a:off x="6824520" y="6309000"/>
              <a:ext cx="794880" cy="232200"/>
            </a:xfrm>
            <a:custGeom>
              <a:avLst/>
              <a:gdLst/>
              <a:ahLst/>
              <a:rect l="l" t="t" r="r" b="b"/>
              <a:pathLst>
                <a:path w="1089" h="318">
                  <a:moveTo>
                    <a:pt x="1089" y="0"/>
                  </a:moveTo>
                  <a:lnTo>
                    <a:pt x="182" y="0"/>
                  </a:lnTo>
                  <a:lnTo>
                    <a:pt x="0" y="318"/>
                  </a:lnTo>
                  <a:lnTo>
                    <a:pt x="907" y="318"/>
                  </a:lnTo>
                  <a:lnTo>
                    <a:pt x="1089" y="0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6824160" y="6309000"/>
              <a:ext cx="132840" cy="331200"/>
            </a:xfrm>
            <a:custGeom>
              <a:avLst/>
              <a:gdLst/>
              <a:ahLst/>
              <a:rect l="l" t="t" r="r" b="b"/>
              <a:pathLst>
                <a:path w="182" h="454">
                  <a:moveTo>
                    <a:pt x="182" y="0"/>
                  </a:moveTo>
                  <a:lnTo>
                    <a:pt x="0" y="318"/>
                  </a:lnTo>
                  <a:lnTo>
                    <a:pt x="0" y="454"/>
                  </a:lnTo>
                  <a:lnTo>
                    <a:pt x="182" y="136"/>
                  </a:lnTo>
                  <a:lnTo>
                    <a:pt x="182" y="0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6957720" y="6541560"/>
              <a:ext cx="661680" cy="990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7387200" y="6548040"/>
              <a:ext cx="198360" cy="655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7188480" y="6548040"/>
              <a:ext cx="198360" cy="65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6990120" y="6548040"/>
              <a:ext cx="198360" cy="655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825960" y="6308640"/>
              <a:ext cx="794160" cy="330480"/>
            </a:xfrm>
            <a:custGeom>
              <a:avLst/>
              <a:gdLst/>
              <a:ahLst/>
              <a:rect l="l" t="t" r="r" b="b"/>
              <a:pathLst>
                <a:path w="1089" h="454">
                  <a:moveTo>
                    <a:pt x="1089" y="136"/>
                  </a:moveTo>
                  <a:lnTo>
                    <a:pt x="1089" y="0"/>
                  </a:lnTo>
                  <a:lnTo>
                    <a:pt x="182" y="0"/>
                  </a:lnTo>
                  <a:lnTo>
                    <a:pt x="0" y="318"/>
                  </a:lnTo>
                  <a:lnTo>
                    <a:pt x="0" y="454"/>
                  </a:lnTo>
                  <a:lnTo>
                    <a:pt x="907" y="454"/>
                  </a:lnTo>
                  <a:lnTo>
                    <a:pt x="1089" y="136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735080" y="5373720"/>
            <a:ext cx="875160" cy="736560"/>
            <a:chOff x="4735080" y="5373720"/>
            <a:chExt cx="875160" cy="736560"/>
          </a:xfrm>
        </p:grpSpPr>
        <p:sp>
          <p:nvSpPr>
            <p:cNvPr id="948" name=""/>
            <p:cNvSpPr/>
            <p:nvPr/>
          </p:nvSpPr>
          <p:spPr>
            <a:xfrm flipH="1">
              <a:off x="4913640" y="6049800"/>
              <a:ext cx="377640" cy="19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4814640" y="5950800"/>
              <a:ext cx="99000" cy="119160"/>
            </a:xfrm>
            <a:custGeom>
              <a:avLst/>
              <a:gdLst/>
              <a:ahLst/>
              <a:rect l="l" t="t" r="r" b="b"/>
              <a:pathLst>
                <a:path w="113" h="136">
                  <a:moveTo>
                    <a:pt x="0" y="136"/>
                  </a:moveTo>
                  <a:lnTo>
                    <a:pt x="113" y="23"/>
                  </a:lnTo>
                  <a:lnTo>
                    <a:pt x="113" y="0"/>
                  </a:lnTo>
                  <a:lnTo>
                    <a:pt x="0" y="113"/>
                  </a:lnTo>
                  <a:lnTo>
                    <a:pt x="0" y="136"/>
                  </a:ln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4815360" y="5950800"/>
              <a:ext cx="476640" cy="99000"/>
            </a:xfrm>
            <a:custGeom>
              <a:avLst/>
              <a:gdLst/>
              <a:ahLst/>
              <a:rect l="l" t="t" r="r" b="b"/>
              <a:pathLst>
                <a:path w="544" h="113">
                  <a:moveTo>
                    <a:pt x="544" y="0"/>
                  </a:moveTo>
                  <a:lnTo>
                    <a:pt x="113" y="0"/>
                  </a:lnTo>
                  <a:lnTo>
                    <a:pt x="0" y="113"/>
                  </a:lnTo>
                  <a:lnTo>
                    <a:pt x="431" y="113"/>
                  </a:lnTo>
                  <a:lnTo>
                    <a:pt x="544" y="0"/>
                  </a:lnTo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4952880" y="5851800"/>
              <a:ext cx="39240" cy="158400"/>
            </a:xfrm>
            <a:custGeom>
              <a:avLst/>
              <a:gdLst/>
              <a:ahLst/>
              <a:rect l="l" t="t" r="r" b="b"/>
              <a:pathLst>
                <a:path w="45" h="181">
                  <a:moveTo>
                    <a:pt x="0" y="181"/>
                  </a:moveTo>
                  <a:lnTo>
                    <a:pt x="45" y="136"/>
                  </a:lnTo>
                  <a:lnTo>
                    <a:pt x="45" y="0"/>
                  </a:lnTo>
                  <a:lnTo>
                    <a:pt x="0" y="45"/>
                  </a:lnTo>
                  <a:lnTo>
                    <a:pt x="0" y="181"/>
                  </a:ln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4734720" y="5374440"/>
              <a:ext cx="615960" cy="40320"/>
            </a:xfrm>
            <a:custGeom>
              <a:avLst/>
              <a:gdLst/>
              <a:ahLst/>
              <a:rect l="l" t="t" r="r" b="b"/>
              <a:pathLst>
                <a:path w="703" h="46">
                  <a:moveTo>
                    <a:pt x="45" y="0"/>
                  </a:moveTo>
                  <a:lnTo>
                    <a:pt x="0" y="46"/>
                  </a:lnTo>
                  <a:lnTo>
                    <a:pt x="658" y="46"/>
                  </a:lnTo>
                  <a:lnTo>
                    <a:pt x="703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4774680" y="5414760"/>
              <a:ext cx="576720" cy="47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4734720" y="5374440"/>
              <a:ext cx="39240" cy="515520"/>
            </a:xfrm>
            <a:custGeom>
              <a:avLst/>
              <a:gdLst/>
              <a:ahLst/>
              <a:rect l="l" t="t" r="r" b="b"/>
              <a:pathLst>
                <a:path w="45" h="590">
                  <a:moveTo>
                    <a:pt x="0" y="590"/>
                  </a:moveTo>
                  <a:lnTo>
                    <a:pt x="0" y="46"/>
                  </a:lnTo>
                  <a:lnTo>
                    <a:pt x="45" y="0"/>
                  </a:lnTo>
                  <a:lnTo>
                    <a:pt x="45" y="545"/>
                  </a:lnTo>
                  <a:lnTo>
                    <a:pt x="0" y="590"/>
                  </a:ln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4992480" y="5891040"/>
              <a:ext cx="139320" cy="1191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4815360" y="5454360"/>
              <a:ext cx="496800" cy="3974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736160" y="5373720"/>
              <a:ext cx="615960" cy="695520"/>
            </a:xfrm>
            <a:custGeom>
              <a:avLst/>
              <a:gdLst/>
              <a:ahLst/>
              <a:rect l="l" t="t" r="r" b="b"/>
              <a:pathLst>
                <a:path w="703" h="794">
                  <a:moveTo>
                    <a:pt x="0" y="0"/>
                  </a:moveTo>
                  <a:lnTo>
                    <a:pt x="658" y="0"/>
                  </a:lnTo>
                  <a:lnTo>
                    <a:pt x="703" y="46"/>
                  </a:lnTo>
                  <a:lnTo>
                    <a:pt x="703" y="590"/>
                  </a:lnTo>
                  <a:lnTo>
                    <a:pt x="453" y="590"/>
                  </a:lnTo>
                  <a:lnTo>
                    <a:pt x="453" y="658"/>
                  </a:lnTo>
                  <a:lnTo>
                    <a:pt x="521" y="658"/>
                  </a:lnTo>
                  <a:lnTo>
                    <a:pt x="635" y="771"/>
                  </a:lnTo>
                  <a:lnTo>
                    <a:pt x="635" y="794"/>
                  </a:lnTo>
                  <a:lnTo>
                    <a:pt x="204" y="794"/>
                  </a:lnTo>
                  <a:lnTo>
                    <a:pt x="91" y="681"/>
                  </a:lnTo>
                  <a:lnTo>
                    <a:pt x="91" y="658"/>
                  </a:lnTo>
                  <a:lnTo>
                    <a:pt x="249" y="658"/>
                  </a:lnTo>
                  <a:lnTo>
                    <a:pt x="249" y="590"/>
                  </a:lnTo>
                  <a:lnTo>
                    <a:pt x="45" y="590"/>
                  </a:lnTo>
                  <a:lnTo>
                    <a:pt x="0" y="54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8" name=""/>
            <p:cNvGrpSpPr/>
            <p:nvPr/>
          </p:nvGrpSpPr>
          <p:grpSpPr>
            <a:xfrm>
              <a:off x="5371920" y="5393880"/>
              <a:ext cx="238320" cy="716400"/>
              <a:chOff x="5371920" y="5393880"/>
              <a:chExt cx="238320" cy="716400"/>
            </a:xfrm>
          </p:grpSpPr>
          <p:sp>
            <p:nvSpPr>
              <p:cNvPr id="959" name=""/>
              <p:cNvSpPr/>
              <p:nvPr/>
            </p:nvSpPr>
            <p:spPr>
              <a:xfrm flipH="1">
                <a:off x="5451120" y="5474520"/>
                <a:ext cx="158760" cy="635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>
                <a:off x="5371560" y="5394600"/>
                <a:ext cx="79560" cy="715680"/>
              </a:xfrm>
              <a:custGeom>
                <a:avLst/>
                <a:gdLst/>
                <a:ahLst/>
                <a:rect l="l" t="t" r="r" b="b"/>
                <a:pathLst>
                  <a:path w="91" h="817">
                    <a:moveTo>
                      <a:pt x="0" y="817"/>
                    </a:moveTo>
                    <a:lnTo>
                      <a:pt x="91" y="726"/>
                    </a:lnTo>
                    <a:lnTo>
                      <a:pt x="91" y="0"/>
                    </a:lnTo>
                    <a:lnTo>
                      <a:pt x="0" y="91"/>
                    </a:lnTo>
                    <a:lnTo>
                      <a:pt x="0" y="81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5371920" y="5394600"/>
                <a:ext cx="238320" cy="79560"/>
              </a:xfrm>
              <a:custGeom>
                <a:avLst/>
                <a:gdLst/>
                <a:ahLst/>
                <a:rect l="l" t="t" r="r" b="b"/>
                <a:pathLst>
                  <a:path w="272" h="91">
                    <a:moveTo>
                      <a:pt x="272" y="0"/>
                    </a:moveTo>
                    <a:lnTo>
                      <a:pt x="90" y="0"/>
                    </a:lnTo>
                    <a:lnTo>
                      <a:pt x="0" y="91"/>
                    </a:lnTo>
                    <a:lnTo>
                      <a:pt x="181" y="91"/>
                    </a:lnTo>
                    <a:lnTo>
                      <a:pt x="2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5511240" y="5513760"/>
                <a:ext cx="39240" cy="297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5510520" y="5910480"/>
                <a:ext cx="40320" cy="399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5510520" y="5969880"/>
                <a:ext cx="40320" cy="403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5371920" y="5393880"/>
                <a:ext cx="238320" cy="714600"/>
              </a:xfrm>
              <a:custGeom>
                <a:avLst/>
                <a:gdLst/>
                <a:ahLst/>
                <a:rect l="l" t="t" r="r" b="b"/>
                <a:pathLst>
                  <a:path w="272" h="817">
                    <a:moveTo>
                      <a:pt x="181" y="817"/>
                    </a:moveTo>
                    <a:lnTo>
                      <a:pt x="0" y="817"/>
                    </a:lnTo>
                    <a:lnTo>
                      <a:pt x="0" y="91"/>
                    </a:lnTo>
                    <a:lnTo>
                      <a:pt x="90" y="0"/>
                    </a:lnTo>
                    <a:lnTo>
                      <a:pt x="272" y="0"/>
                    </a:lnTo>
                    <a:lnTo>
                      <a:pt x="272" y="726"/>
                    </a:lnTo>
                    <a:lnTo>
                      <a:pt x="181" y="817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6" name=""/>
          <p:cNvGrpSpPr/>
          <p:nvPr/>
        </p:nvGrpSpPr>
        <p:grpSpPr>
          <a:xfrm>
            <a:off x="5744880" y="5373720"/>
            <a:ext cx="872640" cy="735120"/>
            <a:chOff x="5744880" y="5373720"/>
            <a:chExt cx="872640" cy="735120"/>
          </a:xfrm>
        </p:grpSpPr>
        <p:sp>
          <p:nvSpPr>
            <p:cNvPr id="967" name=""/>
            <p:cNvSpPr/>
            <p:nvPr/>
          </p:nvSpPr>
          <p:spPr>
            <a:xfrm flipH="1">
              <a:off x="5923080" y="6048360"/>
              <a:ext cx="376920" cy="201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5823720" y="5949720"/>
              <a:ext cx="99000" cy="118800"/>
            </a:xfrm>
            <a:custGeom>
              <a:avLst/>
              <a:gdLst/>
              <a:ahLst/>
              <a:rect l="l" t="t" r="r" b="b"/>
              <a:pathLst>
                <a:path w="113" h="136">
                  <a:moveTo>
                    <a:pt x="0" y="136"/>
                  </a:moveTo>
                  <a:lnTo>
                    <a:pt x="113" y="23"/>
                  </a:lnTo>
                  <a:lnTo>
                    <a:pt x="113" y="0"/>
                  </a:lnTo>
                  <a:lnTo>
                    <a:pt x="0" y="113"/>
                  </a:lnTo>
                  <a:lnTo>
                    <a:pt x="0" y="136"/>
                  </a:lnTo>
                  <a:close/>
                </a:path>
              </a:pathLst>
            </a:custGeom>
            <a:gradFill rotWithShape="0">
              <a:gsLst>
                <a:gs pos="0">
                  <a:srgbClr val="2b2b2b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5824440" y="5949720"/>
              <a:ext cx="475920" cy="98640"/>
            </a:xfrm>
            <a:custGeom>
              <a:avLst/>
              <a:gdLst/>
              <a:ahLst/>
              <a:rect l="l" t="t" r="r" b="b"/>
              <a:pathLst>
                <a:path w="544" h="113">
                  <a:moveTo>
                    <a:pt x="544" y="0"/>
                  </a:moveTo>
                  <a:lnTo>
                    <a:pt x="113" y="0"/>
                  </a:lnTo>
                  <a:lnTo>
                    <a:pt x="0" y="113"/>
                  </a:lnTo>
                  <a:lnTo>
                    <a:pt x="431" y="113"/>
                  </a:lnTo>
                  <a:lnTo>
                    <a:pt x="5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b2b2b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5962320" y="5850720"/>
              <a:ext cx="39240" cy="158400"/>
            </a:xfrm>
            <a:custGeom>
              <a:avLst/>
              <a:gdLst/>
              <a:ahLst/>
              <a:rect l="l" t="t" r="r" b="b"/>
              <a:pathLst>
                <a:path w="45" h="181">
                  <a:moveTo>
                    <a:pt x="0" y="181"/>
                  </a:moveTo>
                  <a:lnTo>
                    <a:pt x="45" y="136"/>
                  </a:lnTo>
                  <a:lnTo>
                    <a:pt x="45" y="0"/>
                  </a:lnTo>
                  <a:lnTo>
                    <a:pt x="0" y="45"/>
                  </a:lnTo>
                  <a:lnTo>
                    <a:pt x="0" y="181"/>
                  </a:lnTo>
                  <a:close/>
                </a:path>
              </a:pathLst>
            </a:custGeom>
            <a:gradFill rotWithShape="0">
              <a:gsLst>
                <a:gs pos="0">
                  <a:srgbClr val="2b2b2b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5745240" y="5373720"/>
              <a:ext cx="614880" cy="39960"/>
            </a:xfrm>
            <a:custGeom>
              <a:avLst/>
              <a:gdLst/>
              <a:ahLst/>
              <a:rect l="l" t="t" r="r" b="b"/>
              <a:pathLst>
                <a:path w="703" h="46">
                  <a:moveTo>
                    <a:pt x="45" y="0"/>
                  </a:moveTo>
                  <a:lnTo>
                    <a:pt x="0" y="46"/>
                  </a:lnTo>
                  <a:lnTo>
                    <a:pt x="658" y="46"/>
                  </a:lnTo>
                  <a:lnTo>
                    <a:pt x="703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2b2b2b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5784480" y="5413680"/>
              <a:ext cx="575280" cy="4759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5744520" y="5373720"/>
              <a:ext cx="39240" cy="515520"/>
            </a:xfrm>
            <a:custGeom>
              <a:avLst/>
              <a:gdLst/>
              <a:ahLst/>
              <a:rect l="l" t="t" r="r" b="b"/>
              <a:pathLst>
                <a:path w="45" h="590">
                  <a:moveTo>
                    <a:pt x="0" y="590"/>
                  </a:moveTo>
                  <a:lnTo>
                    <a:pt x="0" y="46"/>
                  </a:lnTo>
                  <a:lnTo>
                    <a:pt x="45" y="0"/>
                  </a:lnTo>
                  <a:lnTo>
                    <a:pt x="45" y="545"/>
                  </a:lnTo>
                  <a:lnTo>
                    <a:pt x="0" y="590"/>
                  </a:lnTo>
                  <a:close/>
                </a:path>
              </a:pathLst>
            </a:custGeom>
            <a:gradFill rotWithShape="0">
              <a:gsLst>
                <a:gs pos="0">
                  <a:srgbClr val="2b2b2b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6002280" y="5889960"/>
              <a:ext cx="138960" cy="11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5824440" y="5453280"/>
              <a:ext cx="496080" cy="3970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745960" y="5373720"/>
              <a:ext cx="614880" cy="695160"/>
            </a:xfrm>
            <a:custGeom>
              <a:avLst/>
              <a:gdLst/>
              <a:ahLst/>
              <a:rect l="l" t="t" r="r" b="b"/>
              <a:pathLst>
                <a:path w="703" h="794">
                  <a:moveTo>
                    <a:pt x="0" y="0"/>
                  </a:moveTo>
                  <a:lnTo>
                    <a:pt x="658" y="0"/>
                  </a:lnTo>
                  <a:lnTo>
                    <a:pt x="703" y="46"/>
                  </a:lnTo>
                  <a:lnTo>
                    <a:pt x="703" y="590"/>
                  </a:lnTo>
                  <a:lnTo>
                    <a:pt x="453" y="590"/>
                  </a:lnTo>
                  <a:lnTo>
                    <a:pt x="453" y="658"/>
                  </a:lnTo>
                  <a:lnTo>
                    <a:pt x="521" y="658"/>
                  </a:lnTo>
                  <a:lnTo>
                    <a:pt x="635" y="771"/>
                  </a:lnTo>
                  <a:lnTo>
                    <a:pt x="635" y="794"/>
                  </a:lnTo>
                  <a:lnTo>
                    <a:pt x="204" y="794"/>
                  </a:lnTo>
                  <a:lnTo>
                    <a:pt x="91" y="681"/>
                  </a:lnTo>
                  <a:lnTo>
                    <a:pt x="91" y="658"/>
                  </a:lnTo>
                  <a:lnTo>
                    <a:pt x="249" y="658"/>
                  </a:lnTo>
                  <a:lnTo>
                    <a:pt x="249" y="590"/>
                  </a:lnTo>
                  <a:lnTo>
                    <a:pt x="45" y="590"/>
                  </a:lnTo>
                  <a:lnTo>
                    <a:pt x="0" y="54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6378840" y="5393880"/>
              <a:ext cx="238680" cy="714960"/>
              <a:chOff x="6378840" y="5393880"/>
              <a:chExt cx="238680" cy="714960"/>
            </a:xfrm>
          </p:grpSpPr>
          <p:sp>
            <p:nvSpPr>
              <p:cNvPr id="978" name=""/>
              <p:cNvSpPr/>
              <p:nvPr/>
            </p:nvSpPr>
            <p:spPr>
              <a:xfrm flipH="1">
                <a:off x="6458400" y="5473440"/>
                <a:ext cx="158400" cy="6354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>
                <a:off x="6379200" y="5393880"/>
                <a:ext cx="79200" cy="714960"/>
              </a:xfrm>
              <a:custGeom>
                <a:avLst/>
                <a:gdLst/>
                <a:ahLst/>
                <a:rect l="l" t="t" r="r" b="b"/>
                <a:pathLst>
                  <a:path w="91" h="817">
                    <a:moveTo>
                      <a:pt x="0" y="817"/>
                    </a:moveTo>
                    <a:lnTo>
                      <a:pt x="91" y="726"/>
                    </a:lnTo>
                    <a:lnTo>
                      <a:pt x="91" y="0"/>
                    </a:lnTo>
                    <a:lnTo>
                      <a:pt x="0" y="91"/>
                    </a:lnTo>
                    <a:lnTo>
                      <a:pt x="0" y="81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b2b2b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>
                <a:off x="6378480" y="5393880"/>
                <a:ext cx="237960" cy="79560"/>
              </a:xfrm>
              <a:custGeom>
                <a:avLst/>
                <a:gdLst/>
                <a:ahLst/>
                <a:rect l="l" t="t" r="r" b="b"/>
                <a:pathLst>
                  <a:path w="272" h="91">
                    <a:moveTo>
                      <a:pt x="272" y="0"/>
                    </a:moveTo>
                    <a:lnTo>
                      <a:pt x="90" y="0"/>
                    </a:lnTo>
                    <a:lnTo>
                      <a:pt x="0" y="91"/>
                    </a:lnTo>
                    <a:lnTo>
                      <a:pt x="181" y="91"/>
                    </a:lnTo>
                    <a:lnTo>
                      <a:pt x="2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b2b2b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6517800" y="5512680"/>
                <a:ext cx="39240" cy="29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6517080" y="5909040"/>
                <a:ext cx="39960" cy="399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6517080" y="5968800"/>
                <a:ext cx="39960" cy="399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6379920" y="5393880"/>
                <a:ext cx="237600" cy="713880"/>
              </a:xfrm>
              <a:custGeom>
                <a:avLst/>
                <a:gdLst/>
                <a:ahLst/>
                <a:rect l="l" t="t" r="r" b="b"/>
                <a:pathLst>
                  <a:path w="272" h="817">
                    <a:moveTo>
                      <a:pt x="181" y="817"/>
                    </a:moveTo>
                    <a:lnTo>
                      <a:pt x="0" y="817"/>
                    </a:lnTo>
                    <a:lnTo>
                      <a:pt x="0" y="91"/>
                    </a:lnTo>
                    <a:lnTo>
                      <a:pt x="90" y="0"/>
                    </a:lnTo>
                    <a:lnTo>
                      <a:pt x="272" y="0"/>
                    </a:lnTo>
                    <a:lnTo>
                      <a:pt x="272" y="726"/>
                    </a:lnTo>
                    <a:lnTo>
                      <a:pt x="181" y="817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5" name=""/>
          <p:cNvGrpSpPr/>
          <p:nvPr/>
        </p:nvGrpSpPr>
        <p:grpSpPr>
          <a:xfrm>
            <a:off x="6824520" y="5373720"/>
            <a:ext cx="774720" cy="714240"/>
            <a:chOff x="6824520" y="5373720"/>
            <a:chExt cx="774720" cy="714240"/>
          </a:xfrm>
        </p:grpSpPr>
        <p:sp>
          <p:nvSpPr>
            <p:cNvPr id="986" name=""/>
            <p:cNvSpPr/>
            <p:nvPr/>
          </p:nvSpPr>
          <p:spPr>
            <a:xfrm flipH="1">
              <a:off x="6843960" y="5393880"/>
              <a:ext cx="576000" cy="475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6864840" y="5412960"/>
              <a:ext cx="535680" cy="3974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6824520" y="5373720"/>
              <a:ext cx="19800" cy="496080"/>
            </a:xfrm>
            <a:custGeom>
              <a:avLst/>
              <a:gdLst/>
              <a:ahLst/>
              <a:rect l="l" t="t" r="r" b="b"/>
              <a:pathLst>
                <a:path w="23" h="567">
                  <a:moveTo>
                    <a:pt x="0" y="567"/>
                  </a:moveTo>
                  <a:lnTo>
                    <a:pt x="0" y="22"/>
                  </a:lnTo>
                  <a:lnTo>
                    <a:pt x="23" y="0"/>
                  </a:lnTo>
                  <a:lnTo>
                    <a:pt x="23" y="544"/>
                  </a:lnTo>
                  <a:lnTo>
                    <a:pt x="0" y="567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6824880" y="5373720"/>
              <a:ext cx="596160" cy="19080"/>
            </a:xfrm>
            <a:custGeom>
              <a:avLst/>
              <a:gdLst/>
              <a:ahLst/>
              <a:rect l="l" t="t" r="r" b="b"/>
              <a:pathLst>
                <a:path w="681" h="22">
                  <a:moveTo>
                    <a:pt x="681" y="0"/>
                  </a:moveTo>
                  <a:lnTo>
                    <a:pt x="23" y="0"/>
                  </a:lnTo>
                  <a:lnTo>
                    <a:pt x="0" y="22"/>
                  </a:lnTo>
                  <a:lnTo>
                    <a:pt x="658" y="22"/>
                  </a:lnTo>
                  <a:lnTo>
                    <a:pt x="681" y="0"/>
                  </a:lnTo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6844680" y="5869800"/>
              <a:ext cx="754560" cy="178560"/>
            </a:xfrm>
            <a:custGeom>
              <a:avLst/>
              <a:gdLst/>
              <a:ahLst/>
              <a:rect l="l" t="t" r="r" b="b"/>
              <a:pathLst>
                <a:path w="862" h="204">
                  <a:moveTo>
                    <a:pt x="204" y="0"/>
                  </a:moveTo>
                  <a:lnTo>
                    <a:pt x="0" y="204"/>
                  </a:lnTo>
                  <a:lnTo>
                    <a:pt x="658" y="204"/>
                  </a:lnTo>
                  <a:lnTo>
                    <a:pt x="862" y="0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7023240" y="6048720"/>
              <a:ext cx="576000" cy="39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6844680" y="5869800"/>
              <a:ext cx="178560" cy="217800"/>
            </a:xfrm>
            <a:custGeom>
              <a:avLst/>
              <a:gdLst/>
              <a:ahLst/>
              <a:rect l="l" t="t" r="r" b="b"/>
              <a:pathLst>
                <a:path w="204" h="249">
                  <a:moveTo>
                    <a:pt x="204" y="0"/>
                  </a:moveTo>
                  <a:lnTo>
                    <a:pt x="204" y="45"/>
                  </a:lnTo>
                  <a:lnTo>
                    <a:pt x="0" y="249"/>
                  </a:lnTo>
                  <a:lnTo>
                    <a:pt x="0" y="204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7281720" y="5850000"/>
              <a:ext cx="118800" cy="19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6864840" y="5850000"/>
              <a:ext cx="118800" cy="19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7282080" y="5869800"/>
              <a:ext cx="138960" cy="19080"/>
            </a:xfrm>
            <a:custGeom>
              <a:avLst/>
              <a:gdLst/>
              <a:ahLst/>
              <a:rect l="l" t="t" r="r" b="b"/>
              <a:pathLst>
                <a:path w="159" h="22">
                  <a:moveTo>
                    <a:pt x="23" y="0"/>
                  </a:moveTo>
                  <a:lnTo>
                    <a:pt x="0" y="22"/>
                  </a:lnTo>
                  <a:lnTo>
                    <a:pt x="136" y="22"/>
                  </a:lnTo>
                  <a:lnTo>
                    <a:pt x="15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6864120" y="5869800"/>
              <a:ext cx="138960" cy="19080"/>
            </a:xfrm>
            <a:custGeom>
              <a:avLst/>
              <a:gdLst/>
              <a:ahLst/>
              <a:rect l="l" t="t" r="r" b="b"/>
              <a:pathLst>
                <a:path w="159" h="22">
                  <a:moveTo>
                    <a:pt x="23" y="0"/>
                  </a:moveTo>
                  <a:lnTo>
                    <a:pt x="0" y="22"/>
                  </a:lnTo>
                  <a:lnTo>
                    <a:pt x="136" y="22"/>
                  </a:lnTo>
                  <a:lnTo>
                    <a:pt x="15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6883920" y="5889240"/>
              <a:ext cx="635400" cy="99720"/>
            </a:xfrm>
            <a:custGeom>
              <a:avLst/>
              <a:gdLst/>
              <a:ahLst/>
              <a:rect l="l" t="t" r="r" b="b"/>
              <a:pathLst>
                <a:path w="726" h="114">
                  <a:moveTo>
                    <a:pt x="113" y="0"/>
                  </a:moveTo>
                  <a:lnTo>
                    <a:pt x="726" y="0"/>
                  </a:lnTo>
                  <a:lnTo>
                    <a:pt x="612" y="114"/>
                  </a:lnTo>
                  <a:lnTo>
                    <a:pt x="0" y="114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7221960" y="5988960"/>
              <a:ext cx="178200" cy="39240"/>
            </a:xfrm>
            <a:custGeom>
              <a:avLst/>
              <a:gdLst/>
              <a:ahLst/>
              <a:rect l="l" t="t" r="r" b="b"/>
              <a:pathLst>
                <a:path w="204" h="45">
                  <a:moveTo>
                    <a:pt x="204" y="0"/>
                  </a:moveTo>
                  <a:lnTo>
                    <a:pt x="45" y="0"/>
                  </a:lnTo>
                  <a:lnTo>
                    <a:pt x="0" y="45"/>
                  </a:lnTo>
                  <a:lnTo>
                    <a:pt x="159" y="4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6824520" y="5373720"/>
              <a:ext cx="774720" cy="714240"/>
            </a:xfrm>
            <a:custGeom>
              <a:avLst/>
              <a:gdLst/>
              <a:ahLst/>
              <a:rect l="l" t="t" r="r" b="b"/>
              <a:pathLst>
                <a:path w="885" h="816">
                  <a:moveTo>
                    <a:pt x="885" y="0"/>
                  </a:moveTo>
                  <a:lnTo>
                    <a:pt x="227" y="0"/>
                  </a:lnTo>
                  <a:lnTo>
                    <a:pt x="204" y="22"/>
                  </a:lnTo>
                  <a:lnTo>
                    <a:pt x="204" y="567"/>
                  </a:lnTo>
                  <a:lnTo>
                    <a:pt x="0" y="771"/>
                  </a:lnTo>
                  <a:lnTo>
                    <a:pt x="0" y="816"/>
                  </a:lnTo>
                  <a:lnTo>
                    <a:pt x="658" y="816"/>
                  </a:lnTo>
                  <a:lnTo>
                    <a:pt x="862" y="612"/>
                  </a:lnTo>
                  <a:lnTo>
                    <a:pt x="862" y="567"/>
                  </a:lnTo>
                  <a:lnTo>
                    <a:pt x="885" y="544"/>
                  </a:lnTo>
                  <a:lnTo>
                    <a:pt x="885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7616880" y="5373720"/>
            <a:ext cx="774720" cy="714240"/>
            <a:chOff x="7616880" y="5373720"/>
            <a:chExt cx="774720" cy="714240"/>
          </a:xfrm>
        </p:grpSpPr>
        <p:sp>
          <p:nvSpPr>
            <p:cNvPr id="1001" name=""/>
            <p:cNvSpPr/>
            <p:nvPr/>
          </p:nvSpPr>
          <p:spPr>
            <a:xfrm flipH="1">
              <a:off x="7636320" y="5393520"/>
              <a:ext cx="576000" cy="4762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7657200" y="5412960"/>
              <a:ext cx="535680" cy="3974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7616880" y="5373720"/>
              <a:ext cx="19800" cy="496080"/>
            </a:xfrm>
            <a:custGeom>
              <a:avLst/>
              <a:gdLst/>
              <a:ahLst/>
              <a:rect l="l" t="t" r="r" b="b"/>
              <a:pathLst>
                <a:path w="23" h="567">
                  <a:moveTo>
                    <a:pt x="0" y="567"/>
                  </a:moveTo>
                  <a:lnTo>
                    <a:pt x="0" y="22"/>
                  </a:lnTo>
                  <a:lnTo>
                    <a:pt x="23" y="0"/>
                  </a:lnTo>
                  <a:lnTo>
                    <a:pt x="23" y="544"/>
                  </a:lnTo>
                  <a:lnTo>
                    <a:pt x="0" y="567"/>
                  </a:lnTo>
                  <a:close/>
                </a:path>
              </a:pathLst>
            </a:custGeom>
            <a:gradFill rotWithShape="0">
              <a:gsLst>
                <a:gs pos="0">
                  <a:srgbClr val="171717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7617240" y="5373720"/>
              <a:ext cx="596160" cy="19080"/>
            </a:xfrm>
            <a:custGeom>
              <a:avLst/>
              <a:gdLst/>
              <a:ahLst/>
              <a:rect l="l" t="t" r="r" b="b"/>
              <a:pathLst>
                <a:path w="681" h="22">
                  <a:moveTo>
                    <a:pt x="681" y="0"/>
                  </a:moveTo>
                  <a:lnTo>
                    <a:pt x="23" y="0"/>
                  </a:lnTo>
                  <a:lnTo>
                    <a:pt x="0" y="22"/>
                  </a:lnTo>
                  <a:lnTo>
                    <a:pt x="658" y="22"/>
                  </a:lnTo>
                  <a:lnTo>
                    <a:pt x="681" y="0"/>
                  </a:lnTo>
                  <a:close/>
                </a:path>
              </a:pathLst>
            </a:custGeom>
            <a:gradFill rotWithShape="0">
              <a:gsLst>
                <a:gs pos="0">
                  <a:srgbClr val="171717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7637040" y="5869800"/>
              <a:ext cx="754560" cy="178560"/>
            </a:xfrm>
            <a:custGeom>
              <a:avLst/>
              <a:gdLst/>
              <a:ahLst/>
              <a:rect l="l" t="t" r="r" b="b"/>
              <a:pathLst>
                <a:path w="862" h="204">
                  <a:moveTo>
                    <a:pt x="204" y="0"/>
                  </a:moveTo>
                  <a:lnTo>
                    <a:pt x="0" y="204"/>
                  </a:lnTo>
                  <a:lnTo>
                    <a:pt x="658" y="204"/>
                  </a:lnTo>
                  <a:lnTo>
                    <a:pt x="862" y="0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171717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7815600" y="6048720"/>
              <a:ext cx="576000" cy="392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7637040" y="5869800"/>
              <a:ext cx="178560" cy="217800"/>
            </a:xfrm>
            <a:custGeom>
              <a:avLst/>
              <a:gdLst/>
              <a:ahLst/>
              <a:rect l="l" t="t" r="r" b="b"/>
              <a:pathLst>
                <a:path w="204" h="249">
                  <a:moveTo>
                    <a:pt x="204" y="0"/>
                  </a:moveTo>
                  <a:lnTo>
                    <a:pt x="204" y="45"/>
                  </a:lnTo>
                  <a:lnTo>
                    <a:pt x="0" y="249"/>
                  </a:lnTo>
                  <a:lnTo>
                    <a:pt x="0" y="204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171717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74080" y="5850000"/>
              <a:ext cx="11880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7657200" y="5850000"/>
              <a:ext cx="11880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8074440" y="5869800"/>
              <a:ext cx="138960" cy="19080"/>
            </a:xfrm>
            <a:custGeom>
              <a:avLst/>
              <a:gdLst/>
              <a:ahLst/>
              <a:rect l="l" t="t" r="r" b="b"/>
              <a:pathLst>
                <a:path w="159" h="22">
                  <a:moveTo>
                    <a:pt x="23" y="0"/>
                  </a:moveTo>
                  <a:lnTo>
                    <a:pt x="0" y="22"/>
                  </a:lnTo>
                  <a:lnTo>
                    <a:pt x="136" y="22"/>
                  </a:lnTo>
                  <a:lnTo>
                    <a:pt x="15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7656480" y="5869800"/>
              <a:ext cx="138960" cy="19080"/>
            </a:xfrm>
            <a:custGeom>
              <a:avLst/>
              <a:gdLst/>
              <a:ahLst/>
              <a:rect l="l" t="t" r="r" b="b"/>
              <a:pathLst>
                <a:path w="159" h="22">
                  <a:moveTo>
                    <a:pt x="23" y="0"/>
                  </a:moveTo>
                  <a:lnTo>
                    <a:pt x="0" y="22"/>
                  </a:lnTo>
                  <a:lnTo>
                    <a:pt x="136" y="22"/>
                  </a:lnTo>
                  <a:lnTo>
                    <a:pt x="15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7676280" y="5889240"/>
              <a:ext cx="635400" cy="99720"/>
            </a:xfrm>
            <a:custGeom>
              <a:avLst/>
              <a:gdLst/>
              <a:ahLst/>
              <a:rect l="l" t="t" r="r" b="b"/>
              <a:pathLst>
                <a:path w="726" h="114">
                  <a:moveTo>
                    <a:pt x="113" y="0"/>
                  </a:moveTo>
                  <a:lnTo>
                    <a:pt x="726" y="0"/>
                  </a:lnTo>
                  <a:lnTo>
                    <a:pt x="612" y="114"/>
                  </a:lnTo>
                  <a:lnTo>
                    <a:pt x="0" y="114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8014320" y="5988960"/>
              <a:ext cx="178200" cy="39240"/>
            </a:xfrm>
            <a:custGeom>
              <a:avLst/>
              <a:gdLst/>
              <a:ahLst/>
              <a:rect l="l" t="t" r="r" b="b"/>
              <a:pathLst>
                <a:path w="204" h="45">
                  <a:moveTo>
                    <a:pt x="204" y="0"/>
                  </a:moveTo>
                  <a:lnTo>
                    <a:pt x="45" y="0"/>
                  </a:lnTo>
                  <a:lnTo>
                    <a:pt x="0" y="45"/>
                  </a:lnTo>
                  <a:lnTo>
                    <a:pt x="159" y="4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7616880" y="5373720"/>
              <a:ext cx="774720" cy="714240"/>
            </a:xfrm>
            <a:custGeom>
              <a:avLst/>
              <a:gdLst/>
              <a:ahLst/>
              <a:rect l="l" t="t" r="r" b="b"/>
              <a:pathLst>
                <a:path w="885" h="816">
                  <a:moveTo>
                    <a:pt x="885" y="0"/>
                  </a:moveTo>
                  <a:lnTo>
                    <a:pt x="227" y="0"/>
                  </a:lnTo>
                  <a:lnTo>
                    <a:pt x="204" y="22"/>
                  </a:lnTo>
                  <a:lnTo>
                    <a:pt x="204" y="567"/>
                  </a:lnTo>
                  <a:lnTo>
                    <a:pt x="0" y="771"/>
                  </a:lnTo>
                  <a:lnTo>
                    <a:pt x="0" y="816"/>
                  </a:lnTo>
                  <a:lnTo>
                    <a:pt x="658" y="816"/>
                  </a:lnTo>
                  <a:lnTo>
                    <a:pt x="862" y="612"/>
                  </a:lnTo>
                  <a:lnTo>
                    <a:pt x="862" y="567"/>
                  </a:lnTo>
                  <a:lnTo>
                    <a:pt x="885" y="544"/>
                  </a:lnTo>
                  <a:lnTo>
                    <a:pt x="885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5961240" y="6308640"/>
            <a:ext cx="792000" cy="330120"/>
            <a:chOff x="5961240" y="6308640"/>
            <a:chExt cx="792000" cy="330120"/>
          </a:xfrm>
        </p:grpSpPr>
        <p:sp>
          <p:nvSpPr>
            <p:cNvPr id="1016" name=""/>
            <p:cNvSpPr/>
            <p:nvPr/>
          </p:nvSpPr>
          <p:spPr>
            <a:xfrm flipH="1">
              <a:off x="6093000" y="6539760"/>
              <a:ext cx="659160" cy="98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5961240" y="6308640"/>
              <a:ext cx="792000" cy="231120"/>
            </a:xfrm>
            <a:custGeom>
              <a:avLst/>
              <a:gdLst/>
              <a:ahLst/>
              <a:rect l="l" t="t" r="r" b="b"/>
              <a:pathLst>
                <a:path w="1089" h="318">
                  <a:moveTo>
                    <a:pt x="1089" y="0"/>
                  </a:moveTo>
                  <a:lnTo>
                    <a:pt x="182" y="0"/>
                  </a:lnTo>
                  <a:lnTo>
                    <a:pt x="0" y="318"/>
                  </a:lnTo>
                  <a:lnTo>
                    <a:pt x="907" y="318"/>
                  </a:lnTo>
                  <a:lnTo>
                    <a:pt x="1089" y="0"/>
                  </a:lnTo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6126120" y="6555600"/>
              <a:ext cx="231120" cy="6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6159240" y="6572160"/>
              <a:ext cx="164160" cy="33120"/>
            </a:xfrm>
            <a:prstGeom prst="rect">
              <a:avLst/>
            </a:prstGeom>
            <a:gradFill rotWithShape="0">
              <a:gsLst>
                <a:gs pos="0">
                  <a:srgbClr val="66ff66"/>
                </a:gs>
                <a:gs pos="100000">
                  <a:srgbClr val="99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6666840" y="6572160"/>
              <a:ext cx="32760" cy="3384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1717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6600960" y="6572160"/>
              <a:ext cx="33120" cy="3384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1717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6535080" y="6572160"/>
              <a:ext cx="32760" cy="3384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1717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6469560" y="6572160"/>
              <a:ext cx="33840" cy="3384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1717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6404040" y="6572160"/>
              <a:ext cx="33840" cy="3384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1717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5961240" y="6308640"/>
              <a:ext cx="132480" cy="330120"/>
            </a:xfrm>
            <a:custGeom>
              <a:avLst/>
              <a:gdLst/>
              <a:ahLst/>
              <a:rect l="l" t="t" r="r" b="b"/>
              <a:pathLst>
                <a:path w="182" h="454">
                  <a:moveTo>
                    <a:pt x="182" y="0"/>
                  </a:moveTo>
                  <a:lnTo>
                    <a:pt x="0" y="318"/>
                  </a:lnTo>
                  <a:lnTo>
                    <a:pt x="0" y="454"/>
                  </a:lnTo>
                  <a:lnTo>
                    <a:pt x="182" y="136"/>
                  </a:lnTo>
                  <a:lnTo>
                    <a:pt x="182" y="0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5961240" y="6308640"/>
              <a:ext cx="792000" cy="330120"/>
            </a:xfrm>
            <a:custGeom>
              <a:avLst/>
              <a:gdLst/>
              <a:ahLst/>
              <a:rect l="l" t="t" r="r" b="b"/>
              <a:pathLst>
                <a:path w="1089" h="454">
                  <a:moveTo>
                    <a:pt x="1089" y="136"/>
                  </a:moveTo>
                  <a:lnTo>
                    <a:pt x="907" y="454"/>
                  </a:lnTo>
                  <a:lnTo>
                    <a:pt x="0" y="454"/>
                  </a:lnTo>
                  <a:lnTo>
                    <a:pt x="0" y="317"/>
                  </a:lnTo>
                  <a:lnTo>
                    <a:pt x="181" y="0"/>
                  </a:lnTo>
                  <a:lnTo>
                    <a:pt x="1089" y="0"/>
                  </a:lnTo>
                  <a:lnTo>
                    <a:pt x="1089" y="136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5024160" y="6308640"/>
            <a:ext cx="793800" cy="330120"/>
            <a:chOff x="5024160" y="6308640"/>
            <a:chExt cx="793800" cy="330120"/>
          </a:xfrm>
        </p:grpSpPr>
        <p:sp>
          <p:nvSpPr>
            <p:cNvPr id="1028" name=""/>
            <p:cNvSpPr/>
            <p:nvPr/>
          </p:nvSpPr>
          <p:spPr>
            <a:xfrm flipH="1">
              <a:off x="5156640" y="6539760"/>
              <a:ext cx="659880" cy="98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183280" y="6556680"/>
              <a:ext cx="197640" cy="66240"/>
            </a:xfrm>
            <a:custGeom>
              <a:avLst/>
              <a:gdLst/>
              <a:ahLst/>
              <a:rect l="l" t="t" r="r" b="b"/>
              <a:pathLst>
                <a:path w="272" h="91">
                  <a:moveTo>
                    <a:pt x="0" y="0"/>
                  </a:moveTo>
                  <a:lnTo>
                    <a:pt x="272" y="0"/>
                  </a:lnTo>
                  <a:lnTo>
                    <a:pt x="219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5024520" y="6308640"/>
              <a:ext cx="792720" cy="231120"/>
            </a:xfrm>
            <a:custGeom>
              <a:avLst/>
              <a:gdLst/>
              <a:ahLst/>
              <a:rect l="l" t="t" r="r" b="b"/>
              <a:pathLst>
                <a:path w="1089" h="318">
                  <a:moveTo>
                    <a:pt x="1089" y="0"/>
                  </a:moveTo>
                  <a:lnTo>
                    <a:pt x="182" y="0"/>
                  </a:lnTo>
                  <a:lnTo>
                    <a:pt x="0" y="318"/>
                  </a:lnTo>
                  <a:lnTo>
                    <a:pt x="907" y="318"/>
                  </a:lnTo>
                  <a:lnTo>
                    <a:pt x="1089" y="0"/>
                  </a:lnTo>
                  <a:close/>
                </a:path>
              </a:pathLst>
            </a:custGeo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5023800" y="6308640"/>
              <a:ext cx="132840" cy="330120"/>
            </a:xfrm>
            <a:custGeom>
              <a:avLst/>
              <a:gdLst/>
              <a:ahLst/>
              <a:rect l="l" t="t" r="r" b="b"/>
              <a:pathLst>
                <a:path w="182" h="454">
                  <a:moveTo>
                    <a:pt x="182" y="0"/>
                  </a:moveTo>
                  <a:lnTo>
                    <a:pt x="0" y="318"/>
                  </a:lnTo>
                  <a:lnTo>
                    <a:pt x="0" y="454"/>
                  </a:lnTo>
                  <a:lnTo>
                    <a:pt x="182" y="136"/>
                  </a:lnTo>
                  <a:lnTo>
                    <a:pt x="18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5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5024520" y="6308640"/>
              <a:ext cx="793080" cy="330120"/>
            </a:xfrm>
            <a:custGeom>
              <a:avLst/>
              <a:gdLst/>
              <a:ahLst/>
              <a:rect l="l" t="t" r="r" b="b"/>
              <a:pathLst>
                <a:path w="1089" h="454">
                  <a:moveTo>
                    <a:pt x="1089" y="136"/>
                  </a:moveTo>
                  <a:lnTo>
                    <a:pt x="907" y="454"/>
                  </a:lnTo>
                  <a:lnTo>
                    <a:pt x="0" y="454"/>
                  </a:lnTo>
                  <a:lnTo>
                    <a:pt x="0" y="317"/>
                  </a:lnTo>
                  <a:lnTo>
                    <a:pt x="181" y="0"/>
                  </a:lnTo>
                  <a:lnTo>
                    <a:pt x="1089" y="0"/>
                  </a:lnTo>
                  <a:lnTo>
                    <a:pt x="1089" y="136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415800" y="907920"/>
            <a:ext cx="60483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144880" y="404640"/>
            <a:ext cx="604836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3440160" y="4797360"/>
            <a:ext cx="47160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</a:rPr>
              <a:t>試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4160880" y="4797360"/>
            <a:ext cx="47160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</a:rPr>
              <a:t>テス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4881600" y="4797360"/>
            <a:ext cx="47160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</a:rPr>
              <a:t>出荷検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ＭＳ Ｐゴシック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200160" y="692280"/>
            <a:ext cx="9505800" cy="5905440"/>
          </a:xfrm>
          <a:prstGeom prst="roundRect">
            <a:avLst>
              <a:gd name="adj" fmla="val 1968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9" name=""/>
          <p:cNvGraphicFramePr/>
          <p:nvPr/>
        </p:nvGraphicFramePr>
        <p:xfrm>
          <a:off x="344520" y="836640"/>
          <a:ext cx="9217080" cy="5616720"/>
        </p:xfrm>
        <a:graphic>
          <a:graphicData uri="http://schemas.openxmlformats.org/drawingml/2006/table">
            <a:tbl>
              <a:tblPr/>
              <a:tblGrid>
                <a:gridCol w="1666800"/>
                <a:gridCol w="628560"/>
                <a:gridCol w="630360"/>
                <a:gridCol w="628560"/>
                <a:gridCol w="628920"/>
                <a:gridCol w="630000"/>
                <a:gridCol w="628560"/>
                <a:gridCol w="628920"/>
                <a:gridCol w="630000"/>
                <a:gridCol w="628920"/>
                <a:gridCol w="628560"/>
                <a:gridCol w="630360"/>
                <a:gridCol w="628560"/>
              </a:tblGrid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1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</a:tr>
              <a:tr h="174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営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33"/>
                        </a:gs>
                        <a:gs pos="100000">
                          <a:srgbClr val="175e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74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開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33"/>
                        </a:gs>
                        <a:gs pos="100000">
                          <a:srgbClr val="175e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74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デバッ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33"/>
                        </a:gs>
                        <a:gs pos="100000">
                          <a:srgbClr val="175e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メイリオ"/>
              </a:rPr>
              <a:t>○○</a:t>
            </a:r>
            <a:r>
              <a:rPr b="1" lang="zh-CN" sz="2000" spc="-1" strike="noStrike">
                <a:solidFill>
                  <a:srgbClr val="333399"/>
                </a:solidFill>
                <a:latin typeface="メイリオ"/>
              </a:rPr>
              <a:t>開発スケジュール</a:t>
            </a:r>
            <a:endParaRPr b="1" lang="en-US" sz="20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1041" name=""/>
          <p:cNvSpPr/>
          <p:nvPr/>
        </p:nvSpPr>
        <p:spPr>
          <a:xfrm>
            <a:off x="8265960" y="692280"/>
            <a:ext cx="6480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メイリオ"/>
                <a:ea typeface="メイリオ"/>
              </a:rPr>
              <a:t>11</a:t>
            </a:r>
            <a:r>
              <a:rPr b="1" lang="zh-CN" sz="1600" spc="-1" strike="noStrike">
                <a:solidFill>
                  <a:srgbClr val="ffffff"/>
                </a:solidFill>
                <a:latin typeface="メイリオ"/>
                <a:ea typeface="メイリオ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649600" y="692280"/>
            <a:ext cx="6476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メイリオ"/>
                <a:ea typeface="メイリオ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メイリオ"/>
                <a:ea typeface="メイリオ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649600" y="2133720"/>
            <a:ext cx="57456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97240" y="3789360"/>
            <a:ext cx="12240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2792520" y="1413000"/>
            <a:ext cx="471240" cy="576000"/>
            <a:chOff x="2792520" y="1413000"/>
            <a:chExt cx="471240" cy="576000"/>
          </a:xfrm>
        </p:grpSpPr>
        <p:sp>
          <p:nvSpPr>
            <p:cNvPr id="1046" name=""/>
            <p:cNvSpPr/>
            <p:nvPr/>
          </p:nvSpPr>
          <p:spPr>
            <a:xfrm>
              <a:off x="2792520" y="1413000"/>
              <a:ext cx="471240" cy="5760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6699"/>
                </a:gs>
                <a:gs pos="100000">
                  <a:srgbClr val="febf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2844360" y="1569600"/>
              <a:ext cx="342720" cy="19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提案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7113600" y="5589720"/>
            <a:ext cx="57636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8265960" y="2060640"/>
            <a:ext cx="6480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8481960" y="1413000"/>
            <a:ext cx="792000" cy="576000"/>
            <a:chOff x="8481960" y="1413000"/>
            <a:chExt cx="792000" cy="576000"/>
          </a:xfrm>
        </p:grpSpPr>
        <p:grpSp>
          <p:nvGrpSpPr>
            <p:cNvPr id="1051" name=""/>
            <p:cNvGrpSpPr/>
            <p:nvPr/>
          </p:nvGrpSpPr>
          <p:grpSpPr>
            <a:xfrm>
              <a:off x="8481960" y="1413000"/>
              <a:ext cx="792000" cy="576000"/>
              <a:chOff x="8481960" y="1413000"/>
              <a:chExt cx="792000" cy="576000"/>
            </a:xfrm>
          </p:grpSpPr>
          <p:sp>
            <p:nvSpPr>
              <p:cNvPr id="1052" name=""/>
              <p:cNvSpPr/>
              <p:nvPr/>
            </p:nvSpPr>
            <p:spPr>
              <a:xfrm>
                <a:off x="8481960" y="1413000"/>
                <a:ext cx="792000" cy="576000"/>
              </a:xfrm>
              <a:custGeom>
                <a:avLst/>
                <a:gdLst/>
                <a:ahLst/>
                <a:rect l="l" t="t" r="r" b="b"/>
                <a:pathLst>
                  <a:path w="499" h="363">
                    <a:moveTo>
                      <a:pt x="0" y="137"/>
                    </a:moveTo>
                    <a:lnTo>
                      <a:pt x="136" y="0"/>
                    </a:lnTo>
                    <a:lnTo>
                      <a:pt x="499" y="0"/>
                    </a:lnTo>
                    <a:lnTo>
                      <a:pt x="499" y="227"/>
                    </a:lnTo>
                    <a:lnTo>
                      <a:pt x="363" y="363"/>
                    </a:lnTo>
                    <a:lnTo>
                      <a:pt x="0" y="363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481960" y="1630440"/>
                <a:ext cx="576000" cy="3582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697600" y="1414440"/>
                <a:ext cx="287640" cy="360000"/>
              </a:xfrm>
              <a:custGeom>
                <a:avLst/>
                <a:gdLst/>
                <a:ahLst/>
                <a:rect l="l" t="t" r="r" b="b"/>
                <a:pathLst>
                  <a:path w="181" h="227">
                    <a:moveTo>
                      <a:pt x="136" y="0"/>
                    </a:moveTo>
                    <a:lnTo>
                      <a:pt x="0" y="136"/>
                    </a:lnTo>
                    <a:lnTo>
                      <a:pt x="0" y="227"/>
                    </a:lnTo>
                    <a:lnTo>
                      <a:pt x="45" y="227"/>
                    </a:lnTo>
                    <a:lnTo>
                      <a:pt x="45" y="136"/>
                    </a:lnTo>
                    <a:lnTo>
                      <a:pt x="181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5" name=""/>
            <p:cNvSpPr txBox="1"/>
            <p:nvPr/>
          </p:nvSpPr>
          <p:spPr>
            <a:xfrm>
              <a:off x="8543880" y="1673280"/>
              <a:ext cx="471600" cy="26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納品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sp>
        <p:nvSpPr>
          <p:cNvPr id="1056" name=""/>
          <p:cNvSpPr/>
          <p:nvPr/>
        </p:nvSpPr>
        <p:spPr>
          <a:xfrm>
            <a:off x="6105600" y="2421000"/>
            <a:ext cx="718920" cy="360360"/>
          </a:xfrm>
          <a:prstGeom prst="borderCallout1">
            <a:avLst>
              <a:gd name="adj1" fmla="val 18750"/>
              <a:gd name="adj2" fmla="val -8333"/>
              <a:gd name="adj3" fmla="val -91629"/>
              <a:gd name="adj4" fmla="val -82560"/>
            </a:avLst>
          </a:prstGeom>
          <a:solidFill>
            <a:srgbClr val="ffff99"/>
          </a:solidFill>
          <a:ln w="25560">
            <a:solidFill>
              <a:srgbClr val="ff66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中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報告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3368520" y="1413000"/>
            <a:ext cx="471600" cy="576000"/>
            <a:chOff x="3368520" y="1413000"/>
            <a:chExt cx="471600" cy="576000"/>
          </a:xfrm>
        </p:grpSpPr>
        <p:sp>
          <p:nvSpPr>
            <p:cNvPr id="1058" name=""/>
            <p:cNvSpPr/>
            <p:nvPr/>
          </p:nvSpPr>
          <p:spPr>
            <a:xfrm>
              <a:off x="3368520" y="1413000"/>
              <a:ext cx="471600" cy="5760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e2f1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 txBox="1"/>
            <p:nvPr/>
          </p:nvSpPr>
          <p:spPr>
            <a:xfrm>
              <a:off x="3421440" y="1569960"/>
              <a:ext cx="343080" cy="19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ＭＳ Ｐゴシック"/>
                </a:rPr>
                <a:t>お見積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  <a:ea typeface="ＭＳ Ｐゴシック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3873600" y="4292640"/>
            <a:ext cx="718920" cy="360360"/>
          </a:xfrm>
          <a:prstGeom prst="borderCallout1">
            <a:avLst>
              <a:gd name="adj1" fmla="val 18750"/>
              <a:gd name="adj2" fmla="val -8333"/>
              <a:gd name="adj3" fmla="val -91629"/>
              <a:gd name="adj4" fmla="val -82560"/>
            </a:avLst>
          </a:prstGeom>
          <a:solidFill>
            <a:srgbClr val="ffff99"/>
          </a:solidFill>
          <a:ln w="25560">
            <a:solidFill>
              <a:srgbClr val="ff66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キ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オ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3513240" y="3429000"/>
            <a:ext cx="691920" cy="291960"/>
            <a:chOff x="3513240" y="3429000"/>
            <a:chExt cx="691920" cy="291960"/>
          </a:xfrm>
        </p:grpSpPr>
        <p:sp>
          <p:nvSpPr>
            <p:cNvPr id="1062" name=""/>
            <p:cNvSpPr/>
            <p:nvPr/>
          </p:nvSpPr>
          <p:spPr>
            <a:xfrm>
              <a:off x="3513240" y="3429000"/>
              <a:ext cx="69192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549600" y="3467160"/>
              <a:ext cx="61236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4737240" y="3429000"/>
            <a:ext cx="691920" cy="291960"/>
            <a:chOff x="4737240" y="3429000"/>
            <a:chExt cx="691920" cy="291960"/>
          </a:xfrm>
        </p:grpSpPr>
        <p:sp>
          <p:nvSpPr>
            <p:cNvPr id="1065" name=""/>
            <p:cNvSpPr/>
            <p:nvPr/>
          </p:nvSpPr>
          <p:spPr>
            <a:xfrm>
              <a:off x="4737240" y="3429000"/>
              <a:ext cx="69192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773600" y="3467160"/>
              <a:ext cx="61236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6032520" y="3429000"/>
            <a:ext cx="692280" cy="291960"/>
            <a:chOff x="6032520" y="3429000"/>
            <a:chExt cx="692280" cy="291960"/>
          </a:xfrm>
        </p:grpSpPr>
        <p:sp>
          <p:nvSpPr>
            <p:cNvPr id="1068" name=""/>
            <p:cNvSpPr/>
            <p:nvPr/>
          </p:nvSpPr>
          <p:spPr>
            <a:xfrm>
              <a:off x="6032520" y="3429000"/>
              <a:ext cx="69228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069240" y="3467160"/>
              <a:ext cx="61272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"/>
          <p:cNvSpPr/>
          <p:nvPr/>
        </p:nvSpPr>
        <p:spPr>
          <a:xfrm>
            <a:off x="4521240" y="3789360"/>
            <a:ext cx="12240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5816520" y="3789360"/>
            <a:ext cx="12240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816520" y="5589720"/>
            <a:ext cx="12240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168880" y="5589720"/>
            <a:ext cx="57636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905600" y="2060640"/>
            <a:ext cx="28764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7113600" y="3789360"/>
            <a:ext cx="57636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7329240" y="3141720"/>
            <a:ext cx="649080" cy="545760"/>
            <a:chOff x="7329240" y="3141720"/>
            <a:chExt cx="649080" cy="545760"/>
          </a:xfrm>
        </p:grpSpPr>
        <p:sp>
          <p:nvSpPr>
            <p:cNvPr id="1077" name=""/>
            <p:cNvSpPr/>
            <p:nvPr/>
          </p:nvSpPr>
          <p:spPr>
            <a:xfrm flipH="1">
              <a:off x="7461360" y="3643200"/>
              <a:ext cx="280440" cy="14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7388640" y="3569760"/>
              <a:ext cx="73440" cy="88200"/>
            </a:xfrm>
            <a:custGeom>
              <a:avLst/>
              <a:gdLst/>
              <a:ahLst/>
              <a:rect l="l" t="t" r="r" b="b"/>
              <a:pathLst>
                <a:path w="113" h="136">
                  <a:moveTo>
                    <a:pt x="0" y="136"/>
                  </a:moveTo>
                  <a:lnTo>
                    <a:pt x="113" y="23"/>
                  </a:lnTo>
                  <a:lnTo>
                    <a:pt x="113" y="0"/>
                  </a:lnTo>
                  <a:lnTo>
                    <a:pt x="0" y="113"/>
                  </a:lnTo>
                  <a:lnTo>
                    <a:pt x="0" y="136"/>
                  </a:ln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7387920" y="3569760"/>
              <a:ext cx="353880" cy="73440"/>
            </a:xfrm>
            <a:custGeom>
              <a:avLst/>
              <a:gdLst/>
              <a:ahLst/>
              <a:rect l="l" t="t" r="r" b="b"/>
              <a:pathLst>
                <a:path w="544" h="113">
                  <a:moveTo>
                    <a:pt x="544" y="0"/>
                  </a:moveTo>
                  <a:lnTo>
                    <a:pt x="113" y="0"/>
                  </a:lnTo>
                  <a:lnTo>
                    <a:pt x="0" y="113"/>
                  </a:lnTo>
                  <a:lnTo>
                    <a:pt x="431" y="113"/>
                  </a:lnTo>
                  <a:lnTo>
                    <a:pt x="544" y="0"/>
                  </a:lnTo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7490520" y="3496320"/>
              <a:ext cx="29160" cy="117360"/>
            </a:xfrm>
            <a:custGeom>
              <a:avLst/>
              <a:gdLst/>
              <a:ahLst/>
              <a:rect l="l" t="t" r="r" b="b"/>
              <a:pathLst>
                <a:path w="45" h="181">
                  <a:moveTo>
                    <a:pt x="0" y="181"/>
                  </a:moveTo>
                  <a:lnTo>
                    <a:pt x="45" y="136"/>
                  </a:lnTo>
                  <a:lnTo>
                    <a:pt x="45" y="0"/>
                  </a:lnTo>
                  <a:lnTo>
                    <a:pt x="0" y="45"/>
                  </a:lnTo>
                  <a:lnTo>
                    <a:pt x="0" y="181"/>
                  </a:ln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7329600" y="3142440"/>
              <a:ext cx="457200" cy="29880"/>
            </a:xfrm>
            <a:custGeom>
              <a:avLst/>
              <a:gdLst/>
              <a:ahLst/>
              <a:rect l="l" t="t" r="r" b="b"/>
              <a:pathLst>
                <a:path w="703" h="46">
                  <a:moveTo>
                    <a:pt x="45" y="0"/>
                  </a:moveTo>
                  <a:lnTo>
                    <a:pt x="0" y="46"/>
                  </a:lnTo>
                  <a:lnTo>
                    <a:pt x="658" y="46"/>
                  </a:lnTo>
                  <a:lnTo>
                    <a:pt x="703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7358760" y="3172320"/>
              <a:ext cx="427680" cy="353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7328880" y="3142440"/>
              <a:ext cx="29160" cy="382320"/>
            </a:xfrm>
            <a:custGeom>
              <a:avLst/>
              <a:gdLst/>
              <a:ahLst/>
              <a:rect l="l" t="t" r="r" b="b"/>
              <a:pathLst>
                <a:path w="45" h="590">
                  <a:moveTo>
                    <a:pt x="0" y="590"/>
                  </a:moveTo>
                  <a:lnTo>
                    <a:pt x="0" y="46"/>
                  </a:lnTo>
                  <a:lnTo>
                    <a:pt x="45" y="0"/>
                  </a:lnTo>
                  <a:lnTo>
                    <a:pt x="45" y="545"/>
                  </a:lnTo>
                  <a:lnTo>
                    <a:pt x="0" y="590"/>
                  </a:ln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7520040" y="3525480"/>
              <a:ext cx="103320" cy="882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7388640" y="3201480"/>
              <a:ext cx="368640" cy="2948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330320" y="3141720"/>
              <a:ext cx="457200" cy="515520"/>
            </a:xfrm>
            <a:custGeom>
              <a:avLst/>
              <a:gdLst/>
              <a:ahLst/>
              <a:rect l="l" t="t" r="r" b="b"/>
              <a:pathLst>
                <a:path w="703" h="794">
                  <a:moveTo>
                    <a:pt x="0" y="0"/>
                  </a:moveTo>
                  <a:lnTo>
                    <a:pt x="658" y="0"/>
                  </a:lnTo>
                  <a:lnTo>
                    <a:pt x="703" y="46"/>
                  </a:lnTo>
                  <a:lnTo>
                    <a:pt x="703" y="590"/>
                  </a:lnTo>
                  <a:lnTo>
                    <a:pt x="453" y="590"/>
                  </a:lnTo>
                  <a:lnTo>
                    <a:pt x="453" y="658"/>
                  </a:lnTo>
                  <a:lnTo>
                    <a:pt x="521" y="658"/>
                  </a:lnTo>
                  <a:lnTo>
                    <a:pt x="635" y="771"/>
                  </a:lnTo>
                  <a:lnTo>
                    <a:pt x="635" y="794"/>
                  </a:lnTo>
                  <a:lnTo>
                    <a:pt x="204" y="794"/>
                  </a:lnTo>
                  <a:lnTo>
                    <a:pt x="91" y="681"/>
                  </a:lnTo>
                  <a:lnTo>
                    <a:pt x="91" y="658"/>
                  </a:lnTo>
                  <a:lnTo>
                    <a:pt x="249" y="658"/>
                  </a:lnTo>
                  <a:lnTo>
                    <a:pt x="249" y="590"/>
                  </a:lnTo>
                  <a:lnTo>
                    <a:pt x="45" y="590"/>
                  </a:lnTo>
                  <a:lnTo>
                    <a:pt x="0" y="54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7" name=""/>
            <p:cNvGrpSpPr/>
            <p:nvPr/>
          </p:nvGrpSpPr>
          <p:grpSpPr>
            <a:xfrm>
              <a:off x="7801560" y="3156480"/>
              <a:ext cx="176760" cy="531000"/>
              <a:chOff x="7801560" y="3156480"/>
              <a:chExt cx="176760" cy="531000"/>
            </a:xfrm>
          </p:grpSpPr>
          <p:sp>
            <p:nvSpPr>
              <p:cNvPr id="1088" name=""/>
              <p:cNvSpPr/>
              <p:nvPr/>
            </p:nvSpPr>
            <p:spPr>
              <a:xfrm flipH="1">
                <a:off x="7860240" y="3216240"/>
                <a:ext cx="117720" cy="47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>
                <a:off x="7801560" y="3156840"/>
                <a:ext cx="59040" cy="530280"/>
              </a:xfrm>
              <a:custGeom>
                <a:avLst/>
                <a:gdLst/>
                <a:ahLst/>
                <a:rect l="l" t="t" r="r" b="b"/>
                <a:pathLst>
                  <a:path w="91" h="817">
                    <a:moveTo>
                      <a:pt x="0" y="817"/>
                    </a:moveTo>
                    <a:lnTo>
                      <a:pt x="91" y="726"/>
                    </a:lnTo>
                    <a:lnTo>
                      <a:pt x="91" y="0"/>
                    </a:lnTo>
                    <a:lnTo>
                      <a:pt x="0" y="91"/>
                    </a:lnTo>
                    <a:lnTo>
                      <a:pt x="0" y="81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7801200" y="3156840"/>
                <a:ext cx="176760" cy="59040"/>
              </a:xfrm>
              <a:custGeom>
                <a:avLst/>
                <a:gdLst/>
                <a:ahLst/>
                <a:rect l="l" t="t" r="r" b="b"/>
                <a:pathLst>
                  <a:path w="272" h="91">
                    <a:moveTo>
                      <a:pt x="272" y="0"/>
                    </a:moveTo>
                    <a:lnTo>
                      <a:pt x="90" y="0"/>
                    </a:lnTo>
                    <a:lnTo>
                      <a:pt x="0" y="91"/>
                    </a:lnTo>
                    <a:lnTo>
                      <a:pt x="181" y="91"/>
                    </a:lnTo>
                    <a:lnTo>
                      <a:pt x="2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7904880" y="3245400"/>
                <a:ext cx="29160" cy="2206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>
                <a:off x="7904160" y="3539520"/>
                <a:ext cx="29880" cy="295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7904160" y="3583440"/>
                <a:ext cx="29880" cy="298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>
                <a:off x="7801200" y="3156480"/>
                <a:ext cx="176760" cy="529560"/>
              </a:xfrm>
              <a:custGeom>
                <a:avLst/>
                <a:gdLst/>
                <a:ahLst/>
                <a:rect l="l" t="t" r="r" b="b"/>
                <a:pathLst>
                  <a:path w="272" h="817">
                    <a:moveTo>
                      <a:pt x="181" y="817"/>
                    </a:moveTo>
                    <a:lnTo>
                      <a:pt x="0" y="817"/>
                    </a:lnTo>
                    <a:lnTo>
                      <a:pt x="0" y="91"/>
                    </a:lnTo>
                    <a:lnTo>
                      <a:pt x="90" y="0"/>
                    </a:lnTo>
                    <a:lnTo>
                      <a:pt x="272" y="0"/>
                    </a:lnTo>
                    <a:lnTo>
                      <a:pt x="272" y="726"/>
                    </a:lnTo>
                    <a:lnTo>
                      <a:pt x="181" y="817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5" name=""/>
          <p:cNvSpPr txBox="1"/>
          <p:nvPr/>
        </p:nvSpPr>
        <p:spPr>
          <a:xfrm>
            <a:off x="7473960" y="3284640"/>
            <a:ext cx="471600" cy="26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</a:rPr>
              <a:t>試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7400880" y="1557360"/>
            <a:ext cx="47160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ＭＳ Ｐゴシック"/>
              </a:rPr>
              <a:t>出荷検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ＭＳ Ｐゴシック"/>
              <a:ea typeface="ＭＳ Ｐゴシック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5024520" y="5157720"/>
            <a:ext cx="691920" cy="291960"/>
            <a:chOff x="5024520" y="5157720"/>
            <a:chExt cx="691920" cy="291960"/>
          </a:xfrm>
        </p:grpSpPr>
        <p:sp>
          <p:nvSpPr>
            <p:cNvPr id="1098" name=""/>
            <p:cNvSpPr/>
            <p:nvPr/>
          </p:nvSpPr>
          <p:spPr>
            <a:xfrm>
              <a:off x="5024520" y="5157720"/>
              <a:ext cx="69192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060880" y="5195880"/>
              <a:ext cx="61236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32520" y="5157720"/>
            <a:ext cx="692280" cy="291960"/>
            <a:chOff x="6032520" y="5157720"/>
            <a:chExt cx="692280" cy="291960"/>
          </a:xfrm>
        </p:grpSpPr>
        <p:sp>
          <p:nvSpPr>
            <p:cNvPr id="1101" name=""/>
            <p:cNvSpPr/>
            <p:nvPr/>
          </p:nvSpPr>
          <p:spPr>
            <a:xfrm>
              <a:off x="6032520" y="5157720"/>
              <a:ext cx="69228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69240" y="5195880"/>
              <a:ext cx="61272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7040520" y="5157720"/>
            <a:ext cx="692280" cy="291960"/>
            <a:chOff x="7040520" y="5157720"/>
            <a:chExt cx="692280" cy="291960"/>
          </a:xfrm>
        </p:grpSpPr>
        <p:sp>
          <p:nvSpPr>
            <p:cNvPr id="1104" name=""/>
            <p:cNvSpPr/>
            <p:nvPr/>
          </p:nvSpPr>
          <p:spPr>
            <a:xfrm>
              <a:off x="7040520" y="5157720"/>
              <a:ext cx="69228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077240" y="5195880"/>
              <a:ext cx="61272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0160" y="692280"/>
            <a:ext cx="9505800" cy="5905440"/>
          </a:xfrm>
          <a:prstGeom prst="roundRect">
            <a:avLst>
              <a:gd name="adj" fmla="val 196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44520" y="836640"/>
          <a:ext cx="9201240" cy="5616720"/>
        </p:xfrm>
        <a:graphic>
          <a:graphicData uri="http://schemas.openxmlformats.org/drawingml/2006/table">
            <a:tbl>
              <a:tblPr/>
              <a:tblGrid>
                <a:gridCol w="766800"/>
                <a:gridCol w="766800"/>
                <a:gridCol w="766800"/>
                <a:gridCol w="766440"/>
                <a:gridCol w="766800"/>
                <a:gridCol w="766800"/>
                <a:gridCol w="766800"/>
                <a:gridCol w="766800"/>
                <a:gridCol w="766800"/>
                <a:gridCol w="766800"/>
                <a:gridCol w="766800"/>
                <a:gridCol w="766800"/>
              </a:tblGrid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1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2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</a:tr>
              <a:tr h="52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メイリオ"/>
              </a:rPr>
              <a:t>スケジュールタイトル</a:t>
            </a:r>
            <a:endParaRPr b="1" lang="en-US" sz="20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48" name=""/>
          <p:cNvSpPr/>
          <p:nvPr/>
        </p:nvSpPr>
        <p:spPr>
          <a:xfrm>
            <a:off x="2649600" y="692280"/>
            <a:ext cx="7189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メイリオ"/>
                <a:ea typeface="メイリオ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  <a:ea typeface="メイリオ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0160" y="692280"/>
            <a:ext cx="9432720" cy="5905440"/>
          </a:xfrm>
          <a:prstGeom prst="roundRect">
            <a:avLst>
              <a:gd name="adj" fmla="val 1968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44520" y="836640"/>
          <a:ext cx="9216720" cy="5616720"/>
        </p:xfrm>
        <a:graphic>
          <a:graphicData uri="http://schemas.openxmlformats.org/drawingml/2006/table">
            <a:tbl>
              <a:tblPr/>
              <a:tblGrid>
                <a:gridCol w="1536840"/>
                <a:gridCol w="1533960"/>
                <a:gridCol w="1537200"/>
                <a:gridCol w="1536840"/>
                <a:gridCol w="1531080"/>
                <a:gridCol w="1540800"/>
              </a:tblGrid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</a:tr>
              <a:tr h="52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メイリオ"/>
              </a:rPr>
              <a:t>スケジュールタイトル</a:t>
            </a:r>
            <a:endParaRPr b="1" lang="en-US" sz="20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52" name=""/>
          <p:cNvSpPr/>
          <p:nvPr/>
        </p:nvSpPr>
        <p:spPr>
          <a:xfrm>
            <a:off x="7977240" y="620640"/>
            <a:ext cx="15825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メイリオ"/>
                <a:ea typeface="メイリオ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  <a:ea typeface="メイリオ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0160" y="692280"/>
            <a:ext cx="9432720" cy="5905440"/>
          </a:xfrm>
          <a:prstGeom prst="roundRect">
            <a:avLst>
              <a:gd name="adj" fmla="val 1968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4520" y="836640"/>
          <a:ext cx="9217080" cy="5616720"/>
        </p:xfrm>
        <a:graphic>
          <a:graphicData uri="http://schemas.openxmlformats.org/drawingml/2006/table">
            <a:tbl>
              <a:tblPr/>
              <a:tblGrid>
                <a:gridCol w="1536840"/>
                <a:gridCol w="1535040"/>
                <a:gridCol w="1536480"/>
                <a:gridCol w="1536840"/>
                <a:gridCol w="1531800"/>
                <a:gridCol w="1540080"/>
              </a:tblGrid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</a:tr>
              <a:tr h="52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メイリオ"/>
              </a:rPr>
              <a:t>スケジュールタイトル</a:t>
            </a:r>
            <a:endParaRPr b="1" lang="en-US" sz="20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56" name=""/>
          <p:cNvSpPr/>
          <p:nvPr/>
        </p:nvSpPr>
        <p:spPr>
          <a:xfrm>
            <a:off x="7977240" y="620640"/>
            <a:ext cx="15825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メイリオ"/>
                <a:ea typeface="メイリオ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メイリオ"/>
                <a:ea typeface="メイリオ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00160" y="692280"/>
            <a:ext cx="9505800" cy="5905440"/>
          </a:xfrm>
          <a:prstGeom prst="roundRect">
            <a:avLst>
              <a:gd name="adj" fmla="val 1968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44520" y="836640"/>
          <a:ext cx="9217080" cy="5532480"/>
        </p:xfrm>
        <a:graphic>
          <a:graphicData uri="http://schemas.openxmlformats.org/drawingml/2006/table">
            <a:tbl>
              <a:tblPr/>
              <a:tblGrid>
                <a:gridCol w="297360"/>
                <a:gridCol w="297360"/>
                <a:gridCol w="297000"/>
                <a:gridCol w="297360"/>
                <a:gridCol w="297360"/>
                <a:gridCol w="297360"/>
                <a:gridCol w="297360"/>
                <a:gridCol w="297360"/>
                <a:gridCol w="297360"/>
                <a:gridCol w="297000"/>
                <a:gridCol w="297360"/>
                <a:gridCol w="297360"/>
                <a:gridCol w="297360"/>
                <a:gridCol w="297360"/>
                <a:gridCol w="297360"/>
                <a:gridCol w="297360"/>
                <a:gridCol w="297360"/>
                <a:gridCol w="297360"/>
                <a:gridCol w="297360"/>
                <a:gridCol w="297360"/>
                <a:gridCol w="297360"/>
                <a:gridCol w="297360"/>
                <a:gridCol w="297000"/>
                <a:gridCol w="297360"/>
                <a:gridCol w="297360"/>
                <a:gridCol w="297360"/>
                <a:gridCol w="297360"/>
                <a:gridCol w="297360"/>
                <a:gridCol w="297000"/>
                <a:gridCol w="297360"/>
                <a:gridCol w="297720"/>
              </a:tblGrid>
              <a:tr h="288720"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</a:tr>
              <a:tr h="5243760"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メイリオ"/>
              </a:rPr>
              <a:t>スケジュールタイトル</a:t>
            </a:r>
            <a:endParaRPr b="1" lang="en-US" sz="20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60" name=""/>
          <p:cNvSpPr/>
          <p:nvPr/>
        </p:nvSpPr>
        <p:spPr>
          <a:xfrm>
            <a:off x="8697960" y="549360"/>
            <a:ext cx="287280" cy="5745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74560"/>
              <a:gd name="textAreaBottom" fmla="*/ 560520 h 57456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メイリオ"/>
                <a:ea typeface="メイリオ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0160" y="692280"/>
            <a:ext cx="9505800" cy="5905440"/>
          </a:xfrm>
          <a:prstGeom prst="roundRect">
            <a:avLst>
              <a:gd name="adj" fmla="val 1968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44520" y="836640"/>
          <a:ext cx="9217080" cy="5532480"/>
        </p:xfrm>
        <a:graphic>
          <a:graphicData uri="http://schemas.openxmlformats.org/drawingml/2006/table">
            <a:tbl>
              <a:tblPr/>
              <a:tblGrid>
                <a:gridCol w="297000"/>
                <a:gridCol w="298440"/>
                <a:gridCol w="296640"/>
                <a:gridCol w="297000"/>
                <a:gridCol w="296640"/>
                <a:gridCol w="298440"/>
                <a:gridCol w="297000"/>
                <a:gridCol w="297000"/>
                <a:gridCol w="298440"/>
                <a:gridCol w="296640"/>
                <a:gridCol w="297000"/>
                <a:gridCol w="297000"/>
                <a:gridCol w="298440"/>
                <a:gridCol w="296640"/>
                <a:gridCol w="297000"/>
                <a:gridCol w="298440"/>
                <a:gridCol w="296640"/>
                <a:gridCol w="297000"/>
                <a:gridCol w="298440"/>
                <a:gridCol w="297000"/>
                <a:gridCol w="296640"/>
                <a:gridCol w="297000"/>
                <a:gridCol w="298440"/>
                <a:gridCol w="297000"/>
                <a:gridCol w="296640"/>
                <a:gridCol w="298440"/>
                <a:gridCol w="297000"/>
                <a:gridCol w="296640"/>
                <a:gridCol w="297000"/>
                <a:gridCol w="298440"/>
                <a:gridCol w="297000"/>
              </a:tblGrid>
              <a:tr h="288720"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</a:tr>
              <a:tr h="5243760"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メイリオ"/>
              </a:rPr>
              <a:t>スケジュールタイトル</a:t>
            </a:r>
            <a:endParaRPr b="1" lang="en-US" sz="20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64" name=""/>
          <p:cNvSpPr/>
          <p:nvPr/>
        </p:nvSpPr>
        <p:spPr>
          <a:xfrm>
            <a:off x="8697960" y="549360"/>
            <a:ext cx="287280" cy="5745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74560"/>
              <a:gd name="textAreaBottom" fmla="*/ 560520 h 574560"/>
            </a:gdLst>
            <a:ahLst/>
            <a:rect l="textAreaLeft" t="textAreaTop" r="textAreaRight" b="textAreaBottom"/>
            <a:pathLst>
              <a:path w="21600" h="43173">
                <a:moveTo>
                  <a:pt x="3600" y="0"/>
                </a:moveTo>
                <a:arcTo wR="3600" hR="3600" stAng="16200000" swAng="-5400000"/>
                <a:lnTo>
                  <a:pt x="0" y="39573"/>
                </a:lnTo>
                <a:arcTo wR="3600" hR="3600" stAng="10800000" swAng="-5400000"/>
                <a:lnTo>
                  <a:pt x="18000" y="43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メイリオ"/>
                <a:ea typeface="メイリオ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00160" y="692280"/>
            <a:ext cx="9505800" cy="5905440"/>
          </a:xfrm>
          <a:prstGeom prst="roundRect">
            <a:avLst>
              <a:gd name="adj" fmla="val 1968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44520" y="836640"/>
          <a:ext cx="9217080" cy="5616720"/>
        </p:xfrm>
        <a:graphic>
          <a:graphicData uri="http://schemas.openxmlformats.org/drawingml/2006/table">
            <a:tbl>
              <a:tblPr/>
              <a:tblGrid>
                <a:gridCol w="1666800"/>
                <a:gridCol w="628560"/>
                <a:gridCol w="630360"/>
                <a:gridCol w="628560"/>
                <a:gridCol w="628920"/>
                <a:gridCol w="630000"/>
                <a:gridCol w="628560"/>
                <a:gridCol w="628920"/>
                <a:gridCol w="630000"/>
                <a:gridCol w="628920"/>
                <a:gridCol w="628560"/>
                <a:gridCol w="630360"/>
                <a:gridCol w="628560"/>
              </a:tblGrid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1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</a:tr>
              <a:tr h="174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00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4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00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4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00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メイリオ"/>
              </a:rPr>
              <a:t>スケジュールタイトル</a:t>
            </a:r>
            <a:endParaRPr b="1" lang="en-US" sz="20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68" name=""/>
          <p:cNvSpPr/>
          <p:nvPr/>
        </p:nvSpPr>
        <p:spPr>
          <a:xfrm>
            <a:off x="3873600" y="692280"/>
            <a:ext cx="6476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00160" y="692280"/>
            <a:ext cx="9505800" cy="5905440"/>
          </a:xfrm>
          <a:prstGeom prst="roundRect">
            <a:avLst>
              <a:gd name="adj" fmla="val 1968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44520" y="836640"/>
          <a:ext cx="9217080" cy="5616720"/>
        </p:xfrm>
        <a:graphic>
          <a:graphicData uri="http://schemas.openxmlformats.org/drawingml/2006/table">
            <a:tbl>
              <a:tblPr/>
              <a:tblGrid>
                <a:gridCol w="1666800"/>
                <a:gridCol w="628560"/>
                <a:gridCol w="630360"/>
                <a:gridCol w="628560"/>
                <a:gridCol w="628920"/>
                <a:gridCol w="630000"/>
                <a:gridCol w="628560"/>
                <a:gridCol w="628920"/>
                <a:gridCol w="630000"/>
                <a:gridCol w="628920"/>
                <a:gridCol w="628560"/>
                <a:gridCol w="630360"/>
                <a:gridCol w="628560"/>
              </a:tblGrid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1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5400000"/>
                    </a:gradFill>
                  </a:tcPr>
                </a:tc>
              </a:tr>
              <a:tr h="174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33"/>
                        </a:gs>
                        <a:gs pos="100000">
                          <a:srgbClr val="175e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74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33"/>
                        </a:gs>
                        <a:gs pos="100000">
                          <a:srgbClr val="175e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74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33"/>
                        </a:gs>
                        <a:gs pos="100000">
                          <a:srgbClr val="175e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メイリオ"/>
              </a:rPr>
              <a:t>スケジュールタイトル</a:t>
            </a:r>
            <a:endParaRPr b="1" lang="en-US" sz="20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72" name=""/>
          <p:cNvSpPr/>
          <p:nvPr/>
        </p:nvSpPr>
        <p:spPr>
          <a:xfrm>
            <a:off x="3873600" y="692280"/>
            <a:ext cx="6476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0160" y="692280"/>
            <a:ext cx="9505800" cy="5905440"/>
          </a:xfrm>
          <a:prstGeom prst="roundRect">
            <a:avLst>
              <a:gd name="adj" fmla="val 1968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44520" y="836640"/>
          <a:ext cx="9217080" cy="5616720"/>
        </p:xfrm>
        <a:graphic>
          <a:graphicData uri="http://schemas.openxmlformats.org/drawingml/2006/table">
            <a:tbl>
              <a:tblPr/>
              <a:tblGrid>
                <a:gridCol w="1665360"/>
                <a:gridCol w="1258920"/>
                <a:gridCol w="1258920"/>
                <a:gridCol w="1257120"/>
                <a:gridCol w="1258920"/>
                <a:gridCol w="1258920"/>
                <a:gridCol w="1258920"/>
              </a:tblGrid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</a:tr>
              <a:tr h="174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00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4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00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4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00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2520" y="188640"/>
            <a:ext cx="8915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メイリオ"/>
              </a:rPr>
              <a:t>スケジュールタイトル</a:t>
            </a:r>
            <a:endParaRPr b="1" lang="en-US" sz="2000" spc="-1" strike="noStrike">
              <a:solidFill>
                <a:srgbClr val="333399"/>
              </a:solidFill>
              <a:latin typeface="メイリオ"/>
            </a:endParaRPr>
          </a:p>
        </p:txBody>
      </p:sp>
      <p:sp>
        <p:nvSpPr>
          <p:cNvPr id="76" name=""/>
          <p:cNvSpPr/>
          <p:nvPr/>
        </p:nvSpPr>
        <p:spPr>
          <a:xfrm>
            <a:off x="8337600" y="692280"/>
            <a:ext cx="12240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6:35:08Z</dcterms:created>
  <dc:creator>http://www.digipot.net</dc:creator>
  <dc:description/>
  <dc:language>en-US</dc:language>
  <cp:lastModifiedBy>http://www.digipot.net</cp:lastModifiedBy>
  <dcterms:modified xsi:type="dcterms:W3CDTF">2011-10-26T08:31:50Z</dcterms:modified>
  <cp:revision>1</cp:revision>
  <dc:subject>PPT091_スケジュール表2</dc:subject>
  <dc:title>PPT091_スケジュール表2</dc:title>
</cp:coreProperties>
</file>